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4948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55600" y="9446760"/>
            <a:ext cx="294948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91E30D-6D82-4A66-BB61-5E40E374175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26703E-0EBD-4F2F-8D63-211A304D0A3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EE1-AE86-46CD-9FB9-12162CD2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680-354C-4189-A8A2-56DC2BA7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346-8C6F-4CE6-BC38-A5BB6067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2CB-949E-4D2E-98C2-8B3EE660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23E-83FE-4BED-AB6A-C56AE535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3AA-0848-4456-92A0-A58C2A43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BE1-2F84-4D9E-8486-F846FB2C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BDF-0AD6-496F-876E-99C6109E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2A1-3A6C-4860-831E-7128DC0F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816-569F-4102-9C61-575A578C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71E-EC6D-495A-8D85-1C5CB140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04C-B142-4C47-A466-A799196A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ontent_Slid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815E-198E-45A2-87A6-132540269DF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Title_Slide_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0" y="2133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149360"/>
            <a:ext cx="58323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3000"/>
            </a:br>
            <a:br>
              <a:rPr sz="15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Remarks of Kristen Pinhey</a:t>
            </a:r>
            <a:br>
              <a:rPr sz="19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Competition Law Officer</a:t>
            </a:r>
            <a:br>
              <a:rPr sz="19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Competition Bureau Canada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0920" y="5013360"/>
            <a:ext cx="693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0920" y="227664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ypical Cartels: The Use of Shadow Companies in Bid-Rigging Schem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39640" y="472428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tel Working Grou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G 1 Teleconference on Atypical Carte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January 21, 20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92DA-D2E4-469D-A4CB-EA4D79EE2CF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900" spc="-1" strike="noStrike">
                <a:solidFill>
                  <a:srgbClr val="000000"/>
                </a:solidFill>
                <a:latin typeface="Times New Roman"/>
              </a:rPr>
              <a:t>Example 2: Information Technology Services (cont)</a:t>
            </a:r>
            <a:endParaRPr b="0" lang="en-US" sz="29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47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As the incumbent, Company A was restricted by the prices of its ceiling rates from a pre-qualified suppliers list as to how much it could increase its rates, whereas Company B's rates were higher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Company A agreed to provide all its consultants and the completed bid submissions to Company B, who bid those consultants at higher rate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The investigation is ongoing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23" name="Picture 5" descr="information_technology_picture_0_0"/>
          <p:cNvPicPr/>
          <p:nvPr/>
        </p:nvPicPr>
        <p:blipFill>
          <a:blip r:embed="rId1"/>
          <a:stretch/>
        </p:blipFill>
        <p:spPr>
          <a:xfrm>
            <a:off x="5940360" y="4292640"/>
            <a:ext cx="2459160" cy="184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nformationtechnology"/>
          <p:cNvPicPr/>
          <p:nvPr/>
        </p:nvPicPr>
        <p:blipFill>
          <a:blip r:embed="rId2"/>
          <a:stretch/>
        </p:blipFill>
        <p:spPr>
          <a:xfrm>
            <a:off x="5724360" y="1628640"/>
            <a:ext cx="29880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997F-44EA-4644-AA3B-8014A1D10D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portance of Outreach with Procurement Authorities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58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 Bureau provides anti bid-rigging presentations to all levels of government, including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se outreach presentations provide procurement authorities with knowledge of how to detect, deter and report bid-rigging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 Bureau recently entered into a Memorandum of Understanding with PWGSC, outlining that the two agencies will work together to combat cartel activity in procurement processes and real property transaction processes under the responsibility of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5087-0F0E-47D3-917C-952FB7DB51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ppt-template-clos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6D2C-C441-4E98-9770-2632A4EAF8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0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54720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Competition Bureau is responsible for the administration and enforcement of the</a:t>
            </a:r>
            <a:r>
              <a:rPr b="0" i="1" lang="en-CA" sz="2400" spc="-1" strike="noStrike">
                <a:solidFill>
                  <a:srgbClr val="000000"/>
                </a:solidFill>
                <a:latin typeface="GoudyOlSt BT"/>
              </a:rPr>
              <a:t> Competition Act 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</a:t>
            </a:r>
            <a:r>
              <a:rPr b="0" i="1" lang="en-CA" sz="2400" spc="-1" strike="noStrike">
                <a:solidFill>
                  <a:srgbClr val="000000"/>
                </a:solidFill>
                <a:latin typeface="GoudyOlSt BT"/>
              </a:rPr>
              <a:t>Competition Act</a:t>
            </a: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 applies to both businesses and individuals, and contains criminal and civil provision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Criminal penalties include fines and imprisonmen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96" name="Picture 8" descr="6_gavel and book"/>
          <p:cNvPicPr/>
          <p:nvPr/>
        </p:nvPicPr>
        <p:blipFill>
          <a:blip r:embed="rId1"/>
          <a:stretch/>
        </p:blipFill>
        <p:spPr>
          <a:xfrm>
            <a:off x="6324480" y="2209680"/>
            <a:ext cx="22608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169B-6987-4E44-9270-721E0F848C0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Bid-Rigging – Section 47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id Rigging is an agreement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or arrangement between two or more persons whereby one or more of those persons agrees or undertakes: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t to submit a bid or tender in response to a call or request for bid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submit a bid or tender that is arrived at by agreement or arrangement between or among two or more bidders or tenderer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withdraw a bid or tender in response to a call or request for bid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agreement or arrangement is not made known to the person calling for, or requesting, the bids or tender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Section 47 does not apply in respect of agreements between affiliated corporation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BC4F-5172-40C9-8EC3-FF6EFDDF890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Bid-Rigging Penalt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184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Imprisonment of up to 14 year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Fine at the discretion of the court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ivil damages recovery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riminal record for convicted individual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3" name="Picture 15" descr="9_handcuffsback"/>
          <p:cNvPicPr/>
          <p:nvPr/>
        </p:nvPicPr>
        <p:blipFill>
          <a:blip r:embed="rId1"/>
          <a:stretch/>
        </p:blipFill>
        <p:spPr>
          <a:xfrm>
            <a:off x="6300720" y="1844640"/>
            <a:ext cx="2338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EC05-CB54-428E-BD4C-ECD9EA8CB9A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ommon Forms of Bid-Rigging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119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over bidding – fake bidding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Bid suppression – withholding bid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Bid rotation – rotating agreed best bid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Market allocation – carving up the market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7" name="Picture 8" descr="10_signing"/>
          <p:cNvPicPr/>
          <p:nvPr/>
        </p:nvPicPr>
        <p:blipFill>
          <a:blip r:embed="rId1"/>
          <a:stretch/>
        </p:blipFill>
        <p:spPr>
          <a:xfrm>
            <a:off x="6516720" y="2565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21A8-D445-40E3-A801-BDD7122FE5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The Use of Shadow Compan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In several recent cases, the Bureau has seen the use of ‘shadow’ or ‘shell’ companies to facilitate bid-rigging schem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se types of bid-rigging arrangements normally involve public tender contracts where there is more than one potential winner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Bidders have been using ‘shadow’ or ‘shell’ companies to gain a larger market share or higher pric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BE8A-C4F1-4F19-8964-49C1C33F32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1: Real Estate Advisory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In May 2009, the Bureau received a complaint from Public Works and Government Services Canada (PWGSC), the principal procurement agency of the Canadian Federal government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complaint involved a contract for real estate advisory services, which could have 3 potential winner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GoudyOlSt BT"/>
              </a:rPr>
              <a:t>he Bureau’s investigation revealed that CRG and Louis Facchini, carrying on business as First Porter Consultancy, agreed to rig bid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oudyOlSt BT"/>
              </a:rPr>
              <a:t>CRG invoiced PWGSC $312,000 under the work package that was subject to the Bureau’s investigation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0FD9-446A-4F24-ACA2-6D8B9D854A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1: Real Estate Advisory Services (cont)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02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In July 2012, the Corporate Research Group Ltd. (CRG) pleaded guilty to a criminal charge of bid-rigging and was fined $125,000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On June 13, 2013, Louis Facchini, an individual was charged with bid-rigging and also faces one count of fraud under the </a:t>
            </a:r>
            <a:r>
              <a:rPr b="0" i="1" lang="en-CA" sz="2500" spc="-1" strike="noStrike">
                <a:solidFill>
                  <a:srgbClr val="000000"/>
                </a:solidFill>
                <a:latin typeface="GoudyOlSt BT"/>
              </a:rPr>
              <a:t>Criminal Code</a:t>
            </a: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 for allegedly submitting a false invoice with a value exceeding $5,000 to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Criminal proceedings are ongoing with respect to Mr. Facchini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85B3-459A-4441-8292-8E3B3D4A30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2: Information Technology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In 2009, the Bureau received a complaint from another government department regarding contracts in the information technology ("IT") services sector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two companies involved in the allegations were IT consulting services firm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complaint alleged that Company A, the incumbent supplier, entered into an agreement with Company B: that Company A would ensure that Company B was invited to the procurement process and that Company A would not submit a bid in response to several calls for tender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36:40Z</dcterms:created>
  <dc:creator>RodericY</dc:creator>
  <dc:description/>
  <dc:language>en-US</dc:language>
  <cp:lastModifiedBy>VASILEIOU Sofia (COMP)</cp:lastModifiedBy>
  <cp:lastPrinted>2013-11-29T10:25:59Z</cp:lastPrinted>
  <dcterms:modified xsi:type="dcterms:W3CDTF">2014-01-17T11:41:17Z</dcterms:modified>
  <cp:revision>145</cp:revision>
  <dc:subject/>
  <dc:title>PowerPoint Presentation</dc:title>
</cp:coreProperties>
</file>