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5560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52876A-20FE-4262-985F-D450E2B2CE9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B2AE8A-7134-4DA8-8E35-D4096B77592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F37-B29D-4B50-9E47-49101C3F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249-BA1E-4F6F-84B4-ECEBACC3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0E5-837C-4C3A-9BCC-AB3F210D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C51-9F71-47B3-90D1-E5518153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BA7-A039-4486-B4BE-8ECAFCDE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17B-E24D-48F8-89C8-FC561DBC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2AF-257E-4DA7-8A8E-88EE3864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DB5-8999-40B7-B479-9B0F6AD2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EE7-32DE-4C12-81CE-910E3F3F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512-5DA9-4A22-BBC5-64FCBF90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6A4-557D-4266-B891-B5F1E196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B7B-2DB9-485E-B11F-9C64C1C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3170-D6F8-4548-97E7-9F5E33E3FB0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149360"/>
            <a:ext cx="5832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5013360"/>
            <a:ext cx="693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0920" y="227664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ypical Cartels: The Use of Shadow Companies in Bid-Rigging Schem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39640" y="472428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Atypical Carte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January 21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74B-3732-4F50-A674-799D23AFDF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000000"/>
                </a:solidFill>
                <a:latin typeface="Times New Roman"/>
              </a:rPr>
              <a:t>Example 2: Information Technology Services (cont)</a:t>
            </a:r>
            <a:endParaRPr b="0" lang="en-US" sz="2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7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As the incumbent, Company A was restricted by the prices of its ceiling rates from a pre-qualified suppliers list as to how much it could increase its rates, whereas Company B's rates were higher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Company A agreed to provide all its consultants and the completed bid submissions to Company B, who bid those consultants at higher rate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The investigation is ongoing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5" descr="information_technology_picture_0_0"/>
          <p:cNvPicPr/>
          <p:nvPr/>
        </p:nvPicPr>
        <p:blipFill>
          <a:blip r:embed="rId1"/>
          <a:stretch/>
        </p:blipFill>
        <p:spPr>
          <a:xfrm>
            <a:off x="5940360" y="4292640"/>
            <a:ext cx="2459160" cy="184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nformationtechnology"/>
          <p:cNvPicPr/>
          <p:nvPr/>
        </p:nvPicPr>
        <p:blipFill>
          <a:blip r:embed="rId2"/>
          <a:stretch/>
        </p:blipFill>
        <p:spPr>
          <a:xfrm>
            <a:off x="5724360" y="1628640"/>
            <a:ext cx="29880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85B1-A717-4C95-91E8-2F6EA2A434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portance of Outreach with Procurement Authoritie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58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provides anti bid-rigging presentations to all levels of government, including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se outreach presentations provide procurement authorities with knowledge of how to detect, deter and report bid-rigging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recently entered into a Memorandum of Understanding with PWGSC, outlining that the two agencies will work together to combat cartel activity in procurement processes and real property transaction processes under the responsibility of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3064-074C-449E-B155-EAE8425F3E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F836-B989-494E-8E7C-31E98551AD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5472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etition Bureau is responsible for the administration and enforcement of the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 Competition Act 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Competition Act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applies to both businesses and individuals, and contains criminal and civil provision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Criminal penalties include fines and imprisonmen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8" descr="6_gavel and book"/>
          <p:cNvPicPr/>
          <p:nvPr/>
        </p:nvPicPr>
        <p:blipFill>
          <a:blip r:embed="rId1"/>
          <a:stretch/>
        </p:blipFill>
        <p:spPr>
          <a:xfrm>
            <a:off x="6324480" y="2209680"/>
            <a:ext cx="22608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14C7-BB9D-416B-9FB1-B09340BA78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– Section 47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d Rigging is an agreemen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or arrangement between two or more persons whereby one or more of those persons agrees or undertakes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t to submit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submit a bid or tender that is arrived at by agreement or arrangement between or among two or more bidders or tenderer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withdraw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agreement or arrangement is not made known to the person calling for, or requesting, the bids or tender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Section 47 does not apply in respect of agreements between affiliated corporation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7F1A-B88B-4690-A173-B4649DC975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Penal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18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Imprisonment of up to 14 year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Fine at the discretion of the cour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ivil damages recovery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riminal record for convicted individual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15" descr="9_handcuffsback"/>
          <p:cNvPicPr/>
          <p:nvPr/>
        </p:nvPicPr>
        <p:blipFill>
          <a:blip r:embed="rId1"/>
          <a:stretch/>
        </p:blipFill>
        <p:spPr>
          <a:xfrm>
            <a:off x="6300720" y="1844640"/>
            <a:ext cx="2338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2119-B052-4128-933A-246CC514A6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ommon Forms of Bid-Rigging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119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over bidding – fake bidding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suppression – withholding bid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rotation – rotating agreed best bid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Market allocation – carving up the marke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7" name="Picture 8" descr="10_signing"/>
          <p:cNvPicPr/>
          <p:nvPr/>
        </p:nvPicPr>
        <p:blipFill>
          <a:blip r:embed="rId1"/>
          <a:stretch/>
        </p:blipFill>
        <p:spPr>
          <a:xfrm>
            <a:off x="6516720" y="2565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A544-B941-4F18-9F94-7E3DC6D530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The Use of Shadow Compan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In several recent cases, the Bureau has seen the use of ‘shadow’ or ‘shell’ companies to facilitate bid-rigging schem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se types of bid-rigging arrangements normally involve public tender contracts where there is more than one potential winne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Bidders have been using ‘shadow’ or ‘shell’ companies to gain a larger market share or higher pric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4F6B-E1FB-4AD0-8A39-6B489F4B85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In May 2009, the Bureau received a complaint from Public Works and Government Services Canada (PWGSC), the principal procurement agency of the Canadian Federal government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complaint involved a contract for real estate advisory services, which could have 3 potential winner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he Bureau’s investigation revealed that CRG and Louis Facchini, carrying on business as First Porter Consultancy, agreed to rig bid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CRG invoiced PWGSC $312,000 under the work package that was subject to the Bureau’s investig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CC5C-C59E-4C2F-8AA6-78A30998EF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 (cont)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0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In July 2012, the Corporate Research Group Ltd. (CRG) pleaded guilty to a criminal charge of bid-rigging and was fined $125,000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On June 13, 2013, Louis Facchini, an individual was charged with bid-rigging and also faces one count of fraud under the </a:t>
            </a:r>
            <a:r>
              <a:rPr b="0" i="1" lang="en-CA" sz="2500" spc="-1" strike="noStrike">
                <a:solidFill>
                  <a:srgbClr val="000000"/>
                </a:solidFill>
                <a:latin typeface="GoudyOlSt BT"/>
              </a:rPr>
              <a:t>Criminal Code</a:t>
            </a: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 for allegedly submitting a false invoice with a value exceeding $5,000 to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Criminal proceedings are ongoing with respect to Mr. Facchini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9677-0E13-4512-B47F-AA69C87A03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2: Information Technolog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In 2009, the Bureau received a complaint from another government department regarding contracts in the information technology ("IT") services secto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two companies involved in the allegations were IT consulting services fir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laint alleged that Company A, the incumbent supplier, entered into an agreement with Company B: that Company A would ensure that Company B was invited to the procurement process and that Company A would not submit a bid in response to several calls for tender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VASILEIOU Sofia (COMP)</cp:lastModifiedBy>
  <cp:lastPrinted>2013-11-29T10:25:59Z</cp:lastPrinted>
  <dcterms:modified xsi:type="dcterms:W3CDTF">2014-01-17T11:41:17Z</dcterms:modified>
  <cp:revision>145</cp:revision>
  <dc:subject/>
  <dc:title>PowerPoint Presentation</dc:title>
</cp:coreProperties>
</file>