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560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7D4714-9150-47F2-9B54-5F16C9B8C08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18B79D-EB56-4A58-8BEF-F708478C0A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1C0-8BF8-4337-B26B-2DFE2522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E35-3A6F-461A-938E-3BBF8EF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8A7-5355-4CB2-89B0-6D3A4444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C33-0086-49DA-B7A5-1D588A15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46E-80BF-405A-B771-EFE44CB6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CBE-FFDA-49AC-BCAB-122B9DE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3EF-FE29-4198-8D59-8CA7A27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79B-FE4F-4104-80B9-D36D344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9F3-3212-4FB7-A6B4-1CEC945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3A3-737C-4FBF-B8B6-533BF2C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A7A-6C07-43B2-A9A3-A1467D3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1DF-D003-47B6-A524-215009A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F0DA-FB7B-4513-8444-DB11A3FDAB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5013360"/>
            <a:ext cx="69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227664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ypical Cartels: The Use of Shadow Companies in Bid-Rigging Schem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39640" y="47242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Atypical Cart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nuary 21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5A3D-D07F-4479-9E7F-0BAE536DCC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Times New Roman"/>
              </a:rPr>
              <a:t>Example 2: Information Technology Services (cont)</a:t>
            </a:r>
            <a:endParaRPr b="0" lang="en-US" sz="2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As the incumbent, Company A was restricted by the prices of its ceiling rates from a pre-qualified suppliers list as to how much it could increase its rates, whereas Company B's rates were higher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Company A agreed to provide all its consultants and the completed bid submissions to Company B, who bid those consultants at higher rate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The investigation is ongoing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5" descr="information_technology_picture_0_0"/>
          <p:cNvPicPr/>
          <p:nvPr/>
        </p:nvPicPr>
        <p:blipFill>
          <a:blip r:embed="rId1"/>
          <a:stretch/>
        </p:blipFill>
        <p:spPr>
          <a:xfrm>
            <a:off x="5940360" y="429264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nformationtechnology"/>
          <p:cNvPicPr/>
          <p:nvPr/>
        </p:nvPicPr>
        <p:blipFill>
          <a:blip r:embed="rId2"/>
          <a:stretch/>
        </p:blipFill>
        <p:spPr>
          <a:xfrm>
            <a:off x="5724360" y="1628640"/>
            <a:ext cx="29880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10C-B1A2-414A-A702-A94ABC5B66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ortance of Outreach with Procurement Authoritie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provides anti bid-rigging presentations to all levels of government, including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se outreach presentations provide procurement authorities with knowledge of how to detect, deter and report bid-rigging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recently entered into a Memorandum of Understanding with PWGSC, outlining that the two agencies will work together to combat cartel activity in procurement processes and real property transaction processes under the responsibility of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C67E-B7F9-41A7-B7ED-194D7D78B7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2034-5515-40AB-967D-A5E94BA4FE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5472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etition Bureau is responsible for the administration and enforcement of the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 Competition Act 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Competition Act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applies to both businesses and individuals, and contains criminal and civil provision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Criminal penalties include fines and imprisonmen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8" descr="6_gavel and book"/>
          <p:cNvPicPr/>
          <p:nvPr/>
        </p:nvPicPr>
        <p:blipFill>
          <a:blip r:embed="rId1"/>
          <a:stretch/>
        </p:blipFill>
        <p:spPr>
          <a:xfrm>
            <a:off x="6324480" y="2209680"/>
            <a:ext cx="2260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256-ABEF-4572-9A62-8AF1113422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– Section 47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d Rigging is an agreemen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r arrangement between two or more persons whereby one or more of those persons agrees or undertakes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to submit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submit a bid or tender that is arrived at by agreement or arrangement between or among two or more bidders or tenderer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withdraw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agreement or arrangement is not made known to the person calling for, or requesting, the bids or tender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Section 47 does not apply in respect of agreements between affiliated corporation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544-D723-4D36-8ED2-8210886FC7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Penal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18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Imprisonment of up to 14 year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Fine at the discretion of the cour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ivil damages recovery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riminal record for convicted individual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15" descr="9_handcuffsback"/>
          <p:cNvPicPr/>
          <p:nvPr/>
        </p:nvPicPr>
        <p:blipFill>
          <a:blip r:embed="rId1"/>
          <a:stretch/>
        </p:blipFill>
        <p:spPr>
          <a:xfrm>
            <a:off x="6300720" y="1844640"/>
            <a:ext cx="2338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7D62-5D07-476D-8786-7A12A6A416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ommon Forms of Bid-Rigging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119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over bidding – fake bidding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suppression – withholding bid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rotation – rotating agreed best bid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Market allocation – carving up the marke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7" name="Picture 8" descr="10_signing"/>
          <p:cNvPicPr/>
          <p:nvPr/>
        </p:nvPicPr>
        <p:blipFill>
          <a:blip r:embed="rId1"/>
          <a:stretch/>
        </p:blipFill>
        <p:spPr>
          <a:xfrm>
            <a:off x="6516720" y="2565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43C-B5D1-47AC-8002-9BD4EAA24F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The Use of Shadow Compan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In several recent cases, the Bureau has seen the use of ‘shadow’ or ‘shell’ companies to facilitate bid-rigging schem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se types of bid-rigging arrangements normally involve public tender contracts where there is more than one potential winne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Bidders have been using ‘shadow’ or ‘shell’ companies to gain a larger market share or higher pric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5D6C-1256-4F19-B877-5C2738A14D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In May 2009, the Bureau received a complaint from Public Works and Government Services Canada (PWGSC), the principal procurement agency of the Canadian Federal government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complaint involved a contract for real estate advisory services, which could have 3 potential winner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he Bureau’s investigation revealed that CRG and Louis Facchini, carrying on business as First Porter Consultancy, agreed to rig bid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CRG invoiced PWGSC $312,000 under the work package that was subject to the Bureau’s investig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926-C1F7-495B-84BC-05750EA9CF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 (cont)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In July 2012, the Corporate Research Group Ltd. (CRG) pleaded guilty to a criminal charge of bid-rigging and was fined $125,000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On June 13, 2013, Louis Facchini, an individual was charged with bid-rigging and also faces one count of fraud under the </a:t>
            </a:r>
            <a:r>
              <a:rPr b="0" i="1" lang="en-CA" sz="2500" spc="-1" strike="noStrike">
                <a:solidFill>
                  <a:srgbClr val="000000"/>
                </a:solidFill>
                <a:latin typeface="GoudyOlSt BT"/>
              </a:rPr>
              <a:t>Criminal Code</a:t>
            </a: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 for allegedly submitting a false invoice with a value exceeding $5,000 to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Criminal proceedings are ongoing with respect to Mr. Facchini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1A02-BA31-4AA4-BDCD-9C13436EB3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2: Information Technolog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In 2009, the Bureau received a complaint from another government department regarding contracts in the information technology ("IT") services secto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two companies involved in the allegations were IT consulting services fir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laint alleged that Company A, the incumbent supplier, entered into an agreement with Company B: that Company A would ensure that Company B was invited to the procurement process and that Company A would not submit a bid in response to several calls for tender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VASILEIOU Sofia (COMP)</cp:lastModifiedBy>
  <cp:lastPrinted>2013-11-29T10:25:59Z</cp:lastPrinted>
  <dcterms:modified xsi:type="dcterms:W3CDTF">2014-01-17T11:41:17Z</dcterms:modified>
  <cp:revision>145</cp:revision>
  <dc:subject/>
  <dc:title>PowerPoint Presentation</dc:title>
</cp:coreProperties>
</file>