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move the slide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55600" y="9446760"/>
            <a:ext cx="294948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7497EB-8B6C-40D8-8E7D-AD6C7DBF156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3D68A0-AE98-40A1-8698-03DC601A4A2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2480"/>
            <a:ext cx="498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311-7803-4A69-B47C-C162C573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99F-A4F5-4E5A-9E00-EAD2753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EC23-504D-4436-B784-B8909FB9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05F-5505-4C3E-B080-C1A4EB9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41D-5E6A-4214-BF7B-663CAED8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44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4600" y="144756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44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4600" y="3875400"/>
            <a:ext cx="272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1D5-63B2-4993-8CF0-CAAA39F2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054-772C-4345-BB88-07433057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7C5-5A73-4E24-AA7A-1E63BC0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838080"/>
            <a:ext cx="8458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865-B447-4A40-9A23-04664765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9BB-AB78-4083-AC13-1384A4F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8600" y="387540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089-D859-4677-934C-63BC501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127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458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97C-7876-4D0D-A2BC-95D1074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ontent_Slid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381A-6C77-4652-8A61-E43F9C1D5C7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Title_Slide_e"/>
          <p:cNvPicPr/>
          <p:nvPr/>
        </p:nvPicPr>
        <p:blipFill>
          <a:blip r:embed="rId2"/>
          <a:stretch/>
        </p:blipFill>
        <p:spPr>
          <a:xfrm>
            <a:off x="123840" y="90360"/>
            <a:ext cx="8896320" cy="6677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2"/>
          <p:cNvSpPr/>
          <p:nvPr/>
        </p:nvSpPr>
        <p:spPr>
          <a:xfrm>
            <a:off x="0" y="2133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anst521 Bd B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oudyOlSt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149360"/>
            <a:ext cx="583236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br>
              <a:rPr sz="3000"/>
            </a:br>
            <a:br>
              <a:rPr sz="15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Remarks of Kristen Pinhey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Law Officer</a:t>
            </a:r>
            <a:br>
              <a:rPr sz="1900"/>
            </a:br>
            <a:r>
              <a:rPr b="0" lang="en-CA" sz="1900" spc="-1" strike="noStrike">
                <a:solidFill>
                  <a:srgbClr val="000000"/>
                </a:solidFill>
                <a:latin typeface="Times New Roman"/>
              </a:rPr>
              <a:t>Competition Bureau Canada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0920" y="5013360"/>
            <a:ext cx="693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0920" y="227664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typical Cartels: The Use of Shadow Companies in Bid-Rigging Schem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39640" y="47242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artel Working Group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G 1 Teleconference on Atypical Carte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January 21, 201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E01-7D2A-473F-9F3C-3CA16B215D1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Times New Roman"/>
              </a:rPr>
              <a:t>Example 2: Information Technology Services (cont)</a:t>
            </a:r>
            <a:endParaRPr b="0" lang="en-US" sz="29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7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As the incumbent, Company A was restricted by the prices of its ceiling rates from a pre-qualified suppliers list as to how much it could increase its rates, whereas Company B's rates were higher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Company A agreed to provide all its consultants and the completed bid submissions to Company B, who bid those consultants at higher rate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35880" indent="-335880">
              <a:spcBef>
                <a:spcPts val="17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GoudyOlSt BT"/>
              </a:rPr>
              <a:t>The investigation is ongoing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23" name="Picture 5" descr="information_technology_picture_0_0"/>
          <p:cNvPicPr/>
          <p:nvPr/>
        </p:nvPicPr>
        <p:blipFill>
          <a:blip r:embed="rId1"/>
          <a:stretch/>
        </p:blipFill>
        <p:spPr>
          <a:xfrm>
            <a:off x="5940360" y="4292640"/>
            <a:ext cx="2459160" cy="184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informationtechnology"/>
          <p:cNvPicPr/>
          <p:nvPr/>
        </p:nvPicPr>
        <p:blipFill>
          <a:blip r:embed="rId2"/>
          <a:stretch/>
        </p:blipFill>
        <p:spPr>
          <a:xfrm>
            <a:off x="5724360" y="1628640"/>
            <a:ext cx="298800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97E-1004-415C-8BE0-37066D399CF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ortance of Outreach with Procurement Authorities</a:t>
            </a:r>
            <a:endParaRPr b="0" lang="en-US" sz="28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provides anti bid-rigging presentations to all levels of government, including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se outreach presentations provide procurement authorities with knowledge of how to detect, deter and report bid-rigging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The Bureau recently entered into a Memorandum of Understanding with PWGSC, outlining that the two agencies will work together to combat cartel activity in procurement processes and real property transaction processes under the responsibility of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2C4D-8CD0-449A-8542-5C093F01B11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ppt-template-clos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F263-4311-4003-BD01-622C539A0DF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0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54720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etition Bureau is responsible for the administration and enforcement of the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 Competition Act 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</a:t>
            </a:r>
            <a:r>
              <a:rPr b="0" i="1" lang="en-CA" sz="2400" spc="-1" strike="noStrike">
                <a:solidFill>
                  <a:srgbClr val="000000"/>
                </a:solidFill>
                <a:latin typeface="GoudyOlSt BT"/>
              </a:rPr>
              <a:t>Competition Act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applies to both businesses and individuals, and contains criminal and civil provision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Criminal penalties include fines and imprisonment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96" name="Picture 8" descr="6_gavel and book"/>
          <p:cNvPicPr/>
          <p:nvPr/>
        </p:nvPicPr>
        <p:blipFill>
          <a:blip r:embed="rId1"/>
          <a:stretch/>
        </p:blipFill>
        <p:spPr>
          <a:xfrm>
            <a:off x="6324480" y="2209680"/>
            <a:ext cx="22608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A509-052C-4FFB-B2B0-9E2B24B91968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– Section 47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id Rigging is an agreement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r arrangement between two or more persons whereby one or more of those persons agrees or undertakes: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Not to submit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submit a bid or tender that is arrived at by agreement or arrangement between or among two or more bidders or tenderer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o withdraw a bid or tender in response to a call or request for bids</a:t>
            </a:r>
            <a:endParaRPr b="0" lang="en-US" sz="20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agreement or arrangement is not made known to the person calling for, or requesting, the bids or tender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19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Section 47 does not apply in respect of agreements between affiliated corporations</a:t>
            </a:r>
            <a:endParaRPr b="0" lang="en-US" sz="22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9E5-A925-452C-90B5-41930A3B64F9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Bid-Rigging Penalt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184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Imprisonment of up to 14 year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Fine at the discretion of the cour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ivil damages recovery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riminal record for convicted individual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3" name="Picture 15" descr="9_handcuffsback"/>
          <p:cNvPicPr/>
          <p:nvPr/>
        </p:nvPicPr>
        <p:blipFill>
          <a:blip r:embed="rId1"/>
          <a:stretch/>
        </p:blipFill>
        <p:spPr>
          <a:xfrm>
            <a:off x="6300720" y="1844640"/>
            <a:ext cx="23385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D6D-C7E3-4367-B24B-B661A25857B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Common Forms of Bid-Rigging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119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Cover bidding – fake bidding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suppression – withholding bids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Bid rotation – rotating agreed best bid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3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GoudyOlSt BT"/>
              </a:rPr>
              <a:t>Market allocation – carving up the market</a:t>
            </a:r>
            <a:endParaRPr b="0" lang="en-US" sz="2600" spc="-1" strike="noStrike">
              <a:solidFill>
                <a:srgbClr val="000000"/>
              </a:solidFill>
              <a:latin typeface="GoudyOlSt BT"/>
            </a:endParaRPr>
          </a:p>
        </p:txBody>
      </p:sp>
      <p:pic>
        <p:nvPicPr>
          <p:cNvPr id="107" name="Picture 8" descr="10_signing"/>
          <p:cNvPicPr/>
          <p:nvPr/>
        </p:nvPicPr>
        <p:blipFill>
          <a:blip r:embed="rId1"/>
          <a:stretch/>
        </p:blipFill>
        <p:spPr>
          <a:xfrm>
            <a:off x="6516720" y="256536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F7E-34A7-4446-8E42-82F6055D9B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The Use of Shadow Compani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OlSt BT"/>
              </a:rPr>
              <a:t>In several recent cases, the Bureau has seen the use of ‘shadow’ or ‘shell’ companies to facilitate bid-rigging schem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se types of bid-rigging arrangements normally involve public tender contracts where there is more than one potential winne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7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Bidders have been using ‘shadow’ or ‘shell’ companies to gain a larger market share or higher price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CE7-083E-45F3-87C3-26F4027E282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In May 2009, the Bureau received a complaint from Public Works and Government Services Canada (PWGSC), the principal procurement agency of the Canadian Federal government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he complaint involved a contract for real estate advisory services, which could have 3 potential winner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lnSpc>
                <a:spcPct val="100000"/>
              </a:lnSpc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he Bureau’s investigation revealed that CRG and Louis Facchini, carrying on business as First Porter Consultancy, agreed to rig bids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013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oudyOlSt BT"/>
              </a:rPr>
              <a:t>CRG invoiced PWGSC $312,000 under the work package that was subject to the Bureau’s investigation</a:t>
            </a: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EB59-5894-4712-83B0-304EACD0CFC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1: Real Estate Advisory Services (cont)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02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In July 2012, the Corporate Research Group Ltd. (CRG) pleaded guilty to a criminal charge of bid-rigging and was fined $125,000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On June 13, 2013, Louis Facchini, an individual was charged with bid-rigging and also faces one count of fraud under the </a:t>
            </a:r>
            <a:r>
              <a:rPr b="0" i="1" lang="en-CA" sz="2500" spc="-1" strike="noStrike">
                <a:solidFill>
                  <a:srgbClr val="000000"/>
                </a:solidFill>
                <a:latin typeface="GoudyOlSt BT"/>
              </a:rPr>
              <a:t>Criminal Code</a:t>
            </a: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 for allegedly submitting a false invoice with a value exceeding $5,000 to PWGSC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GoudyOlSt BT"/>
              </a:rPr>
              <a:t>Criminal proceedings are ongoing with respect to Mr. Facchini</a:t>
            </a: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36DE-516C-480C-9812-E94B94F242CF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Times New Roman"/>
              </a:rPr>
              <a:t>Example 2: Information Technology Services</a:t>
            </a:r>
            <a:endParaRPr b="0" lang="en-US" sz="3000" spc="-1" strike="noStrike">
              <a:solidFill>
                <a:srgbClr val="000000"/>
              </a:solidFill>
              <a:latin typeface="Humanst521 B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In 2009, the Bureau received a complaint from another government department regarding contracts in the information technology ("IT") services sector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two companies involved in the allegations were IT consulting services firm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oudyOlSt BT"/>
              </a:rPr>
              <a:t>The complaint alleged that Company A, the incumbent supplier, entered into an agreement with Company B: that Company A would ensure that Company B was invited to the procurement process and that Company A would not submit a bid in response to several calls for tenders</a:t>
            </a: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OlS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5:36:40Z</dcterms:created>
  <dc:creator>RodericY</dc:creator>
  <dc:description/>
  <dc:language>en-US</dc:language>
  <cp:lastModifiedBy>VASILEIOU Sofia (COMP)</cp:lastModifiedBy>
  <cp:lastPrinted>2013-11-29T10:25:59Z</cp:lastPrinted>
  <dcterms:modified xsi:type="dcterms:W3CDTF">2014-01-17T11:41:17Z</dcterms:modified>
  <cp:revision>145</cp:revision>
  <dc:subject/>
  <dc:title>PowerPoint Presentation</dc:title>
</cp:coreProperties>
</file>