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D450A0-088C-4F23-8C6A-993F6E81A1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6B42E0-BF2E-4DE4-9FC3-09F55E0C6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6A411E6-23CE-42D1-AD93-A9A1F241A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9CDD8C-C653-4782-964C-18FAAE7FB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5D0681-C561-4417-9C8F-63F99BC3D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0122-CF0A-42A6-9A4E-1CFFCF8BB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C2DE-C5F8-4FD5-B587-B2A9A029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AF1C-C32C-4377-BA46-306AD57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91A2-A191-4C5F-8EDA-AA6A25969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D1EF1-D33E-4A1D-93C3-7036CA1E3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DF77A-5B08-4ED4-AF8B-E12CB00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A978-2F41-45F0-B897-6594F5F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E5EA0-ACEB-46D0-8125-ACD34A7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D9348-A147-4062-A7F6-A940169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8E2A-42C9-4B80-894C-D60F069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1DC2-10E3-4F24-8AC8-CEE9960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7212-1F99-49BC-812B-7E257B19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B5452-A505-4471-8C77-7E15EF5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4499-EB39-422F-9583-4F2B713A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96E82-745B-4584-AEC6-4FD25E3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8A52-3B8E-48CA-A231-DCCC8BC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6656-171E-456E-A446-BC2309DA2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4610-E9FD-461B-96EE-516564A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6CF8-3E6F-4D6B-8B27-7E04734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5C86-A076-415E-A091-307B7F40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55C3-9F0D-45C4-BA02-A6D148F8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973F-2791-4544-A06C-D3883BA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544C-7578-4434-9E85-7CB4BBA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F0F1-E7E8-4652-A966-FDBF1A9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85E-69F5-4774-9BF6-28EF1A75FA87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8E3-13CF-40D9-A70D-73EF1F70C6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7640" y="4653000"/>
            <a:ext cx="424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Helena Penov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petition Network and Private Enforcement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G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e interaction between public and private enforcement of EU competition ru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51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    </a:t>
            </a: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enforce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a key driver of antitrust enforcement in th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ts purpos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ffectiv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eterrenc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(individual and general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by detecting infringements of the competition rules in Articles 101 and 102 TFEU and imposing san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ivate antitrus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nforcement in the EU has so far been less promi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ma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purpose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yone who suffered harm as a result of a breach of EU competition rules has a right to claim full compensation before national court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2413080"/>
            <a:ext cx="8135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and private enforcemen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ment each oth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 the EU the interaction between them in a number of areas i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gulated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ive 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rder to enable the antitrust enforcemen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 a whole to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per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Recent legislative changes in the E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000" y="1916280"/>
            <a:ext cx="8135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mages Directive 2014/104/EU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to develop private enforcement in Europe while ensuring that public enforcement continues to work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claimants can claim compensation for actual loss, loss of profit and interest from the time the harm occurred until compensation is pa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parties have easier access to evidence they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lows claimants to rely on final decisions by a national competition authority finding an infringement and gives them more time to claim da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71640" y="1166760"/>
            <a:ext cx="770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s parties to choose consensual dispute resolution as an alternative avenue of re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s  special rules on the disclosure of evidence includ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 of the Commission or a national competition autho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ecting leniency programmes and cartel sett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oiding interference with pending 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isclosure of information before the national courts should no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uly affect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ectiveness of enforcement of the compet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les by the Commission and national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tion authoritie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LENK Karin (COMP)</cp:lastModifiedBy>
  <cp:lastPrinted>2015-09-14T11:48:24Z</cp:lastPrinted>
  <dcterms:modified xsi:type="dcterms:W3CDTF">2015-09-14T12:01:47Z</dcterms:modified>
  <cp:revision>339</cp:revision>
  <dc:subject/>
  <dc:title>The new visual identity</dc:title>
</cp:coreProperties>
</file>