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560" rIns="885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BAB0A4A-405E-4EFD-AD31-2345A9826C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36A26DA-C9BD-4146-A41A-31F88A869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580CBB0-69E0-41D9-BA5F-792CA8C3A6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225618C-CF67-4F86-85EE-4FB7CB57F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A53F256-4A6B-48FA-ACC7-2A5EB37D61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CF39-F33B-4F13-8CEA-96BFDE1C95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5B1E-96DF-4F68-BD28-870653C1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D17E-37B7-4862-9EA1-34313D0E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8062-0342-4C61-86F1-042A0999FD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37AF2-9A2D-4B27-B29A-C86AA4E1F1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E5FF6-7D06-4CE4-A974-A1544641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D2E61-61A5-4C31-B73C-23577E3E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28073-41CC-4E85-B293-8D69DC0D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70121-71E5-446F-B5AC-74C7A27F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D9C2E-1E0D-45E4-B95C-E53C3476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DE910-5F77-4EE1-9104-3EF9A1BD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2084-4CB8-4E5F-97D3-8A8AB6F8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D362E-9524-48DD-92F7-9368DFE1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17EB6-E506-42EB-B785-B4AB475D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1CC8B-66CC-43CD-89F7-8FDB9F96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2B7B9-EBEC-4E3C-9532-F8C77529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514F9-9B3E-44C2-824D-68FABA7F2E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51FF3-D2DB-4936-A9D7-CDE796B9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CF1F-4E9C-4C34-A392-99458B36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71D44-CE14-4689-A7A1-F3BD76BC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82F1-0980-4D4E-A194-2B82C5E0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66622-DE48-4813-BC02-D5109F6F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3646-B155-45E9-AA95-0F0E0BDE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FAB20-32F3-42F6-8BD7-AE1D54A5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CA74-E62C-434F-8858-4EAB11FE130A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logo_for_ppt"/>
          <p:cNvPicPr/>
          <p:nvPr/>
        </p:nvPicPr>
        <p:blipFill>
          <a:blip r:embed="rId2"/>
          <a:stretch/>
        </p:blipFill>
        <p:spPr>
          <a:xfrm>
            <a:off x="0" y="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" descr="small box COMPETITION"/>
          <p:cNvPicPr/>
          <p:nvPr/>
        </p:nvPicPr>
        <p:blipFill>
          <a:blip r:embed="rId3"/>
          <a:stretch/>
        </p:blipFill>
        <p:spPr>
          <a:xfrm>
            <a:off x="4284720" y="6524640"/>
            <a:ext cx="625320" cy="3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logo_for_ppt"/>
          <p:cNvPicPr/>
          <p:nvPr/>
        </p:nvPicPr>
        <p:blipFill>
          <a:blip r:embed="rId2"/>
          <a:srcRect l="11310" t="0" r="11053" b="0"/>
          <a:stretch/>
        </p:blipFill>
        <p:spPr>
          <a:xfrm>
            <a:off x="0" y="0"/>
            <a:ext cx="9144000" cy="174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4" descr="small box COMPETITION"/>
          <p:cNvPicPr/>
          <p:nvPr/>
        </p:nvPicPr>
        <p:blipFill>
          <a:blip r:embed="rId3"/>
          <a:stretch/>
        </p:blipFill>
        <p:spPr>
          <a:xfrm>
            <a:off x="4140360" y="6446880"/>
            <a:ext cx="85248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Letterhead_A4_EN3"/>
          <p:cNvPicPr/>
          <p:nvPr/>
        </p:nvPicPr>
        <p:blipFill>
          <a:blip r:embed="rId4"/>
          <a:srcRect l="0" t="0" r="0" b="4977"/>
          <a:stretch/>
        </p:blipFill>
        <p:spPr>
          <a:xfrm>
            <a:off x="0" y="1341360"/>
            <a:ext cx="3851280" cy="5516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BA07-577A-4304-A662-10D3FE6110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427640" y="4653000"/>
            <a:ext cx="4248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Helena Penovs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uropean Competition Network and Private Enforcement Un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G Compet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uropean Com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820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b6192"/>
                </a:solidFill>
                <a:latin typeface="Calibri"/>
              </a:rPr>
              <a:t>The interaction between public and private enforcement of EU competition ru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518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b6192"/>
                </a:solidFill>
                <a:latin typeface="Calibri"/>
              </a:rPr>
              <a:t>    </a:t>
            </a:r>
            <a:br>
              <a:rPr sz="3000"/>
            </a:br>
            <a:r>
              <a:rPr b="1" lang="hr-HR" sz="3000" spc="-1" strike="noStrike">
                <a:solidFill>
                  <a:srgbClr val="0b6192"/>
                </a:solidFill>
                <a:latin typeface="Calibri"/>
              </a:rPr>
              <a:t>Public and private enforcement – complementary tools with different objec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1333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ublic enforcemen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s a key driver of antitrust enforcement in th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ts purpos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effectiv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eterrenc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(individual and general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by detecting infringements of the competition rules in Articles 101 and 102 TFEU and imposing san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ivate antitrus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enforcement in the EU has so far been less promin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I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mai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purpose –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nyone who suffered harm as a result of a breach of EU competition rules has a right to claim full compensation before national court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hr-HR" sz="3000" spc="-1" strike="noStrike">
                <a:solidFill>
                  <a:srgbClr val="0b6192"/>
                </a:solidFill>
                <a:latin typeface="Calibri"/>
              </a:rPr>
              <a:t>Public and private enforcement – complementary tools with different objec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84360" y="2413080"/>
            <a:ext cx="81356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ublic and private enforcement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lement each oth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n the EU the interaction between them in a number of areas i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gulated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n the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irective i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order to enable the antitrust enforcement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s a whole to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func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oper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447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0b6192"/>
                </a:solidFill>
                <a:latin typeface="Calibri"/>
              </a:rPr>
              <a:t>Recent legislative changes in the E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000" y="1916280"/>
            <a:ext cx="81356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amages Directive 2014/104/EU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m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to develop private enforcement in Europe while ensuring that public enforcement continues to work w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sures claimants can claim compensation for actual loss, loss of profit and interest from the time the harm occurred until compensation is pai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sures parties have easier access to evidence they n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lows claimants to rely on final decisions by a national competition authority finding an infringement and gives them more time to claim dam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971640" y="1166760"/>
            <a:ext cx="77040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courages parties to choose consensual dispute resolution as an alternative avenue of re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s  special rules on the disclosure of evidence included i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le of the Commission or a national competition author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tecting leniency programmes and cartel settl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oiding interference with pending invest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disclosure of information before the national courts should not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duly affect the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ffectiveness of enforcement of the compet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ules by the Commission and national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etition authoritie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1417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b6192"/>
                </a:solidFill>
                <a:latin typeface="Calibri"/>
              </a:rPr>
              <a:t>Thank you for your attention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KRENZ Petra (COMP)</dc:creator>
  <dc:description/>
  <dc:language>en-US</dc:language>
  <cp:lastModifiedBy>LENK Karin (COMP)</cp:lastModifiedBy>
  <cp:lastPrinted>2015-09-14T11:48:24Z</cp:lastPrinted>
  <dcterms:modified xsi:type="dcterms:W3CDTF">2015-09-14T12:01:47Z</dcterms:modified>
  <cp:revision>339</cp:revision>
  <dc:subject/>
  <dc:title>The new visual identity</dc:title>
</cp:coreProperties>
</file>