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560" rIns="88560" tIns="44280" bIns="442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5212F02-5C81-4D43-9892-28E8AEA2D4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5CABCA4-DD8B-47FF-8A5E-9A3D0826CA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FBE4B15-47F7-41FA-91DD-B4A86C5AA9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00C0AD6-4B77-4F48-B3E3-3F8E619EFC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4360" y="4714560"/>
            <a:ext cx="54892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01BF926-963C-4A24-99A2-6409B128B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A902-4541-4177-8E1D-5ED3C32194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9F2C-99C1-48EB-8E69-44E07853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FD3E-CCEE-4E94-A076-E495B02C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782E-4266-43B0-A582-EFC970665B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37640-FC23-4056-ACBE-41C754B660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EAF39-FEC0-4990-8446-B9D6742E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082A1-EA0F-4CDD-960D-7834615E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65290-F1B9-4F59-8174-9FE5BD10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FC3B8-2AE4-4D35-B69C-2A30E982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C3289-E7FA-4C04-B958-22694F74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F9E61-4F89-4332-AC8A-7BA3AA41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96213-1E33-4F2D-9C89-10C23083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ACCC9-9CB8-4C02-8E71-C2442BAF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88DAA-AE86-44DA-9306-A967A497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DADF5-2BFB-4CA7-AF89-AE719E8F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77BF6-B5B3-4410-8A9B-8629FFC4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899A6-9970-43EB-9FF6-EFBBEF2C97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BD32-E103-4F6D-98D5-69DDE481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95C18-7280-4CB5-BD34-E764C27A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066CC-8E28-4028-9087-B021BB15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96BF-E541-4EB1-8C65-48CA9A01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044A-5A38-4428-AE60-F57F1F41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F2D7F-B724-4767-8796-8B6B0440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EEDE-3792-47A4-9E1A-4E465E6F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AEE8-D8F0-4849-813A-DF9A8BDF0F06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" descr="logo_for_ppt"/>
          <p:cNvPicPr/>
          <p:nvPr/>
        </p:nvPicPr>
        <p:blipFill>
          <a:blip r:embed="rId2"/>
          <a:stretch/>
        </p:blipFill>
        <p:spPr>
          <a:xfrm>
            <a:off x="0" y="0"/>
            <a:ext cx="9144000" cy="1352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0" descr="small box COMPETITION"/>
          <p:cNvPicPr/>
          <p:nvPr/>
        </p:nvPicPr>
        <p:blipFill>
          <a:blip r:embed="rId3"/>
          <a:stretch/>
        </p:blipFill>
        <p:spPr>
          <a:xfrm>
            <a:off x="4284720" y="6524640"/>
            <a:ext cx="625320" cy="34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logo_for_ppt"/>
          <p:cNvPicPr/>
          <p:nvPr/>
        </p:nvPicPr>
        <p:blipFill>
          <a:blip r:embed="rId2"/>
          <a:srcRect l="11310" t="0" r="11053" b="0"/>
          <a:stretch/>
        </p:blipFill>
        <p:spPr>
          <a:xfrm>
            <a:off x="0" y="0"/>
            <a:ext cx="9144000" cy="174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4" descr="small box COMPETITION"/>
          <p:cNvPicPr/>
          <p:nvPr/>
        </p:nvPicPr>
        <p:blipFill>
          <a:blip r:embed="rId3"/>
          <a:stretch/>
        </p:blipFill>
        <p:spPr>
          <a:xfrm>
            <a:off x="4140360" y="6446880"/>
            <a:ext cx="852480" cy="43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Letterhead_A4_EN3"/>
          <p:cNvPicPr/>
          <p:nvPr/>
        </p:nvPicPr>
        <p:blipFill>
          <a:blip r:embed="rId4"/>
          <a:srcRect l="0" t="0" r="0" b="4977"/>
          <a:stretch/>
        </p:blipFill>
        <p:spPr>
          <a:xfrm>
            <a:off x="0" y="1341360"/>
            <a:ext cx="3851280" cy="5516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2ACC-C472-4612-8D2B-5E6783B888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427640" y="4653000"/>
            <a:ext cx="4248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Helena Penovs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uropean Competition Network and Private Enforcement Un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G Compet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uropean Com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820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b6192"/>
                </a:solidFill>
                <a:latin typeface="Calibri"/>
              </a:rPr>
              <a:t>The interaction between public and private enforcement of EU competition ru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518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b6192"/>
                </a:solidFill>
                <a:latin typeface="Calibri"/>
              </a:rPr>
              <a:t>    </a:t>
            </a:r>
            <a:br>
              <a:rPr sz="3000"/>
            </a:br>
            <a:r>
              <a:rPr b="1" lang="hr-HR" sz="3000" spc="-1" strike="noStrike">
                <a:solidFill>
                  <a:srgbClr val="0b6192"/>
                </a:solidFill>
                <a:latin typeface="Calibri"/>
              </a:rPr>
              <a:t>Public and private enforcement – complementary tools with different objec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1333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ublic enforcement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s a key driver of antitrust enforcement in the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E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ts purpose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effectiv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eterrenc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(individual and general)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by detecting infringements of the competition rules in Articles 101 and 102 TFEU and imposing san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rivate antitrust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enforcement in the EU has so far been less promin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It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 mai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purpose – 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nyone who suffered harm as a result of a breach of EU competition rules has a right to claim full compensation before national court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hr-HR" sz="3000" spc="-1" strike="noStrike">
                <a:solidFill>
                  <a:srgbClr val="0b6192"/>
                </a:solidFill>
                <a:latin typeface="Calibri"/>
              </a:rPr>
              <a:t>Public and private enforcement – complementary tools with different objec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84360" y="2413080"/>
            <a:ext cx="81356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ublic and private enforcement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complement each oth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In the EU the interaction between them in a number of areas i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regulated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i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n the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irective i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order to enable the antitrust enforcement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s a whole to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func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proper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447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0b6192"/>
                </a:solidFill>
                <a:latin typeface="Calibri"/>
              </a:rPr>
              <a:t>Recent legislative changes in the E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000" y="1916280"/>
            <a:ext cx="81356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amages Directive 2014/104/EU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m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to develop private enforcement in Europe while ensuring that public enforcement continues to work w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sures claimants can claim compensation for actual loss, loss of profit and interest from the time the harm occurred until compensation is pai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sures parties have easier access to evidence they n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lows claimants to rely on final decisions by a national competition authority finding an infringement and gives them more time to claim dam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971640" y="1166760"/>
            <a:ext cx="77040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courages parties to choose consensual dispute resolution as an alternative avenue of re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s  special rules on the disclosure of evidence included i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ile of the Commission or a national competition author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tecting leniency programmes and cartel settl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voiding interference with pending invest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disclosure of information before the national courts should not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nduly affect the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ffectiveness of enforcement of the compet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ules by the Commission and national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etition authoritie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1417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b6192"/>
                </a:solidFill>
                <a:latin typeface="Calibri"/>
              </a:rPr>
              <a:t>Thank you for your attention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KRENZ Petra (COMP)</dc:creator>
  <dc:description/>
  <dc:language>en-US</dc:language>
  <cp:lastModifiedBy>LENK Karin (COMP)</cp:lastModifiedBy>
  <cp:lastPrinted>2015-09-14T11:48:24Z</cp:lastPrinted>
  <dcterms:modified xsi:type="dcterms:W3CDTF">2015-09-14T12:01:47Z</dcterms:modified>
  <cp:revision>339</cp:revision>
  <dc:subject/>
  <dc:title>The new visual identity</dc:title>
</cp:coreProperties>
</file>