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E4DCD60-E5FB-4582-8CA8-F21C904B31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D0591CC-A460-40B6-A3A4-F5F6F17ED6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E0D065E-B497-45BE-B639-AA520B719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6B8B35-30FD-4C2A-9FAE-EE99CEBC3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209ECA3-697D-45FA-9A84-94FF0B776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99D2-D66D-4F15-91D4-52D01E26F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D66F-75A1-41C0-B875-4DAA96D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6C67-EE43-4D82-974A-272B887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34A0-84C4-4AE4-9A98-3512D18FA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B1F7D-8ED4-4A10-A185-0E286CEEE6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70BAD-BDF4-48D8-8F16-A2A7C385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53149-C723-4EF2-89DA-F1CCFBC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37E09-66EE-443F-AEED-71F566C3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68AC0-8963-4872-AAF8-B366647A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99760-1433-4B04-9A63-C5886F89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DFAAF-6E85-4B41-97F0-C598ED05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920A-E70B-4D9B-A754-E5B71E21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1644-437A-4ECC-80D9-910766B5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4803A-D1BB-4BCF-BAFF-D34266A3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FDF69-2BB0-4D78-8C3C-32034B4A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7C509-7F84-443C-9A7B-71532A11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F4CE7-A79D-488A-B8FE-244411510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D692-83A2-47A0-A44C-7070E1C4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7BA8-26A6-4E6F-9147-318BEFD4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1A4F-7D49-409F-928D-7C826EE3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674C-1CFD-44C9-B127-F032901C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D274-5CA1-4298-AA89-03EA9BBD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1727-1F24-4806-AF96-2F720F12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34CCB-B13C-4E44-85DD-8D874FE8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FFC7-D777-4F2B-947A-B2948E489A04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logo_for_ppt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small box COMPETITION"/>
          <p:cNvPicPr/>
          <p:nvPr/>
        </p:nvPicPr>
        <p:blipFill>
          <a:blip r:embed="rId3"/>
          <a:stretch/>
        </p:blipFill>
        <p:spPr>
          <a:xfrm>
            <a:off x="4284720" y="6524640"/>
            <a:ext cx="62532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81D1-3BD1-48D1-B991-342B928E3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427640" y="4653000"/>
            <a:ext cx="4248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Helena Penov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uropean Competition Network and Private Enforcement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G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uropean Com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The interaction between public and private enforcement of EU competition ru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51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    </a:t>
            </a:r>
            <a:br>
              <a:rPr sz="3000"/>
            </a:b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Public and private enforcement – complementary tools with different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enforcemen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s a key driver of antitrust enforcement in th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ts purpos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ffectiv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eterrenc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(individual and general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by detecting infringements of the competition rules in Articles 101 and 102 TFEU and imposing san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ivate antitrus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nforcement in the EU has so far been less promin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I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mai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purpose –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yone who suffered harm as a result of a breach of EU competition rules has a right to claim full compensation before national court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Public and private enforcement – complementary tools with different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4360" y="2413080"/>
            <a:ext cx="81356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and private enforcement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lement each oth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 the EU the interaction between them in a number of areas i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gulated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 the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irective i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order to enable the antitrust enforcement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s a whole to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oper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447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Recent legislative changes in the E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000" y="1916280"/>
            <a:ext cx="81356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amages Directive 2014/104/EU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to develop private enforcement in Europe while ensuring that public enforcement continues to work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sures claimants can claim compensation for actual loss, loss of profit and interest from the time the harm occurred until compensation is pai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sures parties have easier access to evidence they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lows claimants to rely on final decisions by a national competition authority finding an infringement and gives them more time to claim dam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971640" y="1166760"/>
            <a:ext cx="77040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ourages parties to choose consensual dispute resolution as an alternative avenue of re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s  special rules on the disclosure of evidence included 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le of the Commission or a national competition author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tecting leniency programmes and cartel settl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oiding interference with pending invest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disclosure of information before the national courts should not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duly affect the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ffectiveness of enforcement of the compet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ules by the Commission and national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tion authoritie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1417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KRENZ Petra (COMP)</dc:creator>
  <dc:description/>
  <dc:language>en-US</dc:language>
  <cp:lastModifiedBy>LENK Karin (COMP)</cp:lastModifiedBy>
  <cp:lastPrinted>2015-09-14T11:48:24Z</cp:lastPrinted>
  <dcterms:modified xsi:type="dcterms:W3CDTF">2015-09-14T12:01:47Z</dcterms:modified>
  <cp:revision>339</cp:revision>
  <dc:subject/>
  <dc:title>The new visual identity</dc:title>
</cp:coreProperties>
</file>