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C84C-A37C-4282-A1E7-04CFE78E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5C85-F5B7-4B22-97FC-F005CE9D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DC39-59FE-4FAB-8447-F69793DF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FDE-8155-4C77-A9BC-EEE125F1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09FA-DC06-42CD-9174-3C00B276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16B5-8D7C-4A90-8FBB-8C1F25F0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BBCA-907E-41FC-A67F-37D89C19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978E-8758-4F6D-A046-6C0BE682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5EC8-8F3E-4DA2-BB25-892C6929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701440" y="115560"/>
            <a:ext cx="5254920" cy="35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430C-72BA-4451-8EFF-A2B5815F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9CD8-49B4-4ED4-A254-EAD3C81B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E8E6-9202-4CAD-BE90-EBEC43B8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0227-50BC-4770-B406-A980E889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3881-4D41-4873-A1E3-EC6642E5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EB31-F07E-461A-B40A-3916A0F0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6C5F-89F9-421A-8877-8281C7BB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9745-A455-4ABC-B957-86E2F9CA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9790-8BD7-4DEC-B223-C79F850E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6120-B3FC-466F-9606-FBB02CFB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17D0-08F9-4147-938F-E964C00A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701440" y="115560"/>
            <a:ext cx="5254920" cy="35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0DCE-E2FB-4605-9AB5-627B0B05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7AAD-EFFA-448B-97D2-F745E05C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12CE-261D-4ACC-BD30-A56165E5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BD38-F373-409C-8C11-63603CCF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Arial Narrow"/>
              </a:rPr>
              <a:t>Click to edit the title text format</a:t>
            </a: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00cc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499"/>
              </a:spcBef>
              <a:buClr>
                <a:srgbClr val="00cc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62D0-E04C-4C23-8EDB-5735BA9A2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84720" y="914400"/>
            <a:ext cx="3419640" cy="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604360" y="914400"/>
            <a:ext cx="0" cy="365760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85800" y="76320"/>
            <a:ext cx="1428840" cy="8190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0"/>
            <a:ext cx="179280" cy="3394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244000" y="0"/>
            <a:ext cx="360360" cy="762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315200" y="6308640"/>
            <a:ext cx="36036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6632-7613-4387-AF10-675635B85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179280" cy="3394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84720" y="914400"/>
            <a:ext cx="3419640" cy="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914400"/>
            <a:ext cx="0" cy="365760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44000" y="0"/>
            <a:ext cx="360360" cy="762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995640" y="5695920"/>
            <a:ext cx="1068480" cy="612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021200" y="0"/>
            <a:ext cx="1101600" cy="1415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315200" y="6308640"/>
            <a:ext cx="36036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 Narrow"/>
              </a:rPr>
              <a:t>Click to edit the outline text format</a:t>
            </a:r>
            <a:endParaRPr b="0" i="1" lang="en-US" sz="2400" spc="-1" strike="noStrike">
              <a:solidFill>
                <a:srgbClr val="3333cc"/>
              </a:solidFill>
              <a:latin typeface="Arial Narrow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499"/>
              </a:spcBef>
              <a:buClr>
                <a:srgbClr val="00cc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cc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ndustrie.gouv.fr/liste_index/aides-etat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Conférence « aides d’Etat »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Bruxelles, 2008/11/21</a:t>
            </a:r>
            <a:br>
              <a:rPr sz="2800"/>
            </a:b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6000" y="2492280"/>
            <a:ext cx="64008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i="1" lang="fr-FR" sz="2300" spc="-1" strike="noStrike">
                <a:solidFill>
                  <a:srgbClr val="3333cc"/>
                </a:solidFill>
                <a:latin typeface="Arial Narrow"/>
              </a:rPr>
              <a:t>« Globalisation, crise financière, innovation et changement climatique: défis pour une politique d'aide d'Etat modernisée" </a:t>
            </a:r>
            <a:r>
              <a:rPr b="0" i="1" lang="fr-FR" sz="23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i="1" lang="en-US" sz="2300" spc="-1" strike="noStrike">
              <a:solidFill>
                <a:srgbClr val="3333cc"/>
              </a:solidFill>
              <a:latin typeface="Arial Narrow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300" spc="-1" strike="noStrike">
              <a:solidFill>
                <a:srgbClr val="3333cc"/>
              </a:solidFill>
              <a:latin typeface="Arial Narrow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300" spc="-1" strike="noStrike">
                <a:solidFill>
                  <a:srgbClr val="3333cc"/>
                </a:solidFill>
                <a:latin typeface="Arial Narrow"/>
              </a:rPr>
              <a:t>Keynote</a:t>
            </a:r>
            <a:endParaRPr b="0" i="1" lang="en-US" sz="2300" spc="-1" strike="noStrike">
              <a:solidFill>
                <a:srgbClr val="3333cc"/>
              </a:solidFill>
              <a:latin typeface="Arial Narrow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300" spc="-1" strike="noStrike">
                <a:solidFill>
                  <a:srgbClr val="3333cc"/>
                </a:solidFill>
                <a:latin typeface="Arial Narrow"/>
              </a:rPr>
              <a:t>Luc Rousseau, Directeur Général des Entreprises au Ministère de l’Economie, des finances et de l’industrie.</a:t>
            </a:r>
            <a:endParaRPr b="0" i="1" lang="en-US" sz="23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E599-AC00-4E3C-9762-69A81D51C1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Arial Narrow"/>
              </a:rPr>
              <a:t>Proposition changement climatique/ETS</a:t>
            </a: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’articulation entre les systèmes de permis échangeables et les lignes directrices « environnement » est très complexe et suscite de nombreuses interrogations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r exemple: quelles compensations pourraient être versées par les Etats membres pour couvrir le coût des émissions indirectes (par exemple:  électricité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iller à offrir un degré suffisant de sécurité juridique aux entreprise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756E-603D-4D2B-AB5B-C4C9F903A0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115560"/>
            <a:ext cx="554508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Arial Narrow"/>
              </a:rPr>
              <a:t>Objectifs de la table-ronde</a:t>
            </a: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éfléchir ensemble à la pertinence de nos outils communautaires en matière d’aides d’Etat pour répondre aux défis posés à nos économies par 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a globalisation et la crise financiè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’innovation (objectifs de Lisbonn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e changement climatiqu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D29B-5F3A-4087-94A3-CCF2229EB1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Arial Narrow"/>
              </a:rPr>
              <a:t>Objectifs de la table-ronde</a:t>
            </a: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poser des outils concrets pour répondre à ces défis en mettant l’accent sur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a dimension externe de la compétitivité de notre économi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Sur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e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marché intérieur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l’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’égalité des conditions de concurrence est acquise grâce à l’action de la Commission européen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a question se pose en ce qui concerne les effets des aides et leur contrôle dans les pays tier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B38F-4F4B-466B-8D82-88AEB9EC32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cc00"/>
                </a:solidFill>
                <a:latin typeface="Arial Narrow"/>
              </a:rPr>
              <a:t>Dimension externe de la compétitivité: étude Technopolis et S.Metcalfe</a:t>
            </a: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ans le cadre de la présidence française, une étude a été réalisée sur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i)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une comparaison des modalités d’attribution des aides d’Etat à la RDI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s principales zones concurrentes historiques ou émergentes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(Chine, Corée, Etats-Unis, Japon) avec l’encadrement communautair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ii)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une évalu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de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l’encadrement RDI en terme d’efficacité du soutien apporté par les pouvoirs public aux entreprises pour leur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projets de recherche et d’innovation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iii)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Les fondements théoriques des LD « RDI »  et la théorie économique de l’innov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Vous pouvez trouver les résultats de ces travaux (en français et en anglais) sur le site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 Narrow"/>
                <a:hlinkClick r:id="rId1"/>
              </a:rPr>
              <a:t>http://www.industrie.gouv.fr/liste_index/aides-etat.html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ECF6-73F2-4EC5-9D4A-D3CC080C53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Arial Narrow"/>
              </a:rPr>
              <a:t>Etude « dimension externe »:</a:t>
            </a:r>
            <a:br>
              <a:rPr sz="2600"/>
            </a:br>
            <a:r>
              <a:rPr b="1" lang="en-US" sz="2600" spc="-1" strike="noStrike">
                <a:solidFill>
                  <a:srgbClr val="00cc00"/>
                </a:solidFill>
                <a:latin typeface="Arial Narrow"/>
              </a:rPr>
              <a:t>principal enseignement</a:t>
            </a: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l en ressort que les porteurs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jets soumis à l’examen approfond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ont défavorisés par rapport aux porteurs de projets équivalents hors U.E. du fait en particulier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’examen approfondi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jugé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601"/>
              </a:spcBef>
              <a:buClr>
                <a:srgbClr val="00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op lourd (les notifications sont devenues volumineuses et très chronophages)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spcBef>
                <a:spcPts val="601"/>
              </a:spcBef>
              <a:buClr>
                <a:srgbClr val="00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’une fiabilité limitée compte tenu de l’incertitude inhérente à la nature même des projets de R&amp;D et de leur marché futur (innovations de rupture)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AA59-03A4-4129-9328-ED9D888A8D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cc00"/>
                </a:solidFill>
                <a:latin typeface="Arial Narrow"/>
              </a:rPr>
              <a:t>Proposition: benchmarking systématique et harmonisation « globale » des règles </a:t>
            </a: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oute proposition de nouvel encadrement ou d’évolution d’un texte devrait être désormais accompagnée d’une analyse et d’un tableau comparant les pratiques de nos principaux partenaires commerciaux dans le domaine concerné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a Commission doit fermement défendre la convergence des règles de concurrence, notamment celles applicables aux aides d’Etat, dans toutes les instances internationales et négociations bilatérale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B0A-776D-4D85-8A99-D37DBEF196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Arial Narrow"/>
              </a:rPr>
              <a:t>Proposition « innovation »</a:t>
            </a: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éfinir une filière stratégique non soumise à notification pendant une période test de trois ans (exemple: pile à combustible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Alternativement, réfléchir à une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rocédure « fast track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 » pour des «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 projets importants d’intérêt européen commun » (article 87 3.b) du traité C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) applicable à certains projets nationaux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Définition des critères d’identification de ces projets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par Commission + Etats membres (projet visant à garantir l’indépendance stratégique de l’UE: biotech, matériaux du futur, TIC, clean tech…existence de JTI…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xamen par la Commission: 3 mois maximum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et portant sur l’intérêt stratégique du projet pour la collectivité et non sur la défaillance de marché et l’impact sur la concurrence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6723-C273-482A-BEF4-A0D07F9959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Arial Narrow"/>
              </a:rPr>
              <a:t>Proposition « crise financière »:</a:t>
            </a: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rolonger la période de sauvegard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d’une entreprise en difficulté (actuellement limitée à 6 mois)  jusqu’à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 18 mois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; 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éduire de 50 à 40% minimum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la contribution financière du bénéficiaire d’une aide à la restructuration pour toutes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les entreprises indépendantes de moins de 2.000 personnes (=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alignement sur celle qui est demandée actuellement à une PME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C84E-D795-4E1B-BC32-D949C60644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1440" y="115560"/>
            <a:ext cx="5254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Arial Narrow"/>
              </a:rPr>
              <a:t>Proposition changement climatique/CO2</a:t>
            </a:r>
            <a:endParaRPr b="1" lang="en-US" sz="2600" spc="-1" strike="noStrike">
              <a:solidFill>
                <a:srgbClr val="00cc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utoriser les aides à l’investissement de production de véhicules « décarbonés »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(&lt;20 g CO2/km),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S’appuyer sur le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point 3.1.1 des lignes directrices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qui autorise les aides aux entreprises qui vont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au-delà des normes communautaires,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même si les Lignes Directrices « environnement » ne sont pas aujourd’hui applicables aux produits.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EC7B-71E6-4277-98CB-BBA17238C2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4:28:38Z</dcterms:created>
  <dc:creator>Omri BENAYOUN</dc:creator>
  <dc:description/>
  <dc:language>en-US</dc:language>
  <cp:lastModifiedBy>Marie-Christine LE PICARD</cp:lastModifiedBy>
  <dcterms:modified xsi:type="dcterms:W3CDTF">2008-11-20T16:00:58Z</dcterms:modified>
  <cp:revision>107</cp:revision>
  <dc:subject/>
  <dc:title>Modèle diaporama DGE</dc:title>
</cp:coreProperties>
</file>