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itial +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81D-18A2-4CAB-B29D-DD6F901909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280A-FD31-4011-9D90-F9BCF4A9F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9832-AA68-449A-B698-400B4A54E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090B-A434-489C-AE98-66E1747B2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39B1-653B-43ED-AB5C-C5594F304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9361-B711-4A58-A604-4115E1F36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CB8C-A1D5-4476-83AD-54B6C3D2A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6D47-20C4-47E8-9EC5-E2481B1769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3695-90D1-457B-9B80-FFEF76BD59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F404-FE95-4E30-BD05-E4DE1AF8F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EFC4-5A1C-4BB5-BA59-2AE84ACC1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A804-1101-4DEA-BAFD-9939E754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304D-E1F1-4FA6-98F2-2CA116ACF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22ED-0C63-4AEE-BEA7-79AE84E24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7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46640" y="652428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59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95CC-59DD-4EA2-916F-8A0FA88A3151}" type="slidenum">
              <a:rPr b="0" lang="en-GB" sz="1000" spc="-1" strike="noStrike">
                <a:solidFill>
                  <a:srgbClr val="0059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UNICE Christmas card"/>
          <p:cNvPicPr/>
          <p:nvPr/>
        </p:nvPicPr>
        <p:blipFill>
          <a:blip r:embed="rId2"/>
          <a:srcRect l="63876" t="58370" r="17679" b="0"/>
          <a:stretch/>
        </p:blipFill>
        <p:spPr>
          <a:xfrm>
            <a:off x="8718480" y="5877000"/>
            <a:ext cx="390600" cy="615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468360" y="1052640"/>
            <a:ext cx="8675640" cy="72720"/>
          </a:xfrm>
          <a:prstGeom prst="rect">
            <a:avLst/>
          </a:prstGeom>
          <a:gradFill rotWithShape="0">
            <a:gsLst>
              <a:gs pos="0">
                <a:srgbClr val="00478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50thanniversary logo low"/>
          <p:cNvPicPr/>
          <p:nvPr/>
        </p:nvPicPr>
        <p:blipFill>
          <a:blip r:embed="rId3"/>
          <a:stretch/>
        </p:blipFill>
        <p:spPr>
          <a:xfrm>
            <a:off x="7899480" y="0"/>
            <a:ext cx="124452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0thanniversary logo low"/>
          <p:cNvPicPr/>
          <p:nvPr/>
        </p:nvPicPr>
        <p:blipFill>
          <a:blip r:embed="rId2"/>
          <a:stretch/>
        </p:blipFill>
        <p:spPr>
          <a:xfrm>
            <a:off x="3059280" y="3240"/>
            <a:ext cx="3008160" cy="1913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7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3a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73a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19080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036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190440">
              <a:lnSpc>
                <a:spcPts val="2999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74720"/>
            <a:ext cx="932040" cy="311040"/>
          </a:xfrm>
          <a:prstGeom prst="rect">
            <a:avLst/>
          </a:prstGeom>
          <a:solidFill>
            <a:srgbClr val="787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154080"/>
            <a:ext cx="932040" cy="620640"/>
            <a:chOff x="0" y="154080"/>
            <a:chExt cx="932040" cy="620640"/>
          </a:xfrm>
        </p:grpSpPr>
        <p:sp>
          <p:nvSpPr>
            <p:cNvPr id="85" name=""/>
            <p:cNvSpPr/>
            <p:nvPr/>
          </p:nvSpPr>
          <p:spPr>
            <a:xfrm>
              <a:off x="0" y="154080"/>
              <a:ext cx="932040" cy="620640"/>
            </a:xfrm>
            <a:prstGeom prst="rect">
              <a:avLst/>
            </a:prstGeom>
            <a:solidFill>
              <a:srgbClr val="007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EEF_LOGO_WHT_ON_BLU" descr=""/>
            <p:cNvPicPr/>
            <p:nvPr/>
          </p:nvPicPr>
          <p:blipFill>
            <a:blip r:embed="rId2"/>
            <a:stretch/>
          </p:blipFill>
          <p:spPr>
            <a:xfrm>
              <a:off x="111960" y="268200"/>
              <a:ext cx="57924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143000" y="6429240"/>
            <a:ext cx="7772400" cy="0"/>
          </a:xfrm>
          <a:prstGeom prst="line">
            <a:avLst/>
          </a:prstGeom>
          <a:ln w="6480">
            <a:solidFill>
              <a:srgbClr val="007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6429240"/>
            <a:ext cx="7772400" cy="0"/>
          </a:xfrm>
          <a:prstGeom prst="line">
            <a:avLst/>
          </a:prstGeom>
          <a:ln w="6480">
            <a:solidFill>
              <a:srgbClr val="007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4360" y="64292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a0"/>
                </a:solidFill>
                <a:latin typeface="Arial"/>
              </a:rPr>
              <a:t>UK St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74720"/>
            <a:ext cx="932040" cy="311040"/>
          </a:xfrm>
          <a:prstGeom prst="rect">
            <a:avLst/>
          </a:prstGeom>
          <a:solidFill>
            <a:srgbClr val="787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154080"/>
            <a:ext cx="932040" cy="620640"/>
            <a:chOff x="0" y="154080"/>
            <a:chExt cx="932040" cy="620640"/>
          </a:xfrm>
        </p:grpSpPr>
        <p:sp>
          <p:nvSpPr>
            <p:cNvPr id="130" name=""/>
            <p:cNvSpPr/>
            <p:nvPr/>
          </p:nvSpPr>
          <p:spPr>
            <a:xfrm>
              <a:off x="0" y="154080"/>
              <a:ext cx="932040" cy="620640"/>
            </a:xfrm>
            <a:prstGeom prst="rect">
              <a:avLst/>
            </a:prstGeom>
            <a:solidFill>
              <a:srgbClr val="007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EEF_LOGO_WHT_ON_BLU" descr=""/>
            <p:cNvPicPr/>
            <p:nvPr/>
          </p:nvPicPr>
          <p:blipFill>
            <a:blip r:embed="rId2"/>
            <a:stretch/>
          </p:blipFill>
          <p:spPr>
            <a:xfrm>
              <a:off x="111960" y="268200"/>
              <a:ext cx="57924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2"/>
          <p:cNvSpPr>
            <a:spLocks noGrp="1"/>
          </p:cNvSpPr>
          <p:nvPr>
            <p:ph type="ftr" idx="2"/>
          </p:nvPr>
        </p:nvSpPr>
        <p:spPr>
          <a:xfrm>
            <a:off x="1161720" y="24624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73a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3a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73a0"/>
                </a:solidFill>
                <a:latin typeface="Times New Roman"/>
              </a:rPr>
              <a:t>UK Ste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611280" y="408636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Ian Ro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Chairman, BUSINESSEUROPE State Aid Working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Director, UK Ste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1280" y="218124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4785"/>
                </a:solidFill>
                <a:latin typeface="Arial"/>
              </a:rPr>
              <a:t>Globalisation, </a:t>
            </a:r>
            <a:r>
              <a:rPr b="1" lang="en-GB" sz="3600" spc="-1" strike="noStrike">
                <a:solidFill>
                  <a:srgbClr val="004785"/>
                </a:solidFill>
                <a:latin typeface="Arial"/>
              </a:rPr>
              <a:t>financial crisis, innovation and climate change: challenges for a modern State aid policy</a:t>
            </a:r>
            <a:r>
              <a:rPr b="1" lang="en-GB" sz="4000" spc="-1" strike="noStrike">
                <a:solidFill>
                  <a:srgbClr val="004785"/>
                </a:solidFill>
                <a:latin typeface="Arial"/>
              </a:rPr>
              <a:t> </a:t>
            </a:r>
            <a:br>
              <a:rPr sz="24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– general principles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Minimise state interference in markets, allowing the most competitive firms to thrive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quires consistency of approach across the whole of the EU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But rules must be clear and predictable for companies;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And transparent in their applic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globalisation - 1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Europe should not attempt to use aid to compete with low cost economies, apart from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scue &amp; restructuring aid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Regional investment aid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Focus on skills base and innov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globalisation - 2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The EU should make full use of WTO rules to discipline overseas subsidies and other market-distorting practice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DDA </a:t>
            </a:r>
            <a:r>
              <a:rPr b="1" lang="en-GB" sz="3200" spc="-1" strike="noStrike">
                <a:solidFill>
                  <a:srgbClr val="004785"/>
                </a:solidFill>
                <a:latin typeface="Arial"/>
              </a:rPr>
              <a:t>should</a:t>
            </a: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 have been an opportunity to improve their applic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85"/>
                </a:solidFill>
                <a:latin typeface="Arial"/>
              </a:rPr>
              <a:t>Write additional disciplines into future FTA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The financial crisis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A return to worldwide subsidisation and protectionism would prolong the crisis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EU has an opportunity to lead by example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ommunication on aid to financial institutions strikes the right balance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Art. 87(3)(b) invocation is justified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Impacts on competitors are minimised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Rapidity of response applaud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innovation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2006 Framework is an improvement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But serious concerns that some aspects will deter R&amp;D funding, particularly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Detailed assessment, and requirement for counter-factual incentive effect analysis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Rigid categorisation of types of R&amp;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Shortcomings perpetuated in block exemption Regulation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State aid and climate change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New guidelines expand the scope for encouraging investment in, and operation of, carbon-efficient technologies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Negative: incentive test is repeat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Positive: distortions of competition through energy savings are prevented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CCS correctly to be considered later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3a0"/>
                </a:solidFill>
                <a:latin typeface="Arial"/>
              </a:rPr>
              <a:t>State aid and the EU Emissions Trading Scheme:  post-2012</a:t>
            </a:r>
            <a:endParaRPr b="1" lang="en-US" sz="3200" spc="-1" strike="noStrike">
              <a:solidFill>
                <a:srgbClr val="0073a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56348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raft Directive as published by the Commission could drive energy-intensive manufacturing out of the E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ndments to correct this are opposed by DG Competition because of their perceived relationship with competition/state aid poli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999"/>
              </a:lnSpc>
              <a:spcAft>
                <a:spcPts val="1301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neither articles 81 to 86 nor articles 87 to 89 are applic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785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The EU’s unique state aid rules are a vital component of a vigorous and enterprise-oriented single market.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7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785"/>
                </a:solidFill>
                <a:latin typeface="Arial"/>
              </a:rPr>
              <a:t>We welcome:</a:t>
            </a:r>
            <a:endParaRPr b="0" lang="en-US" sz="32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process of continuous appraisal and improvement;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7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785"/>
                </a:solidFill>
                <a:latin typeface="Arial"/>
              </a:rPr>
              <a:t>The Commission’s openness to input from stakeholders.</a:t>
            </a: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40:53Z</dcterms:created>
  <dc:creator>glo</dc:creator>
  <dc:description/>
  <dc:language>en-US</dc:language>
  <cp:lastModifiedBy>Ian Rodgers</cp:lastModifiedBy>
  <dcterms:modified xsi:type="dcterms:W3CDTF">2008-11-19T11:51:26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29075683</vt:r8>
  </property>
  <property fmtid="{D5CDD505-2E9C-101B-9397-08002B2CF9AE}" pid="3" name="_AuthorEmail">
    <vt:lpwstr>IRodgers@eef.org.uk</vt:lpwstr>
  </property>
  <property fmtid="{D5CDD505-2E9C-101B-9397-08002B2CF9AE}" pid="4" name="_AuthorEmailDisplayName">
    <vt:lpwstr>Ian Rodgers</vt:lpwstr>
  </property>
  <property fmtid="{D5CDD505-2E9C-101B-9397-08002B2CF9AE}" pid="5" name="_EmailSubject">
    <vt:lpwstr>State aid conference</vt:lpwstr>
  </property>
  <property fmtid="{D5CDD505-2E9C-101B-9397-08002B2CF9AE}" pid="6" name="_NewReviewCycle">
    <vt:lpwstr/>
  </property>
</Properties>
</file>