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FEF-7865-409A-B079-3A0D776B0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: Tah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llet point: Custom, font Monotype Sorts, character co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ing: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level bullet points: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 level bullet point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use third level bulle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not have to be full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uld expand on the points in the slides and provide backgroun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nt size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there is too much text to fit on a page (View… NotesPage), then put ALL notes for the presentation in a separate Word document, with notes for each slide starting on a new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6CAF-E838-42D4-B1B3-E6C1580EE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EF18-CFAA-48FC-8413-785B272F4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63C2-9AC4-43AB-82B1-F4EAC04CC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5FD9-AE51-4272-A34C-4C094F811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BFEA-F2E9-401A-B9FA-20544B97E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5825-0146-41A3-9078-12E0B50D9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DB93-48F5-4F62-9E1A-C096F4C8C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FA0E-4025-4199-A8AB-DA90DF28C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7C0C-7637-4FB1-901F-FB8B097B8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7EB7-9C40-4665-BE57-A8208C2A0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9633-5866-4294-BAD6-22E80F0FC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D17F-F5B8-4280-8298-A767934FE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468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uropean Commission, DG Compe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78C1-5733-49C3-BB3C-C5E9403F8E2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will the General Block Exemption simplify our lives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BER aims at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target the most obvious market fail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we know would have limited distor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which assessment criteria can be clearly articulated and implemented by Member St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00640"/>
            <a:ext cx="2055960" cy="108108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95960"/>
            <a:ext cx="6121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uch aid can be granted by Member States without prior notification to the 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kind of measures are covered by the General Block Exemption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BER delivers a comprehensive and solid toolbox, in particular for S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6 (up from 10) measures included in the GBER are available to SMEs, e.g. in the areas o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ess to fin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imulating entrepreneu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&amp; Develo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no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ploy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B! measures must respect GBER condi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standard assessme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ypical assessment under guidelines before SA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ly used for schem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detailed assessment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ed economic approach: „Balancing test“ spelled out on big individual c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a: Disentangle the positive and negative effects resulting from th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for cases where aid amounts are very h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ormation requested is normally information that the beneficiary should h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assessment does not necessarily imply opening of procedure or prohibition of th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s did this reform bring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ent and compreh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ter economic reason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tter targeted a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ore Lisb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three stream assessment architec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ification pack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come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volution not a revolution!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3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conomic analysis in practice  Some recent case experience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42920" y="3860640"/>
            <a:ext cx="64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amien Nev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ef Econom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G COMP, European Commission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89000"/>
            <a:ext cx="65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9520" y="6162840"/>
            <a:ext cx="853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*) Disclaimer: the views expressed in this presentation are those of the author and are not necessarily those of the European Commission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insights after two years of implemen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fail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e eff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ortions of compet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lus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conomic Rationale for state aid contro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ber states aim to foster own economic development by attracting investmen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ey may also affect the competitive position of domestic firms in international marke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mber states do not consider spillover effects on other countries (shift employment, rents, reduce investment abroa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coordinated actions may degenerate in excessive sup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ut state aid can still contribute to sound public policy objectives and hence should not be banned per s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ess and better targeted aid”: enhance effectiveness of  state aid by striking a better balance betwe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efits of state 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ficiency rationales: correcting market fail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quity rationales: redistribution/cohe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sts of state aid (distortions)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ulated as a “balancing test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cus:  Art. 87(3) EC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conomics is about better targeted aid – no presumption about the level of ai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5805360"/>
            <a:ext cx="132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143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Balancing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e aid measure aimed at a well-defined objective of common interest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the aid well designed to deliver the objective of common interest ? In particular, does the proposed aid address a market failure (efficiency) or enhance equ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State aid an appropriate policy instrumen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there an incentive effect, i.e. does the aid change the behaviour of firm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 the aid measure proportional to the problem tackled, i.e. could the same change in behaviour be obtained with less ai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the distortions of competition and effect on trade limited, so that the overall balance is positive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reformed policy framewor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Bente Tranholm Schwar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Juergen Foec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mplementation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Guidelines/BER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isk capital (2006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&amp;D&amp;I (2006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gional aid (2006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BER (2008), Environmental aid (2008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60240" indent="-66024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ca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o far mainly in the field of R&amp;D&amp;I (Neoval, Soitec, Homes, TVMSL, Bernin, Osiris, ITP, Genesis,, Maxssimm, Quero, Minimage, VHD, LowCo2motion, H2E, ADNA …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524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raining aid cases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"The theory of economics does not furnish a body of settled conclusions immediately applicable to policy. It is a method, rather than a doctrine. An apparatus of the mind, a technique of thinking, which helps its possessors to draw correct conclusions."   Key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lan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balancing exercise requires a common framework to evaluate the elements being weigh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the impact that state aid has on the welfare of all stakeholders (recipient, competitors, input suppliers, consumer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d changes the incentives and constraints of the recipient (Induces entry, delays or accelerate exit, expands output, R&amp;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triggers changes in the strategy of competitors (output, investment, R&amp;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 of common interes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formulated comprehensively in terms of efficiency (does is contribute to higher output/income) and/or equity (how is distribute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iciency is analysed in terms of market failur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qu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positive effect felt in less developed regions 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socially disadvantaged groups benefit 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trade-o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rket failures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a reference to perfect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ther a set of factors which lead firms to make incorrect decisions from a public policy prosp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externalities/knowledge spill-ove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erfect and asymmetric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ability to credibly commit/convey information =&gt; inadequate funding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mplete contracts =&gt; coordination proble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twork effects, self fulfilling expectations =&gt; coordination probl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46160"/>
            <a:ext cx="101887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Market failur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misunderstanding. E.g. ris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eful consideration of underlying principles (e.g. pecuniary external effec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idation remains cr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t environmental externalit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failur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centive effec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83756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centive effect: does the aid change the behaviour of the firm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unterfactual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hat would the company do without aid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icators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et present value (internal documents, business plans, project finance analysi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bability of success ?  Different scenarios.  Fall back option in case of fail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ritical probabilities of success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st of 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Incentive effect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ng constra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nal ? Scope for abu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? Bank loans and equ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fidence in the numbers presented by the pa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improvements in business pl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orts from analysts, ban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ginal effect of public support on overall financial prosp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istortions of trade and competition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 concern about dynamic incentives.  Rents are allocated by governments rather than compet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s on competitors, which in turn respond and affect market outcomes : reduce output, RDI, investment  - Particular concern for effects across borde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s on employment (and more generally input markets) in other members st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cus on the competitors and input suppliers.  Effects on consumers as secondary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the State Aid Action Plan?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sultation document on how to reform State aid poli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oad map covering the revision of rules 2005-2009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pted by the Commission in 200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Distortions of trade and competition 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7662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ool box of competition economics is useful to understand and evaluate the effects on competitors and market outco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definition to understand which competitors are affected (substitution between product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leading to suggest that because state aid control is about state competition and disciplines in the internal market, distortions of competition among firms should not be the foc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actions among states take place through firms and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d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mportant progress – learn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ansparent trade-of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ware of outcomes – self selec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mplementarity with procedural re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AL REFORM 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ROAD TO SIMPL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04640"/>
            <a:ext cx="51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New Approach to State Ai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ent reforms under the SAAP and next step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ussels, </a:t>
            </a:r>
            <a:r>
              <a:rPr b="0" lang="fr-BE" sz="1600" spc="-1" strike="noStrike">
                <a:solidFill>
                  <a:srgbClr val="ffffff"/>
                </a:solidFill>
                <a:latin typeface="Tahoma"/>
              </a:rPr>
              <a:t>21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</a:t>
            </a:r>
            <a:r>
              <a:rPr b="0" lang="fr-BE" sz="1600" spc="-1" strike="noStrike">
                <a:solidFill>
                  <a:srgbClr val="ffffff"/>
                </a:solidFill>
                <a:latin typeface="Tahoma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306360" cy="990720"/>
            <a:chOff x="250920" y="404640"/>
            <a:chExt cx="306360" cy="990720"/>
          </a:xfrm>
        </p:grpSpPr>
        <p:sp>
          <p:nvSpPr>
            <p:cNvPr id="177" name=""/>
            <p:cNvSpPr/>
            <p:nvPr/>
          </p:nvSpPr>
          <p:spPr>
            <a:xfrm>
              <a:off x="250920" y="40464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" y="40464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920" y="40464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Barbara BRAND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Harold NYSS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182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964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IMPLIFICATION ROADMAP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4608360" cy="3168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JOINT COMMITMEN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EMBER STATES AND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hanced 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edier, more transparent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predictable state ai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tter enforcement at nation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2276640"/>
            <a:ext cx="3168720" cy="3168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BEST PRACTICES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SIMPLIFIED PROCED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ffffff"/>
                </a:solidFill>
                <a:latin typeface="Tahoma"/>
              </a:rPr>
              <a:t>ENFORCEMENT NO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74680" y="148428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ffff"/>
                </a:solidFill>
                <a:uFillTx/>
                <a:latin typeface="Tahoma"/>
              </a:rPr>
              <a:t>OBJECTIVES AN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190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4360" y="2708280"/>
            <a:ext cx="73436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MUTUALLY AGREED PLANNING (M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STAGED PROCEDURE FOR COMPL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AGREED SUSPENSION OF THE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03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7240" y="3068640"/>
            <a:ext cx="8456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NHANCED PRE-NOTIFICATION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TREAMLINING INFORMATION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EETING DEADLINES - ENFORCING EXISTING PROCEDURAL 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14800" y="1932120"/>
            <a:ext cx="2519280" cy="52848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7080" y="198900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16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11280" y="3068640"/>
            <a:ext cx="8248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BLICATION OF NOTIFICATION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TE OF PLAY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ETTER INFORMATION OF COMPLA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916280"/>
            <a:ext cx="2698560" cy="52992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- A BEST PRACTICE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28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68360" y="2565360"/>
            <a:ext cx="83516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WIFT APPROVAL OF STRAIGHTFOWARD CASES : SAFE HARBOURS; EXISTING PRECE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EAR SAFEGUARDS AND EX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RGER PR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40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39640" y="3068640"/>
            <a:ext cx="813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E-NOTIFICATION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UBMISSION OF COMPLETE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ACCELERATED TIME LINE OF 1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06960" y="1940040"/>
            <a:ext cx="2698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aim of SAAP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306720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port renewed Lisbon Strate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tter governance and transpar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52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68360" y="3141720"/>
            <a:ext cx="8353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ILLUSTRATIVE LIST OF POTENTIAL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UBLICATION OF NOTIFICATION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DETAILED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938240"/>
            <a:ext cx="25192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97080" y="1938240"/>
            <a:ext cx="269892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SIMPL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97080" y="20098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DIC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916280"/>
            <a:ext cx="2698560" cy="52992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21360" y="1981080"/>
            <a:ext cx="2698920" cy="503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A SIMPLIFIED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64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95280" y="2924280"/>
            <a:ext cx="8497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GENUINE PRIVATE ENFORCEMENT AT NATION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EVENTING ILLEGAL AID, RECOVERY, DAMAGES, INTERIM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BASED ON SETTLED CASE-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4920" y="1938240"/>
            <a:ext cx="251928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1938240"/>
            <a:ext cx="269856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57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GUID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10160" y="2009880"/>
            <a:ext cx="26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- THE ENFORCEMENT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380880"/>
            <a:ext cx="306360" cy="990720"/>
            <a:chOff x="380880" y="380880"/>
            <a:chExt cx="306360" cy="990720"/>
          </a:xfrm>
        </p:grpSpPr>
        <p:sp>
          <p:nvSpPr>
            <p:cNvPr id="274" name=""/>
            <p:cNvSpPr/>
            <p:nvPr/>
          </p:nvSpPr>
          <p:spPr>
            <a:xfrm>
              <a:off x="380880" y="38088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38088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95280" y="3141720"/>
            <a:ext cx="8640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TREAMLINED EXCHANGE BETWEEN COMMISSION AND COU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REQUESTS FOR INFORMATION - OPI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BASED ON ANTITRU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4920" y="1938240"/>
            <a:ext cx="2519280" cy="5288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0160" y="1938240"/>
            <a:ext cx="2698560" cy="52884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7200" y="1995480"/>
            <a:ext cx="26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GUID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0160" y="2009880"/>
            <a:ext cx="269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549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- THE ENFORCEMENT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95280" y="333360"/>
            <a:ext cx="306360" cy="990720"/>
            <a:chOff x="395280" y="333360"/>
            <a:chExt cx="306360" cy="990720"/>
          </a:xfrm>
        </p:grpSpPr>
        <p:sp>
          <p:nvSpPr>
            <p:cNvPr id="284" name=""/>
            <p:cNvSpPr/>
            <p:nvPr/>
          </p:nvSpPr>
          <p:spPr>
            <a:xfrm>
              <a:off x="395280" y="333360"/>
              <a:ext cx="304920" cy="989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5280" y="33336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333360"/>
              <a:ext cx="306360" cy="99072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400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AT THE END OF THE ROA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0720" y="2649600"/>
            <a:ext cx="5329080" cy="308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797360"/>
            <a:ext cx="53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3716280"/>
            <a:ext cx="53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3440" y="494172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General B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x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89800" y="388296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Simplifi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308448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78136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Best Pract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388296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Safe harbou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Prece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2873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Other c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5080" y="4881600"/>
            <a:ext cx="16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xemp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8520" y="414972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92120" y="21337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MODERN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78520" y="5122800"/>
            <a:ext cx="1150920" cy="252360"/>
          </a:xfrm>
          <a:prstGeom prst="rightArrow">
            <a:avLst>
              <a:gd name="adj1" fmla="val 50000"/>
              <a:gd name="adj2" fmla="val 114016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557360"/>
            <a:ext cx="7346880" cy="1079640"/>
          </a:xfrm>
          <a:prstGeom prst="triangle">
            <a:avLst>
              <a:gd name="adj" fmla="val 4981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4720" y="2637000"/>
            <a:ext cx="2016000" cy="309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3573360"/>
            <a:ext cx="1798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Enforcement notice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National Cou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Challeng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nancial Crisi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11120" y="450828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anca Rodrigu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24000" y="260280"/>
            <a:ext cx="629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ffffff"/>
                </a:solidFill>
                <a:latin typeface="Verdana"/>
              </a:rPr>
              <a:t>The new approach to State A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1 November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te aid policy and scrutiny                DG Competi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cent History of State Aid control in the banking sector: August 2007-September 2008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ptember 2008: Intensification of the  banking crisis and need for adapted response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ew framework: Art 87 3 b and the banking Commun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e practice developed so far: Case law, figures and benchmark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lays ahead: Review and restructuring phas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ent History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ugust 2007-September 200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Individual cases in a few Member Sta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rthern Rock (UK), Sachsen LB(G), IKB (G), WestLB (G), Bayern LB (G), Roskilde (DK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alls for a new legal basis : Article 87 3b)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use of the  classical legal framework: Article 87 3 c) and Rescue/Restructuring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ut we act 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eptember 2008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sification of the crisis affecting fundamentally sound banks, systemic ban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ctural measures potentially going beyond the usual 6 months rescue pha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forms of State intervention: General rescue schemes rather than measures aimed at individual ban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t forms of State interventions: guarantees, recapitalization,  purchase of assets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new framework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 different legal basis allowing exceptional emergency measures = Art 87 3 b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ew Guidance: Banking Commun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he main princip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Non discri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Limitation i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Aid limited to the minim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Contribution from beneficiar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Behavioral commi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 Structural adjus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actice so far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 figures: 21 rescue schemes under review of which 11 already approved, and a number of individual measures in benefit of specific banks also authoriz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on benchmarks developed by this new case law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ligibility: subsidiaries of foreign banks, systemic branc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 months as normal duration of schemes with review claus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mitations on the issuance windows for guarantees, limitations in the maturity of the debts (3 yea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400"/>
              </a:spcBef>
              <a:buClr>
                <a:srgbClr val="ccec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nimum remuneration of capital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id we promise to do that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prehens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nsist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orm package based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 and better targeted a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refined economic approa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efficient procedures, better enforcement, higher predictability and enhanced transpar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red responsibility between the Commission and Member St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ear fu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6 month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of the meas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ification of restructuring plan for beneficiary enti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ment of the adequacy of the measures and of their distortive eff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te aid rules are part of the solution, not part of the problem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nk you very mu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ttp://ec.europa.eu/comm/competition/sectors/financial_services/financial_crisis_en.htm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Herbert Unger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puty Director Gen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G Compet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684360" y="189000"/>
          <a:ext cx="74880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9000"/>
                    <a:ext cx="7488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ecff"/>
                </a:solidFill>
                <a:latin typeface="Arial"/>
              </a:rPr>
              <a:t>No subsidy races between Member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crisi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ergy/Climate change,  R&amp;D&amp;I, Risk Capital, Regional develop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M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Disciplin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arge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Brussels, 21 November 2008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new approach to State ai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recent reforms under the State Aid Action Plan and next ste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t comprehensive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Innov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ision/Guidelines and Directive on SGE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Short Term Credit Insura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Regional Ai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Risk Capit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amework on Research, Development &amp; Innov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ck Exemption on Regional Ai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ck Exemption De Minim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uidelines on Environmental Prot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Reference and Discount Rat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on Guarante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l Block Exemption Regu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pted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t consisten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les are based on the “Balancing test” and a more effects-based appro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elines have the same structu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les incorporate new assessment architectur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will the reform ens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tter targeted ai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5640" y="1844640"/>
            <a:ext cx="7969320" cy="4480200"/>
            <a:chOff x="755640" y="1844640"/>
            <a:chExt cx="7969320" cy="4480200"/>
          </a:xfrm>
        </p:grpSpPr>
        <p:sp>
          <p:nvSpPr>
            <p:cNvPr id="101" name=""/>
            <p:cNvSpPr/>
            <p:nvPr/>
          </p:nvSpPr>
          <p:spPr>
            <a:xfrm>
              <a:off x="3419640" y="2924280"/>
              <a:ext cx="244764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alancing t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4920" y="33559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19640" y="3357720"/>
              <a:ext cx="79200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6560" y="3357720"/>
              <a:ext cx="79380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640" y="3417120"/>
              <a:ext cx="28083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id aimed at well-defined objective of common interes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96000" y="3417120"/>
              <a:ext cx="29289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ortions of competition and trade limited so balance positive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3640" y="4641120"/>
              <a:ext cx="3022560" cy="168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id well designed to deliver the objective of common interes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0920" y="1844640"/>
              <a:ext cx="5329440" cy="6476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FINED ECONOMIC APPROA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13120" y="249408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3716280"/>
            <a:ext cx="3024360" cy="23036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is the new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ssessment architecture?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-stream system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365720"/>
            <a:ext cx="2305080" cy="1654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365720"/>
            <a:ext cx="1297080" cy="1654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716280"/>
            <a:ext cx="3457800" cy="646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860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14972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Block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869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ndard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9417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tailed assess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new" descr="New"/>
          <p:cNvPicPr/>
          <p:nvPr/>
        </p:nvPicPr>
        <p:blipFill>
          <a:blip r:embed="rId1"/>
          <a:stretch/>
        </p:blipFill>
        <p:spPr>
          <a:xfrm>
            <a:off x="7812000" y="4724280"/>
            <a:ext cx="422280" cy="220680"/>
          </a:xfrm>
          <a:prstGeom prst="rect">
            <a:avLst/>
          </a:prstGeom>
          <a:ln w="0">
            <a:noFill/>
          </a:ln>
        </p:spPr>
      </p:pic>
      <p:pic>
        <p:nvPicPr>
          <p:cNvPr id="121" name="new" descr="New"/>
          <p:cNvPicPr/>
          <p:nvPr/>
        </p:nvPicPr>
        <p:blipFill>
          <a:blip r:embed="rId2"/>
          <a:stretch/>
        </p:blipFill>
        <p:spPr>
          <a:xfrm>
            <a:off x="2916360" y="4005360"/>
            <a:ext cx="4222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36:07Z</dcterms:created>
  <dc:creator>bergeol</dc:creator>
  <dc:description/>
  <dc:language>en-US</dc:language>
  <cp:lastModifiedBy>casteko</cp:lastModifiedBy>
  <dcterms:modified xsi:type="dcterms:W3CDTF">2008-11-20T09:15:59Z</dcterms:modified>
  <cp:revision>1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6340391</vt:r8>
  </property>
  <property fmtid="{D5CDD505-2E9C-101B-9397-08002B2CF9AE}" pid="3" name="_AuthorEmail">
    <vt:lpwstr>Koen.Van-De-Casteele@ec.europa.eu</vt:lpwstr>
  </property>
  <property fmtid="{D5CDD505-2E9C-101B-9397-08002B2CF9AE}" pid="4" name="_AuthorEmailDisplayName">
    <vt:lpwstr>VAN DE CASTEELE Koen (COMP)</vt:lpwstr>
  </property>
  <property fmtid="{D5CDD505-2E9C-101B-9397-08002B2CF9AE}" pid="5" name="_EmailSubject">
    <vt:lpwstr>Conference</vt:lpwstr>
  </property>
  <property fmtid="{D5CDD505-2E9C-101B-9397-08002B2CF9AE}" pid="6" name="_NewReviewCycle">
    <vt:lpwstr/>
  </property>
  <property fmtid="{D5CDD505-2E9C-101B-9397-08002B2CF9AE}" pid="7" name="_PreviousAdHocReviewCycleID">
    <vt:r8>716637078</vt:r8>
  </property>
</Properties>
</file>