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457-CC9F-4798-AB97-6F097ADC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6DD-3BBB-4878-B51F-ADAEEF0C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4EE-2E8B-49F4-A8D6-0135969F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8DE-ED4C-4C04-9752-E35BCA92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E538-FCFB-4DCB-A474-570251C1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9A3F-C7C4-46FA-B9D4-96E808E3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D296-69B0-44D6-ADB1-577C9A03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E870-5B7D-42FB-B490-437B4156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6737-49BF-487E-A195-49E67397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701440" y="115560"/>
            <a:ext cx="525492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BD66-2925-4403-87C1-B5C0BAF5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1083-0653-4F4C-B1D0-EBBE4843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CF1-90AF-4382-BCA8-AE370035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DF9F-2324-40B5-A018-ADCE0950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1DD5-F403-4B00-B03E-3ADA3589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ACCA-6BD1-4524-8D36-57E83DAE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D0C7-7A69-4EF2-89A4-C951D40D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1CB1-8119-4F15-B6DB-67E9BAAA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0A0-1531-40A2-B0B8-A2752DB8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1D1-144B-46AE-B8A8-DEE3AD4E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2A4-9826-472E-8ED3-B33BCA5E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01440" y="115560"/>
            <a:ext cx="525492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05E-66B8-48BD-8333-2E6BE913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644-AD52-4402-9B01-F1054AAA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FDD-95E7-4ACB-8900-A5FA3F64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36F-2ACF-4D24-BBD7-A2B7BA8C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00cc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F47B-205F-4B30-A2A5-B6CC60B5E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84720" y="914400"/>
            <a:ext cx="341964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604360" y="914400"/>
            <a:ext cx="0" cy="36576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85800" y="76320"/>
            <a:ext cx="1428840" cy="8190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179280" cy="3394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244000" y="0"/>
            <a:ext cx="360360" cy="762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315200" y="6308640"/>
            <a:ext cx="36036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E938-9472-4D20-90D5-B92056B1C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79280" cy="3394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4720" y="914400"/>
            <a:ext cx="341964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914400"/>
            <a:ext cx="0" cy="36576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44000" y="0"/>
            <a:ext cx="360360" cy="762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95640" y="5695920"/>
            <a:ext cx="1068480" cy="61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21200" y="0"/>
            <a:ext cx="1101600" cy="141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315200" y="6308640"/>
            <a:ext cx="36036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 Narrow"/>
              </a:rPr>
              <a:t>Click to edit the outline text format</a:t>
            </a: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dustrie.gouv.fr/liste_index/aides-etat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onférence « aides d’Etat »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Bruxelles, 2008/11/21</a:t>
            </a:r>
            <a:br>
              <a:rPr sz="2800"/>
            </a:b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600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i="1" lang="fr-FR" sz="2300" spc="-1" strike="noStrike">
                <a:solidFill>
                  <a:srgbClr val="3333cc"/>
                </a:solidFill>
                <a:latin typeface="Arial Narrow"/>
              </a:rPr>
              <a:t>« Globalisation, crise financière, innovation et changement climatique: défis pour une politique d'aide d'Etat modernisée" </a:t>
            </a:r>
            <a:r>
              <a:rPr b="0" i="1" lang="fr-FR" sz="23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300" spc="-1" strike="noStrike">
                <a:solidFill>
                  <a:srgbClr val="3333cc"/>
                </a:solidFill>
                <a:latin typeface="Arial Narrow"/>
              </a:rPr>
              <a:t>Keynote</a:t>
            </a: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300" spc="-1" strike="noStrike">
                <a:solidFill>
                  <a:srgbClr val="3333cc"/>
                </a:solidFill>
                <a:latin typeface="Arial Narrow"/>
              </a:rPr>
              <a:t>Luc Rousseau, Directeur Général des Entreprises au Ministère de l’Economie, des finances et de l’industrie.</a:t>
            </a: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6ADB-AC9F-41A4-A654-1302AA48F5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changement climatique/ETS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’articulation entre les systèmes de permis échangeables et les lignes directrices « environnement » est très complexe et suscite de nombreuses interrogation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r exemple: quelles compensations pourraient être versées par les Etats membres pour couvrir le coût des émissions indirectes (par exemple:  électricité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iller à offrir un degré suffisant de sécurité juridique aux entrepris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1FA-D93B-4397-B205-60E51B7263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115560"/>
            <a:ext cx="5545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Objectifs de la table-ronde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éfléchir ensemble à la pertinence de nos outils communautaires en matière d’aides d’Etat pour répondre aux défis posés à nos économies par 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 globalisation et la crise financiè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’innovation (objectifs de Lisbonn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 changement climatiq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22E-3BCE-4BB8-8357-D4BEB4CDD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Objectifs de la table-ronde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oser des outils concrets pour répondre à ces défis en mettant l’accent su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 dimension externe de la compétitivité de notre économ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ur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marché intérieu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l’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’égalité des conditions de concurrence est acquise grâce à l’action de la Commission européen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 question se pose en ce qui concerne les effets des aides et leur contrôle dans les pays tier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473-2735-4D5F-B7FF-6EEFFF7EA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cc00"/>
                </a:solidFill>
                <a:latin typeface="Arial Narrow"/>
              </a:rPr>
              <a:t>Dimension externe de la compétitivité: étude Technopolis et S.Metcalfe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ns le cadre de la présidence française, une étude a été réalisée sur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i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une comparaison des modalités d’attribution des aides d’Etat à la RDI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 principales zones concurrentes historiques ou émergent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(Chine, Corée, Etats-Unis, Japon) avec l’encadrement communautai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ii)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ne évalu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’encadrement RDI en terme d’efficacité du soutien apporté par les pouvoirs public aux entreprises pour leur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jets de recherche et d’innovatio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iii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es fondements théoriques des LD « RDI »  et la théorie économique de l’innov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ous pouvez trouver les résultats de ces travaux (en français et en anglais) sur le sit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http://www.industrie.gouv.fr/liste_index/aides-etat.html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871-0F16-4D1C-8BBC-B7B1E48814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Etude « dimension externe »:</a:t>
            </a:r>
            <a:br>
              <a:rPr sz="2600"/>
            </a:b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incipal enseignement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l en ressort que les porteurs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ts soumis à l’examen approfond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nt défavorisés par rapport aux porteurs de projets équivalents hors U.E. du fait en particulier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’examen approfondi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ugé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601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op lourd (les notifications sont devenues volumineuses et très chronophages)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601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’une fiabilité limitée compte tenu de l’incertitude inhérente à la nature même des projets de R&amp;D et de leur marché futur (innovations de rupture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D14-2D35-4814-84BC-7A3FE5D3B8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cc00"/>
                </a:solidFill>
                <a:latin typeface="Arial Narrow"/>
              </a:rPr>
              <a:t>Proposition: benchmarking systématique et harmonisation « globale » des règles 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ute proposition de nouvel encadrement ou d’évolution d’un texte devrait être désormais accompagnée d’une analyse et d’un tableau comparant les pratiques de nos principaux partenaires commerciaux dans le domaine concerné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 Commission doit fermement défendre la convergence des règles de concurrence, notamment celles applicables aux aides d’Etat, dans toutes les instances internationales et négociations bilatéral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37E-56B8-4F78-8706-4573F8D5F1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« innovation »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finir une filière stratégique non soumise à notification pendant une période test de trois ans (exemple: pile à combustible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lternativement, réfléchir à un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cédure « fast track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 » pour des «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 projets importants d’intérêt européen commun » (article 87 3.b) du traité C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) applicable à certains projets nationaux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finition des critères d’identification de ces projet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ar Commission + Etats membres (projet visant à garantir l’indépendance stratégique de l’UE: biotech, matériaux du futur, TIC, clean tech…existence de JTI…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amen par la Commission: 3 mois maximum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et portant sur l’intérêt stratégique du projet pour la collectivité et non sur la défaillance de marché et l’impact sur la concurrenc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EE3-B549-4E15-90D3-9FE754C03D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« crise financière »: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longer la période de sauvegard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’une entreprise en difficulté (actuellement limitée à 6 mois)  jusqu’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18 moi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; 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éduire de 50 à 40% minimum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la contribution financière du bénéficiaire d’une aide à la restructuration pour toutes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s entreprises indépendantes de moins de 2.000 personnes (=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lignement sur celle qui est demandée actuellement à une PME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BE8-B622-4B1A-A888-1C10217FA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changement climatique/CO2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utoriser les aides à l’investissement de production de véhicules « décarbonés »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&lt;20 g CO2/km)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’appuyer sur l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oint 3.1.1 des lignes directrice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qui autorise les aides aux entreprises qui vont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u-delà des normes communautaires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ême si les Lignes Directrices « environnement » ne sont pas aujourd’hui applicables aux produits.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795-B937-48E0-80A6-BA96ED5986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4:28:38Z</dcterms:created>
  <dc:creator>Omri BENAYOUN</dc:creator>
  <dc:description/>
  <dc:language>en-US</dc:language>
  <cp:lastModifiedBy>Marie-Christine LE PICARD</cp:lastModifiedBy>
  <dcterms:modified xsi:type="dcterms:W3CDTF">2008-11-20T16:00:58Z</dcterms:modified>
  <cp:revision>107</cp:revision>
  <dc:subject/>
  <dc:title>Modèle diaporama DGE</dc:title>
</cp:coreProperties>
</file>