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64C9-78B7-496A-900A-EA56328215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: Tah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llet point: Custom, font Monotype Sorts, character code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ing: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rst level bullet points: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ond level bullet point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use third level bullet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have to be full sent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uld expand on the points in the slides and provide background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there is too much text to fit on a page (View… NotesPage), then put ALL notes for the presentation in a separate Word document, with notes for each slide starting on a new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: Tah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llet point: Custom, font Monotype Sorts, character code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ing: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rst level bullet points: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ond level bullet point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use third level bullet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have to be full sent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uld expand on the points in the slides and provide background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there is too much text to fit on a page (View… NotesPage), then put ALL notes for the presentation in a separate Word document, with notes for each slide starting on a new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: Tah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llet point: Custom, font Monotype Sorts, character code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ing: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rst level bullet points: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ond level bullet point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use third level bullet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have to be full sent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uld expand on the points in the slides and provide background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there is too much text to fit on a page (View… NotesPage), then put ALL notes for the presentation in a separate Word document, with notes for each slide starting on a new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: Tah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llet point: Custom, font Monotype Sorts, character code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ing: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rst level bullet points: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ond level bullet point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use third level bullet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have to be full sent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uld expand on the points in the slides and provide background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there is too much text to fit on a page (View… NotesPage), then put ALL notes for the presentation in a separate Word document, with notes for each slide starting on a new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825F-07D7-48D1-9CF5-979512DC8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E52AA-A0B8-4956-B94A-7093ACF40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7FC6D-C16B-49B2-B677-1A92E3C04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A1E39-C957-489D-94A5-A7CD85BDC9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4111C-E458-47A0-80D8-2A87DAA7D5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EF6BE-8DA6-4001-A063-F8B6E1B46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7B398-6ED0-4C48-8D35-90F86CEFC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3C684-40E0-4764-A734-63F0012E9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E9218-FE98-4C9B-BAB0-490401183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622B5-11E6-4BE9-AE20-89930BF8E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D9D60-A4FD-4B21-A380-C36686107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5BC33-E047-428B-8080-5D97BD509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1"/>
          </p:nvPr>
        </p:nvSpPr>
        <p:spPr>
          <a:xfrm>
            <a:off x="468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uropean Commission, DG Compe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34EC-E679-4661-94EF-A2F91ECB7F17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Brussels, 21 November 2008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new approach to State aid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recent reforms under the State Aid Action Plan and next step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will the General Block Exemption simplify our lives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BER aims at meas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ich target the most obvious market failu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ich we know would have limited distor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 which assessment criteria can be clearly articulated and implemented by Member Stat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5300640"/>
            <a:ext cx="2055960" cy="1081080"/>
          </a:xfrm>
          <a:custGeom>
            <a:avLst/>
            <a:gdLst>
              <a:gd name="textAreaLeft" fmla="*/ 0 w 2055960"/>
              <a:gd name="textAreaRight" fmla="*/ 2056320 w 20559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5295960"/>
            <a:ext cx="6121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uch aid can be granted by Member States without prior notification to the Com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kind of measures are covered by the General Block Exemption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BER delivers a comprehensive and solid toolbox, in particular for S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6 (up from 10) measures included in the GBER are available to SMEs, e.g. in the areas o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cess to fin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imulating entrepreneursh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 &amp; Develop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nov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mploy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viron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B! measures must respect GBER condition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a standard assessmen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50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typical assessment under guidelines before SAA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ly used for schem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a detailed assessment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ed economic approach: „Balancing test“ spelled out on big individual c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a: Disentangle the positive and negative effects resulting from the a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ly for cases where aid amounts are very hig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formation requested is normally information that the beneficiary should ha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ailed assessment does not necessarily imply opening of procedure or prohibition of the a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as did this reform bring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istent and comprehens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ter economic reasonin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etter targeted a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ore Lisb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three stream assessment architec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mplification packa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come 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evolution not a revolution!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336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conomic analysis in practice  Some recent case experience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042920" y="3860640"/>
            <a:ext cx="6408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Damien Nev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ief Economi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G COMP, European Commission*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89000"/>
            <a:ext cx="65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9520" y="6162840"/>
            <a:ext cx="853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*) Disclaimer: the views expressed in this presentation are those of the author and are not necessarily those of the European Commission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838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roduc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insights after two years of implement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ket failur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entive effec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ortions of competi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clus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conomic Rationale for state aid control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Member states aim to foster own economic development by attracting investmen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hey may also affect the competitive position of domestic firms in international marke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Member states do not consider spillover effects on other countries (shift employment, rents, reduce investment abroa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Uncoordinated actions may degenerate in excessive suppor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But state aid can still contribute to sound public policy objectives and hence should not be banned per s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684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77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ess and better targeted aid”: enhance effectiveness of  state aid by striking a better balance betwe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nefits of state a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fficiency rationales: correcting market fail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quity rationales: redistribution/cohe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sts of state aid (distortions)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mulated as a “balancing test”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ocus:  Art. 87(3) EC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conomics is about better targeted aid – no presumption about the level of ai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5805360"/>
            <a:ext cx="1326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1143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Balancing test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the aid measure aimed at a well-defined objective of common interest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the aid well designed to deliver the objective of common interest ? In particular, does the proposed aid address a market failure (efficiency) or enhance equit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84520" indent="-4129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s State aid an appropriate policy instrument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784520" indent="-4129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s there an incentive effect, i.e. does the aid change the behaviour of firm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784520" indent="-4129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s the aid measure proportional to the problem tackled, i.e. could the same change in behaviour be obtained with less aid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e the distortions of competition and effect on trade limited, so that the overall balance is positive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reformed policy framework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Bente Tranholm Schwar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Juergen Foec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Implementation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 Guidelines/BER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524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Risk capital (2006)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524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R&amp;D&amp;I (2006)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524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Regional aid (2006)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524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BER (2008), Environmental aid (2008)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 cas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524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So far mainly in the field of R&amp;D&amp;I (Neoval, Soitec, Homes, TVMSL, Bernin, Osiris, ITP, Genesis,, Maxssimm, Quero, Minimage, VHD, LowCo2motion, H2E, ADNA …)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524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Training aid cases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"The theory of economics does not furnish a body of settled conclusions immediately applicable to policy. It is a method, rather than a doctrine. An apparatus of the mind, a technique of thinking, which helps its possessors to draw correct conclusions."   Keyn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lanc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balancing exercise requires a common framework to evaluate the elements being weigh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alyse the impact that state aid has on the welfare of all stakeholders (recipient, competitors, input suppliers, consumer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id changes the incentives and constraints of the recipient (Induces entry, delays or accelerate exit, expands output, R&amp;D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triggers changes in the strategy of competitors (output, investment, R&amp;D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Objectives of common interes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7662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be formulated comprehensively in terms of efficiency (does is contribute to higher output/income) and/or equity (how is distributed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fficiency is analysed in terms of market failur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quit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e positive effect felt in less developed regions 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 socially disadvantaged groups benefit 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tential trade-off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arket failures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7662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t a reference to perfect mark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ther a set of factors which lead firms to make incorrect decisions from a public policy prosp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sitive externalities/knowledge spill-over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perfect and asymmetric in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ability to credibly commit/convey information =&gt; inadequate funding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mplete contracts =&gt; coordination proble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twork effects, self fulfilling expectations =&gt; coordination probl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39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46160"/>
            <a:ext cx="1018872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Market failur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7662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misunderstanding. E.g. risk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reful consideration of underlying principles (e.g. pecuniary external effect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lidation remains cru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equent environmental externaliti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vernment failur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Incentive effect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83756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centive effect: does the aid change the behaviour of the firm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ounterfactual: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hat would the company do without aid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ndicators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Net present value (internal documents, business plans, project finance analysi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robability of success ?  Different scenarios.  Fall back option in case of failu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ritical probabilities of success”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ost of capi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Incentive effect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7662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nancing constrai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rnal ? Scope for abus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? Bank loans and equit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fidence in the numbers presented by the par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improvements in business pl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ports from analysts, ban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rginal effect of public support on overall financial prosp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Distortions of trade and competition 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7662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neral concern about dynamic incentives.  Rents are allocated by governments rather than competi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ffects on competitors, which in turn respond and affect market outcomes : reduce output, RDI, investment  - Particular concern for effects across border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ffects on employment (and more generally input markets) in other members stat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cus on the competitors and input suppliers.  Effects on consumers as secondary crite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the State Aid Action Plan?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consultation document on how to reform State aid poli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road map covering the revision of rules 2005-2009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opted by the Commission in 200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Distortions of trade and competition 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7662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tool box of competition economics is useful to understand and evaluate the effects on competitors and market outco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ket definition to understand which competitors are affected (substitution between products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sleading to suggest that because state aid control is about state competition and disciplines in the internal market, distortions of competition among firms should not be the foc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ractions among states take place through firms and mark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d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137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mportant progress – learn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ransparent trade-off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ware of outcomes – self selec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omplementarity with procedural refor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Brussels, 21 November 2008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new approach to State aid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recent reforms under the State Aid Action Plan and next step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CEDURAL REFORM 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ROAD TO SIMPLIFIC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404640"/>
            <a:ext cx="51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New Approach to State Aid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cent reforms under the SAAP and next step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russels, </a:t>
            </a:r>
            <a:r>
              <a:rPr b="0" lang="fr-BE" sz="1600" spc="-1" strike="noStrike">
                <a:solidFill>
                  <a:srgbClr val="ffffff"/>
                </a:solidFill>
                <a:latin typeface="Tahoma"/>
              </a:rPr>
              <a:t>21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vember</a:t>
            </a:r>
            <a:r>
              <a:rPr b="0" lang="fr-BE" sz="1600" spc="-1" strike="noStrike">
                <a:solidFill>
                  <a:srgbClr val="ffffff"/>
                </a:solidFill>
                <a:latin typeface="Tahoma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0920" y="404640"/>
            <a:ext cx="306360" cy="990720"/>
            <a:chOff x="250920" y="404640"/>
            <a:chExt cx="306360" cy="990720"/>
          </a:xfrm>
        </p:grpSpPr>
        <p:sp>
          <p:nvSpPr>
            <p:cNvPr id="177" name=""/>
            <p:cNvSpPr/>
            <p:nvPr/>
          </p:nvSpPr>
          <p:spPr>
            <a:xfrm>
              <a:off x="250920" y="40464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920" y="40464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0920" y="40464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700360" y="4508640"/>
            <a:ext cx="39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Verdana"/>
              </a:rPr>
              <a:t>Barbara BRAND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Verdana"/>
              </a:rPr>
              <a:t>Harold NYSS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182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9640" y="549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IMPLIFICATION ROADMAP</a:t>
            </a: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2276640"/>
            <a:ext cx="4608360" cy="316836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JOINT COMMITMEN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EMBER STATES AND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hanced co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edier, more transparent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predictable state aid 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tter enforcement at national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0000" y="2276640"/>
            <a:ext cx="3168720" cy="316836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BE" sz="1800" spc="-1" strike="noStrike">
                <a:solidFill>
                  <a:srgbClr val="ffffff"/>
                </a:solidFill>
                <a:latin typeface="Tahoma"/>
              </a:rPr>
              <a:t>BEST PRACTICES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BE" sz="1800" spc="-1" strike="noStrike">
                <a:solidFill>
                  <a:srgbClr val="ffffff"/>
                </a:solidFill>
                <a:latin typeface="Tahoma"/>
              </a:rPr>
              <a:t>SIMPLIFIED PROCED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BE" sz="1800" spc="-1" strike="noStrike">
                <a:solidFill>
                  <a:srgbClr val="ffffff"/>
                </a:solidFill>
                <a:latin typeface="Tahoma"/>
              </a:rPr>
              <a:t>ENFORCEMENT NO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74680" y="1484280"/>
            <a:ext cx="49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ffffff"/>
                </a:solidFill>
                <a:uFillTx/>
                <a:latin typeface="Tahoma"/>
              </a:rPr>
              <a:t>OBJECTIVES AND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190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84360" y="2708280"/>
            <a:ext cx="7343640" cy="27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 MUTUALLY AGREED PLANNING (Ma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 STAGED PROCEDURE FOR COMPLA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AGREED SUSPENSION OF THE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1938240"/>
            <a:ext cx="2519280" cy="5288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97080" y="1938240"/>
            <a:ext cx="269892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PREDIC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97080" y="20098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21360" y="19810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06960" y="1940040"/>
            <a:ext cx="2698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- A BEST PRACTICES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95280" y="26028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03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87240" y="3068640"/>
            <a:ext cx="84567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ENHANCED PRE-NOTIFICATION 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TREAMLINING INFORMATION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EETING DEADLINES - ENFORCING EXISTING PROCEDURAL ME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1938240"/>
            <a:ext cx="251928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3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PREDIC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21360" y="19810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06960" y="1940040"/>
            <a:ext cx="2698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- A BEST PRACTICES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14800" y="1932120"/>
            <a:ext cx="2519280" cy="52848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97080" y="198900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95280" y="26028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16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11280" y="3068640"/>
            <a:ext cx="8248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UBLICATION OF NOTIFICATION SUMM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ATE OF PLAY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ETTER INFORMATION OF COMPLAIN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1916280"/>
            <a:ext cx="2698560" cy="52992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1938240"/>
            <a:ext cx="251928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97080" y="1938240"/>
            <a:ext cx="269892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PREDIC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97080" y="20098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21360" y="19810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- A BEST PRACTICES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28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68360" y="2565360"/>
            <a:ext cx="8351640" cy="27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WIFT APPROVAL OF STRAIGHTFOWARD CASES : SAFE HARBOURS; EXISTING PRECE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EAR SAFEGUARDS AND EXCLU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RGER PRECE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1938240"/>
            <a:ext cx="2519280" cy="5288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97080" y="1938240"/>
            <a:ext cx="269892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SIMPL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97080" y="20098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DIC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21360" y="19810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06960" y="1940040"/>
            <a:ext cx="2698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-  A SIMPLIFIED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40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39640" y="3068640"/>
            <a:ext cx="8137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PRE-NOTIFICATION 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SUBMISSION OF COMPLETE NO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ACCELERATED TIME LINE OF 1 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938240"/>
            <a:ext cx="251928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97080" y="1938240"/>
            <a:ext cx="2698920" cy="5288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SIMPL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97080" y="20098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DIC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21360" y="19810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06960" y="1940040"/>
            <a:ext cx="2698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- A SIMPLIFIED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was the aim of SAAP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306720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pport renewed Lisbon Strate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tter governance and transpare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52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68360" y="3141720"/>
            <a:ext cx="83534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ILLUSTRATIVE LIST OF POTENTIAL CANDI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PUBLICATION OF NOTIFICATION SUMM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DETAILED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1938240"/>
            <a:ext cx="251928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97080" y="1938240"/>
            <a:ext cx="269892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3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SIMPL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97080" y="20098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DIC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12000" y="1916280"/>
            <a:ext cx="2698560" cy="52992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21360" y="1981080"/>
            <a:ext cx="2698920" cy="503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- A SIMPLIFIED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64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95280" y="2924280"/>
            <a:ext cx="8497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GENUINE PRIVATE ENFORCEMENT AT NATIONAL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PREVENTING ILLEGAL AID, RECOVERY, DAMAGES, INTERIM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BASED ON SETTLED CASE-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4920" y="1938240"/>
            <a:ext cx="2519280" cy="5288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10160" y="1938240"/>
            <a:ext cx="269856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57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GUID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10160" y="2009880"/>
            <a:ext cx="2698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I- THE ENFORCEMENT NO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74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95280" y="3141720"/>
            <a:ext cx="86407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STREAMLINED EXCHANGE BETWEEN COMMISSION AND COU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REQUESTS FOR INFORMATION - OPIN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BASED ON ANTITRU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4920" y="1938240"/>
            <a:ext cx="2519280" cy="5288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10160" y="1938240"/>
            <a:ext cx="2698560" cy="5288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57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GUID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10160" y="2009880"/>
            <a:ext cx="2698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I- THE ENFORCEMENT NO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395280" y="333360"/>
            <a:ext cx="306360" cy="990720"/>
            <a:chOff x="395280" y="333360"/>
            <a:chExt cx="306360" cy="990720"/>
          </a:xfrm>
        </p:grpSpPr>
        <p:sp>
          <p:nvSpPr>
            <p:cNvPr id="284" name=""/>
            <p:cNvSpPr/>
            <p:nvPr/>
          </p:nvSpPr>
          <p:spPr>
            <a:xfrm>
              <a:off x="395280" y="33336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5280" y="33336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5280" y="33336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24000" y="549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ahoma"/>
              </a:rPr>
              <a:t>AT THE END OF THE ROA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60720" y="2649600"/>
            <a:ext cx="5329080" cy="308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60720" y="4797360"/>
            <a:ext cx="532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60720" y="3716280"/>
            <a:ext cx="532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13440" y="494172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General B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Exem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89800" y="388296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Simplifi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Proced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76720" y="3084480"/>
            <a:ext cx="1150920" cy="252360"/>
          </a:xfrm>
          <a:prstGeom prst="rightArrow">
            <a:avLst>
              <a:gd name="adj1" fmla="val 50000"/>
              <a:gd name="adj2" fmla="val 114016"/>
            </a:avLst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2781360"/>
            <a:ext cx="187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Best Practi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32000" y="388296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Safe harbour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Prece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21080" y="2873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Other c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05080" y="4881600"/>
            <a:ext cx="16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Exemp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78520" y="4149720"/>
            <a:ext cx="1150920" cy="252360"/>
          </a:xfrm>
          <a:prstGeom prst="rightArrow">
            <a:avLst>
              <a:gd name="adj1" fmla="val 50000"/>
              <a:gd name="adj2" fmla="val 114016"/>
            </a:avLst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92120" y="213372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MODERN ARCHITE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78520" y="5122800"/>
            <a:ext cx="1150920" cy="252360"/>
          </a:xfrm>
          <a:prstGeom prst="rightArrow">
            <a:avLst>
              <a:gd name="adj1" fmla="val 50000"/>
              <a:gd name="adj2" fmla="val 114016"/>
            </a:avLst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1557360"/>
            <a:ext cx="7346880" cy="1079640"/>
          </a:xfrm>
          <a:prstGeom prst="triangle">
            <a:avLst>
              <a:gd name="adj" fmla="val 4981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4720" y="2637000"/>
            <a:ext cx="2016000" cy="309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16000" y="3573360"/>
            <a:ext cx="1798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Enforcement notice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National Cou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ew Challenge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nancial Crisis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11120" y="4508280"/>
            <a:ext cx="640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lanca Rodrigue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324000" y="260280"/>
            <a:ext cx="6292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ffffff"/>
                </a:solidFill>
                <a:latin typeface="Verdana"/>
              </a:rPr>
              <a:t>The new approach to State A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21 November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te aid policy and scrutiny                DG Competi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ecent History of State Aid control in the banking sector: August 2007-September 2008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eptember 2008: Intensification of the  banking crisis and need for adapted response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ew framework: Art 87 3 b and the banking Communi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he practice developed so far: Case law, figures and benchmark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hat lays ahead: Review and restructuring phas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cent History</a:t>
            </a:r>
            <a:br>
              <a:rPr sz="4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ugust 2007-September 2008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Individual cases in a few Member Stat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Northern Rock (UK), Sachsen LB(G), IKB (G), WestLB (G), Bayern LB (G), Roskilde (DK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Calls for a new legal basis : Article 87 3b)…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use of the  classical legal framework: Article 87 3 c) and Rescue/Restructuring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But we act f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September 2008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nsification of the crisis affecting fundamentally sound banks, systemic bank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uctural measures potentially going beyond the usual 6 months rescue phas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 forms of State intervention: General rescue schemes rather than measures aimed at individual bank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fferent forms of State interventions: guarantees, recapitalization,  purchase of assets…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new framework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A different legal basis allowing exceptional emergency measures = Art 87 3 b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New Guidance: Banking Communic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The main principl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 Non discrimin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 Limitation in ti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 Aid limited to the minim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 Contribution from beneficiari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 Behavioral commit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 Structural adjust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practice so far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me figures: 21 rescue schemes under review of which 11 already approved, and a number of individual measures in benefit of specific banks also authorize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on benchmarks developed by this new case law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ligibility: subsidiaries of foreign banks, systemic branch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spcBef>
                <a:spcPts val="400"/>
              </a:spcBef>
              <a:buClr>
                <a:srgbClr val="ccecf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6 months as normal duration of schemes with review clause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spcBef>
                <a:spcPts val="400"/>
              </a:spcBef>
              <a:buClr>
                <a:srgbClr val="ccecf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mitations on the issuance windows for guarantees, limitations in the maturity of the debts (3 year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spcBef>
                <a:spcPts val="400"/>
              </a:spcBef>
              <a:buClr>
                <a:srgbClr val="ccecf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nimum remuneration of capital…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did we promise to do that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496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mprehensiv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nsist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eform package based 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s and better targeted ai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refined economic approa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re efficient procedures, better enforcement, higher predictability and enhanced transparenc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ared responsibility between the Commission and Member St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near fut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6 month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of the measur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tification of restructuring plan for beneficiary entiti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sessment of the adequacy of the measures and of their distortive effe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te aid rules are part of the solution, not part of the problem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ank you very mu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http://ec.europa.eu/comm/competition/sectors/financial_services/financial_crisis_en.htm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Outl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Herbert Ungere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Deputy Director Gener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DG Competi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684360" y="189000"/>
          <a:ext cx="7488000" cy="626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9000"/>
                    <a:ext cx="748800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8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ccecff"/>
                </a:solidFill>
                <a:latin typeface="Arial"/>
              </a:rPr>
              <a:t>No subsidy races between Member Sta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crisi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nergy/Climate change,  R&amp;D&amp;I, Risk Capital, Regional develop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M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sent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peed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Disciplin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arget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Brussels, 21 November 2008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new approach to State aid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recent reforms under the State Aid Action Plan and next step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s it comprehensive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40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unication on Innov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cision/Guidelines and Directive on SGE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unication on Short Term Credit Insuranc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uidelines on Regional Ai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uidelines on Risk Capita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ramework on Research, Development &amp; Innov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lock Exemption on Regional Ai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lock Exemption De Minimi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uidelines on Environmental Prot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unication on Reference and Discount Rat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unication on Guarante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neral Block Exemption Regul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s it consisten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11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ules are based on the “Balancing test” and a more effects-based approa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uidelines have the same structur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ules incorporate new assessment architecture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will the reform ensur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etter targeted aid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55640" y="1844640"/>
            <a:ext cx="7969320" cy="4480200"/>
            <a:chOff x="755640" y="1844640"/>
            <a:chExt cx="7969320" cy="4480200"/>
          </a:xfrm>
        </p:grpSpPr>
        <p:sp>
          <p:nvSpPr>
            <p:cNvPr id="101" name=""/>
            <p:cNvSpPr/>
            <p:nvPr/>
          </p:nvSpPr>
          <p:spPr>
            <a:xfrm>
              <a:off x="3419640" y="2924280"/>
              <a:ext cx="244764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alancing te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4920" y="3355920"/>
              <a:ext cx="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419640" y="3357720"/>
              <a:ext cx="792000" cy="57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46560" y="3357720"/>
              <a:ext cx="793800" cy="57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5640" y="3417120"/>
              <a:ext cx="2808360" cy="168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id aimed at well-defined objective of common interest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96000" y="3417120"/>
              <a:ext cx="2928960" cy="168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tortions of competition and trade limited so balance positive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03640" y="4641120"/>
              <a:ext cx="3022560" cy="168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id well designed to deliver the objective of common interest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0920" y="1844640"/>
              <a:ext cx="5329440" cy="6476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FINED ECONOMIC APPROA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13120" y="249408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55640" y="3716280"/>
            <a:ext cx="3024360" cy="230364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is the new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ssessment architecture?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565000"/>
            <a:ext cx="8496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ree-stream system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4365720"/>
            <a:ext cx="2305080" cy="1654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4365720"/>
            <a:ext cx="1297080" cy="1654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3716280"/>
            <a:ext cx="3457800" cy="646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386064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414972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eneral Block Ex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486900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ndard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48360" y="494172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tailed assess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new" descr="New"/>
          <p:cNvPicPr/>
          <p:nvPr/>
        </p:nvPicPr>
        <p:blipFill>
          <a:blip r:embed="rId1"/>
          <a:stretch/>
        </p:blipFill>
        <p:spPr>
          <a:xfrm>
            <a:off x="7812000" y="4724280"/>
            <a:ext cx="422280" cy="220680"/>
          </a:xfrm>
          <a:prstGeom prst="rect">
            <a:avLst/>
          </a:prstGeom>
          <a:ln w="0">
            <a:noFill/>
          </a:ln>
        </p:spPr>
      </p:pic>
      <p:pic>
        <p:nvPicPr>
          <p:cNvPr id="121" name="new" descr="New"/>
          <p:cNvPicPr/>
          <p:nvPr/>
        </p:nvPicPr>
        <p:blipFill>
          <a:blip r:embed="rId2"/>
          <a:stretch/>
        </p:blipFill>
        <p:spPr>
          <a:xfrm>
            <a:off x="2916360" y="4005360"/>
            <a:ext cx="4222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36:07Z</dcterms:created>
  <dc:creator>bergeol</dc:creator>
  <dc:description/>
  <dc:language>en-US</dc:language>
  <cp:lastModifiedBy>casteko</cp:lastModifiedBy>
  <dcterms:modified xsi:type="dcterms:W3CDTF">2008-11-20T09:15:59Z</dcterms:modified>
  <cp:revision>11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16340391</vt:r8>
  </property>
  <property fmtid="{D5CDD505-2E9C-101B-9397-08002B2CF9AE}" pid="3" name="_AuthorEmail">
    <vt:lpwstr>Koen.Van-De-Casteele@ec.europa.eu</vt:lpwstr>
  </property>
  <property fmtid="{D5CDD505-2E9C-101B-9397-08002B2CF9AE}" pid="4" name="_AuthorEmailDisplayName">
    <vt:lpwstr>VAN DE CASTEELE Koen (COMP)</vt:lpwstr>
  </property>
  <property fmtid="{D5CDD505-2E9C-101B-9397-08002B2CF9AE}" pid="5" name="_EmailSubject">
    <vt:lpwstr>Conference</vt:lpwstr>
  </property>
  <property fmtid="{D5CDD505-2E9C-101B-9397-08002B2CF9AE}" pid="6" name="_NewReviewCycle">
    <vt:lpwstr/>
  </property>
  <property fmtid="{D5CDD505-2E9C-101B-9397-08002B2CF9AE}" pid="7" name="_PreviousAdHocReviewCycleID">
    <vt:r8>716637078</vt:r8>
  </property>
</Properties>
</file>