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79C9-7C4B-4373-9AE4-962CB5D2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1630-E0B1-4A67-A518-8308D621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94A4-CD6D-458C-BE64-3D8940BF0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7C8B-DF48-44BD-842F-A2782212B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583A-617D-4C56-8575-EECE3BA7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74BE-6DD6-4B35-B007-C0755123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C707-A9CD-483E-BE33-63B5EADE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C1E3-AE66-49CA-9CBD-374FD400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1681-6E54-40BC-A8DD-DAB98BCE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701440" y="115560"/>
            <a:ext cx="5254920" cy="35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B319-8154-43A5-AA31-CF428B6C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22C3-F691-4810-B241-1FC21D01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88D0-5F93-47AD-8703-B704958D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FB8E-C61E-4A3C-9A08-E1A6FF94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A74D-7220-49E1-AD0F-5143685A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A325-2FEA-4281-B092-325B6D48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ED66-6FBA-45B3-A588-9AD11FFF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D352-8FDE-4625-AB1D-63E3C48BF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870B-C643-4F4D-B46C-5BA2EB32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B577-8004-4C58-BCB6-FC2AE7B8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4952-A7F7-47A8-9F94-7CEA1FDA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701440" y="115560"/>
            <a:ext cx="5254920" cy="35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5D59-87C1-45F2-BA4A-07671511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36BA-00BB-481C-92D4-827E79AC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A10A-E8E4-4013-B727-0CA08030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DF60-FCDB-465A-8A6E-DE4FEFC9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00"/>
                </a:solidFill>
                <a:latin typeface="Arial Narrow"/>
              </a:rPr>
              <a:t>Click to edit the title text format</a:t>
            </a: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499"/>
              </a:spcBef>
              <a:buClr>
                <a:srgbClr val="00cc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499"/>
              </a:spcBef>
              <a:buClr>
                <a:srgbClr val="00cc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E983-21EB-44A7-AF7B-00C22CD88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184720" y="914400"/>
            <a:ext cx="3419640" cy="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604360" y="914400"/>
            <a:ext cx="0" cy="365760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685800" y="76320"/>
            <a:ext cx="1428840" cy="8190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0"/>
            <a:ext cx="179280" cy="3394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244000" y="0"/>
            <a:ext cx="360360" cy="762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315200" y="6308640"/>
            <a:ext cx="36036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6EDA-611A-4534-B1A0-BBB7C5D44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179280" cy="3394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84720" y="914400"/>
            <a:ext cx="3419640" cy="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914400"/>
            <a:ext cx="0" cy="365760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44000" y="0"/>
            <a:ext cx="360360" cy="762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995640" y="5695920"/>
            <a:ext cx="1068480" cy="612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021200" y="0"/>
            <a:ext cx="1101600" cy="1415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315200" y="6308640"/>
            <a:ext cx="36036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 Narrow"/>
              </a:rPr>
              <a:t>Click to edit the outline text format</a:t>
            </a:r>
            <a:endParaRPr b="0" i="1" lang="en-US" sz="2400" spc="-1" strike="noStrike">
              <a:solidFill>
                <a:srgbClr val="3333cc"/>
              </a:solidFill>
              <a:latin typeface="Arial Narrow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499"/>
              </a:spcBef>
              <a:buClr>
                <a:srgbClr val="00cc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cc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ndustrie.gouv.fr/liste_index/aides-etat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Conférence « aides d’Etat »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Bruxelles, 2008/11/21</a:t>
            </a:r>
            <a:br>
              <a:rPr sz="2800"/>
            </a:b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16000" y="2492280"/>
            <a:ext cx="640080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i="1" lang="fr-FR" sz="2300" spc="-1" strike="noStrike">
                <a:solidFill>
                  <a:srgbClr val="3333cc"/>
                </a:solidFill>
                <a:latin typeface="Arial Narrow"/>
              </a:rPr>
              <a:t>« Globalisation, crise financière, innovation et changement climatique: défis pour une politique d'aide d'Etat modernisée" </a:t>
            </a:r>
            <a:r>
              <a:rPr b="0" i="1" lang="fr-FR" sz="23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i="1" lang="en-US" sz="2300" spc="-1" strike="noStrike">
              <a:solidFill>
                <a:srgbClr val="3333cc"/>
              </a:solidFill>
              <a:latin typeface="Arial Narrow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300" spc="-1" strike="noStrike">
              <a:solidFill>
                <a:srgbClr val="3333cc"/>
              </a:solidFill>
              <a:latin typeface="Arial Narrow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300" spc="-1" strike="noStrike">
                <a:solidFill>
                  <a:srgbClr val="3333cc"/>
                </a:solidFill>
                <a:latin typeface="Arial Narrow"/>
              </a:rPr>
              <a:t>Keynote</a:t>
            </a:r>
            <a:endParaRPr b="0" i="1" lang="en-US" sz="2300" spc="-1" strike="noStrike">
              <a:solidFill>
                <a:srgbClr val="3333cc"/>
              </a:solidFill>
              <a:latin typeface="Arial Narrow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300" spc="-1" strike="noStrike">
                <a:solidFill>
                  <a:srgbClr val="3333cc"/>
                </a:solidFill>
                <a:latin typeface="Arial Narrow"/>
              </a:rPr>
              <a:t>Luc Rousseau, Directeur Général des Entreprises au Ministère de l’Economie, des finances et de l’industrie.</a:t>
            </a:r>
            <a:endParaRPr b="0" i="1" lang="en-US" sz="23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B808-0F51-4C50-B7C4-571D48EA13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00"/>
                </a:solidFill>
                <a:latin typeface="Arial Narrow"/>
              </a:rPr>
              <a:t>Proposition changement climatique/ETS</a:t>
            </a: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’articulation entre les systèmes de permis échangeables et les lignes directrices « environnement » est très complexe et suscite de nombreuses interrogations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r exemple: quelles compensations pourraient être versées par les Etats membres pour couvrir le coût des émissions indirectes (par exemple:  électricité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eiller à offrir un degré suffisant de sécurité juridique aux entreprise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722F-A7A5-43BC-B7E6-93F1D1C466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42920" y="115560"/>
            <a:ext cx="554508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00"/>
                </a:solidFill>
                <a:latin typeface="Arial Narrow"/>
              </a:rPr>
              <a:t>Objectifs de la table-ronde</a:t>
            </a: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éfléchir ensemble à la pertinence de nos outils communautaires en matière d’aides d’Etat pour répondre aux défis posés à nos économies par 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a globalisation et la crise financiè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’innovation (objectifs de Lisbonn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e changement climatiqu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26A8-6967-4B01-8E58-369F1245BB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00"/>
                </a:solidFill>
                <a:latin typeface="Arial Narrow"/>
              </a:rPr>
              <a:t>Objectifs de la table-ronde</a:t>
            </a: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poser des outils concrets pour répondre à ces défis en mettant l’accent sur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a dimension externe de la compétitivité de notre économie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Sur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e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marché intérieur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l’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’égalité des conditions de concurrence est acquise grâce à l’action de la Commission européenn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a question se pose en ce qui concerne les effets des aides et leur contrôle dans les pays tier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5977-E999-46DC-805C-029AEBF6BB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cc00"/>
                </a:solidFill>
                <a:latin typeface="Arial Narrow"/>
              </a:rPr>
              <a:t>Dimension externe de la compétitivité: étude Technopolis et S.Metcalfe</a:t>
            </a: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ans le cadre de la présidence française, une étude a été réalisée sur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i)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une comparaison des modalités d’attribution des aides d’Etat à la RDI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s principales zones concurrentes historiques ou émergentes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(Chine, Corée, Etats-Unis, Japon) avec l’encadrement communautair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ii)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une évalua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de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l’encadrement RDI en terme d’efficacité du soutien apporté par les pouvoirs public aux entreprises pour leur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projets de recherche et d’innovation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iii)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Les fondements théoriques des LD « RDI »  et la théorie économique de l’innov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Vous pouvez trouver les résultats de ces travaux (en français et en anglais) sur le site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 Narrow"/>
                <a:hlinkClick r:id="rId1"/>
              </a:rPr>
              <a:t>http://www.industrie.gouv.fr/liste_index/aides-etat.html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5841-2EF5-4D7F-BC18-236B0BEF1D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00"/>
                </a:solidFill>
                <a:latin typeface="Arial Narrow"/>
              </a:rPr>
              <a:t>Etude « dimension externe »:</a:t>
            </a:r>
            <a:br>
              <a:rPr sz="2600"/>
            </a:br>
            <a:r>
              <a:rPr b="1" lang="en-US" sz="2600" spc="-1" strike="noStrike">
                <a:solidFill>
                  <a:srgbClr val="00cc00"/>
                </a:solidFill>
                <a:latin typeface="Arial Narrow"/>
              </a:rPr>
              <a:t>principal enseignement</a:t>
            </a: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l en ressort que les porteurs 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jets soumis à l’examen approfond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ont défavorisés par rapport aux porteurs de projets équivalents hors U.E. du fait en particulier 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’examen approfondi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jugé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601"/>
              </a:spcBef>
              <a:buClr>
                <a:srgbClr val="00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op lourd (les notifications sont devenues volumineuses et très chronophages)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601"/>
              </a:spcBef>
              <a:buClr>
                <a:srgbClr val="00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’une fiabilité limitée compte tenu de l’incertitude inhérente à la nature même des projets de R&amp;D et de leur marché futur (innovations de rupture)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1AEE-1266-4834-9146-6630EAD48D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cc00"/>
                </a:solidFill>
                <a:latin typeface="Arial Narrow"/>
              </a:rPr>
              <a:t>Proposition: benchmarking systématique et harmonisation « globale » des règles </a:t>
            </a: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oute proposition de nouvel encadrement ou d’évolution d’un texte devrait être désormais accompagnée d’une analyse et d’un tableau comparant les pratiques de nos principaux partenaires commerciaux dans le domaine concerné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a Commission doit fermement défendre la convergence des règles de concurrence, notamment celles applicables aux aides d’Etat, dans toutes les instances internationales et négociations bilatérale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3019-CD83-4BD3-BC6A-4D97D261FD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00"/>
                </a:solidFill>
                <a:latin typeface="Arial Narrow"/>
              </a:rPr>
              <a:t>Proposition « innovation »</a:t>
            </a: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Définir une filière stratégique non soumise à notification pendant une période test de trois ans (exemple: pile à combustible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Alternativement, réfléchir à une 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rocédure « fast track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 » pour des «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 projets importants d’intérêt européen commun » (article 87 3.b) du traité CE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) applicable à certains projets nationaux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Définition des critères d’identification de ces projets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par Commission + Etats membres (projet visant à garantir l’indépendance stratégique de l’UE: biotech, matériaux du futur, TIC, clean tech…existence de JTI…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xamen par la Commission: 3 mois maximum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et portant sur l’intérêt stratégique du projet pour la collectivité et non sur la défaillance de marché et l’impact sur la concurrence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5EF1-208F-4254-9500-2C94F40058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00"/>
                </a:solidFill>
                <a:latin typeface="Arial Narrow"/>
              </a:rPr>
              <a:t>Proposition « crise financière »:</a:t>
            </a: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rolonger la période de sauvegarde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d’une entreprise en difficulté (actuellement limitée à 6 mois)  jusqu’à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 18 mois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; 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Réduire de 50 à 40% minimum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la contribution financière du bénéficiaire d’une aide à la restructuration pour toutes 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les entreprises indépendantes de moins de 2.000 personnes (=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alignement sur celle qui est demandée actuellement à une PME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60DA-B19F-45CD-B258-B4DD18337F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00"/>
                </a:solidFill>
                <a:latin typeface="Arial Narrow"/>
              </a:rPr>
              <a:t>Proposition changement climatique/CO2</a:t>
            </a: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Autoriser les aides à l’investissement de production de véhicules « décarbonés »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(&lt;20 g CO2/km),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S’appuyer sur le 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oint 3.1.1 des lignes directrices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qui autorise les aides aux entreprises qui vont 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au-delà des normes communautaires,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même si les Lignes Directrices « environnement » ne sont pas aujourd’hui applicables aux produits.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6611-71B6-4DD1-9671-435097EAC5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14:28:38Z</dcterms:created>
  <dc:creator>Omri BENAYOUN</dc:creator>
  <dc:description/>
  <dc:language>en-US</dc:language>
  <cp:lastModifiedBy>Marie-Christine LE PICARD</cp:lastModifiedBy>
  <dcterms:modified xsi:type="dcterms:W3CDTF">2008-11-20T16:00:58Z</dcterms:modified>
  <cp:revision>107</cp:revision>
  <dc:subject/>
  <dc:title>Modèle diaporama DGE</dc:title>
</cp:coreProperties>
</file>