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29"/>
          </p:nvPr>
        </p:nvSpPr>
        <p:spPr>
          <a:xfrm>
            <a:off x="38988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30"/>
          </p:nvPr>
        </p:nvSpPr>
        <p:spPr>
          <a:xfrm>
            <a:off x="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31"/>
          </p:nvPr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C8E-7A67-4CB4-B186-90AFC782BEC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3CF5F9BA-B764-45C9-8FFD-1DE64EB3522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C23F-5741-4DDC-BC01-BF7B1E85941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65A3-AE6A-4609-9DA1-4693A4F48E4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386D-70DA-49F4-A0CD-E9D6249C664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E800-7BAC-45C7-9D15-DA43AB20975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E3AE-D44E-48EF-9C7F-5D8BC6ED0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5EBD-817E-4B10-A7CB-1D46211C416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8F63-115E-4F0C-8A7D-E87AA829D27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A32AD-2A5A-4B11-B4C6-8004EA65BE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390EE-53D3-41A4-9D78-57563D1330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0E0F-C297-4F56-B7D6-0F9FA179CA7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00BC-EC93-4B8D-B68E-140DDEDBBF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BE531-44DE-4948-9173-55701DC04D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37BF-0AD0-4D74-AB1E-4567AB5417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DECFB-2787-4875-830D-E02333F029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BC76-B637-416E-BEBC-AFA056E1653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8E868-4A7E-44A2-AEB7-20D9FCD57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AEFB-AD71-45F3-BF02-8ACA099879A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0823E-0FBF-4316-852B-3DF5FFB437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2653A-CE47-4C11-A8F5-DA7957D613F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8E982-7DF1-490D-BE2E-9813858A1D6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10F93-147D-4394-B273-4B3DC771D1B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FEEB9-B32E-47BE-8D8F-83BDD0F3A30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9683F-D747-4D2A-A47D-494D18726B7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A09D5-8572-424D-B44B-5E01AB01536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D6118-2750-4011-A8CC-0511DA12092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67E33-8740-406D-9BB4-021AB7566A4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BF91D-B91B-4011-963F-64776B40C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D5E5-68EC-4E63-9DF3-D324DEC1984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C0962-3A96-4389-BD98-F1D1D7B9350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1B827A-D69E-4419-966E-D3FB9E8909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E06E53-2BE1-4DDF-AD6F-9AF7B7B268D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D239B8-CF79-40B0-AD85-157F2C2C7B8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146199-A4EB-4956-BD3C-FCD5921C09B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5FAA45-98C3-4537-AC85-5A72A75012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764684-C562-4DD6-9BF3-2B31CC6419C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82B4DE-4F43-4765-87F0-6402F7097BF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38109-7334-468A-862A-2B98BDB47B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159209-346F-4D82-B8B4-1193047A7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CD45E-D81A-4971-992F-48BE9D07E2E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792502-D75C-4583-AA23-521A0ADE11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44766E-2DFA-46BA-B8D1-260B581860B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03E8E0-D951-4C63-BBF7-EEA2344C7B6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9307F-35AA-4234-B1E1-B160C49ECA2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5B2D9-DC33-43A8-8F9A-2A7EF6D6480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DE8FB-14CC-40EF-9B32-B6CBCF36F5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0F9D-F5DB-4F90-93CA-6318E67638D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F8B6A-6E02-44D6-A33A-31AF9759A7A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29879-6D51-4514-B55C-1DC7903D746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01D25-2A32-4BBF-8A53-E30C7BF9B8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1EADB-9917-4EF3-AA4E-4C376073630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65438-666F-45B4-90FD-E8DF6CE7238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35D44-DBE6-4E3E-9D57-71245FC7DB7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C3477-25A4-453B-AE30-44DED5E6EE2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48345-78D1-4D45-AB87-6F1F6F7FE6B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BFF04-79D3-4F60-9478-2A2BEAF5D7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199E78-1F19-4807-9C34-F8DCA1E0F42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84F3DB-6187-4E92-A6CB-6799686CEE8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BF03B3-86E7-4725-AA85-FCC7365A207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B0AB9E-1082-4E1E-B00A-352E67DDF86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2096A9-845C-4C9A-9281-C8B0B5289E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4CAF2-E9DB-4E7C-88C8-6238605C064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0EB1E4-59AF-4E5D-B166-CB73B1364D5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061854-8CCA-47B5-AD39-B405285D2E8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0AD54C-51FC-4C27-A872-D085A3218DE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5CDCB2-2C75-47CE-BC68-5E606BBDC6E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CB8A01-2F18-460E-B8CE-3BD7B1C2ADE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2DFB81-15EB-4E4A-9ED2-55D6827701B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825911-8900-4C4B-BBE1-A45A306DA99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60CD0-412F-48A3-8725-4BA5824EBE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54FA8-A06C-4CE6-9C51-1291AF08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B023E-7B4E-4748-93DF-9991817D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B479F-58A3-4B8C-9713-E42B9E1BC0E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28C71-A44D-4BE6-999E-5593F2FC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5C2A7-C674-4171-AA09-15D83A5C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E134D-8F83-48A7-86BF-5C85C828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3DCB5-B69A-47A2-895D-273240C4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8928B-E4CD-47C3-BB12-5DACB8C5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796E0-7BB2-48FC-B454-42D10E9A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718F5-E6AF-4182-8D09-48F69B63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EB64D-4D95-4E03-9A0C-F3A9F6D8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027D4-A58F-4AA1-9135-F70C931E59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49192-09D2-47EE-9EDA-771EFE34C4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82964-1C01-4E85-841C-C1F4E64E5B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F33A8-4896-404A-A8AF-E6C8DCA28E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1D3F-2A61-48D4-BBDD-64BCA13BF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8D2B0-A992-4110-981D-D0CD337BFB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0ADE1-4A93-4422-9D74-541FAC3EC7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02FAB-FF7D-44BB-997A-847AD3C3B0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694FB-258D-4731-BBAC-3FCE5F525F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69BBA-09C4-447B-A125-6D8919A6D4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824C-BF15-4CE2-B9D6-A6935561AB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6519-33BA-4582-9C60-6DC9A6212B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F5B7-1485-4A88-B177-883B4D2E8F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1562-9439-40FF-BCEE-49D7C250B6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B20F-0C37-4F3C-99C6-1C8A5705B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190F-C051-49CE-92BC-30379A0F5B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AA24-5498-4BCD-8C61-DB29005070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3DB4-FE6A-4491-8E65-B2EBC818DF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6109-9D96-4E8D-9989-E9592D6224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DED2-B0CD-4AD3-9965-77C434FF86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757C-F6B6-44CF-8EB7-A503F24FF8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014B-C523-44C6-82E4-93A8648085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56A3-9442-4A54-BA97-5EF3AFC8DF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9F980-A29F-42F0-A835-70390AB3FD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EA25D-DC65-49E8-B74E-F1FA0D0C53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126D6-3783-4422-8BFC-85E3B2ADB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3FDB-5400-4920-931A-A9DC967CB6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11F04-7586-410D-BD45-FB9A2F0B22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C22A6-EF04-487F-8E13-EF01424260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5400C-4FE5-49ED-BCF2-2891881410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47F06-5B86-4ED6-9B71-38DB8E69EC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2928C-7377-48A7-AADC-9127F528E4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0D2B5-0D30-4E39-9619-CCC910AAFE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8AFCA-5E96-44CA-9C81-E0100750B4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85751-3274-49FB-B3DC-AC0870ACD1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A5422-87A6-4BF8-ADE2-17A9047433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94FBB-4249-4488-B26F-6E4F80B7E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15F6-C081-4A69-90F7-EE7298630B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C9363-61FA-48A8-BAC5-84907169A2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C1C3B-E475-43F9-90FF-03926E497B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324399-BF11-44FA-8885-BCC065ABECA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7360E-D541-4D01-9BED-F5957514D5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4175C-550E-4203-8105-04161DDD9E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B5160-F5A5-4DC4-9D52-9B4423747D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13387-655B-4923-A9CF-68CBC80F36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F9FE5-C07F-464A-BFD4-585E319DCF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64530-F909-4C20-B29E-1374035346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709EC-2103-4F06-AFA8-95A8EA637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9179-A7D8-430E-80D4-7383B44818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69C61-F96B-4AA5-80F0-D6FB532BF3A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D7C64-2111-49D7-9A4A-4A0A8F1CC41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9512-989D-4C39-AB0E-47D3AEAA7EB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45F1F-64FC-4DB4-BDAA-4DA04DEB03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44A71-FFC7-49A0-A0D9-8EF66A8FEF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80655-DF53-4DC6-93A3-A53BCBD735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9219-528B-46A2-8CB1-EE743F8F861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1E558-1B68-45D5-B418-FB385D24CE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454A9-522E-4055-AC04-6E791003F5D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80F7-FC2D-47E0-8DAD-18F4D4B6F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3D81-EAB7-41D9-BFD5-86B2E63F7CA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1A91D-9C30-4ACB-B569-7DAC952FD2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5D65-BC64-4187-A515-E285C7D5B1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2240-D10A-416B-81BF-2CD9C9B027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5664D-2D6E-4E0A-A6D2-FD5A2A692A2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14932-5496-44F2-B49F-50A55B6AC0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AC6B8-6B82-4A2C-90DA-F1CE061934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B46B7-6610-494A-8771-4923BE254A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F37EB-4822-49F7-AA20-7078CEE30A4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7BA6C-0C56-472E-901B-09D06CEC0E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3BC22-3C79-4AF1-BDCC-76385F954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1B85-F8DC-431E-A3D5-99F15CCC2C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8A27B-BCA5-4819-A831-829A8CB782A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0C636-8B7C-489E-89AC-FB0D428EA35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7DD14-68B0-4DA1-A760-CDDDD9D119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F9179-812F-4C58-B4DF-088AB0D014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DA4FC-4384-46E0-9664-8A65358135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8F97D6-5A2F-4046-883D-16DEF59E19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69C31C-EC6D-42C8-971E-50F5DB234D2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0B43F-B816-4FD0-8CB8-31983206AA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3B53C2-1AC6-41BF-AC20-2627412338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9789F9-BB2F-4ED6-80CF-E3BC2D18C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CB0D-166C-4D06-BF5E-C9DB16766B4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394CB5-2262-4A5A-A3AE-6DEFF12928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78A395-35C5-4718-9662-38AB209866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AA6908-7D2F-4367-9EFB-486409B6A9A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EF305B-1371-45C3-9B39-D9446F32121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689FB6-7B41-4913-80D3-5A8527BC9A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1592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47760"/>
            <a:ext cx="40158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1A1057-5A8C-4E95-91FE-1E4F22E090A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91592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47760"/>
            <a:ext cx="264960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EEE5BD-1C2B-4FAA-952B-4EA88843395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152F7-F9C7-46DB-9EAC-C09D1CBA8C6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C9E2-FB77-4523-9BEE-F9F9309F44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92304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443A4-9F96-43A5-AA33-E38C519FB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E168-510C-4E72-BA27-E7578E6A2B66}" type="slidenum">
              <a:rPr b="0" lang="en-GB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B9AD-2A9F-4F8C-8F15-2E3C666E1641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FA03-7505-4C87-B632-79823FDD084B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950C-33B5-4E29-B093-91EDD269A1D9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2F9F-7CD2-4448-9328-9C92C1BCF468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8DBF-DFA3-41B9-BE23-53F210337059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2C5D-EB63-4B0B-A401-28C22BDE501F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960D-2E93-4D2C-866B-83D0FC07D526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ED46-48BC-4887-B319-39F45BA3C0BD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AF5C-324E-4820-8851-30DA7C1C64C3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04AE-BD31-4098-BD95-98344D21F527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49BE-59AC-46C1-98AF-99A2DC42B8EF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D7D5-66B0-4453-9090-E89752B3B17B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197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99"/>
                </a:solidFill>
                <a:latin typeface="Times New Roman"/>
              </a:rPr>
              <a:t>European Commission, DG Competition, Cartels Direct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CAAC-D77C-4482-B924-A1A6B1AE1C70}" type="slidenum">
              <a:rPr b="0" lang="en-GB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3399"/>
                </a:solidFill>
                <a:latin typeface="Calibri"/>
              </a:rPr>
              <a:t>ICN webinar on parental liability </a:t>
            </a:r>
            <a:br>
              <a:rPr sz="4000"/>
            </a:br>
            <a:br>
              <a:rPr sz="4000"/>
            </a:b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20 September 2017 </a:t>
            </a:r>
            <a:br>
              <a:rPr sz="2800"/>
            </a:br>
            <a:br>
              <a:rPr sz="4000"/>
            </a:br>
            <a:r>
              <a:rPr b="1" lang="hu-HU" sz="3200" spc="-1" strike="noStrike">
                <a:solidFill>
                  <a:srgbClr val="003399"/>
                </a:solidFill>
                <a:latin typeface="Calibri"/>
              </a:rPr>
              <a:t>Tímea Pálos</a:t>
            </a:r>
            <a:r>
              <a:rPr b="1" lang="fr-FR" sz="3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3399"/>
                </a:solidFill>
                <a:latin typeface="Calibri"/>
              </a:rPr>
              <a:t>	</a:t>
            </a:r>
            <a:br>
              <a:rPr sz="3200"/>
            </a:b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Case Handler – DG Competition, Cartels Directorate  </a:t>
            </a:r>
            <a:r>
              <a:rPr b="1" lang="en-GB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fr-BE" sz="28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1" lang="en-US" sz="28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A862-17A9-4AE1-8951-E76C7EE59E6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The concept of parental liability in EU law 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0" y="256536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concept was developed by case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Commission must show 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he parent company had the capability of exercising decisive influence over the subsidiary that committed the infringement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t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he parent company in fact exercised this power (ICI judgement)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4C4C-8B2D-4592-94C4-D2BF1CD13046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0" y="2781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Where the subsidiary does not decide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dependently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upon its own conduct on the market, but carries out,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 all material respect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, the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struction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given to it by the parent company.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ccount must be taken, in particular, to the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economic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,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organisational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and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legal link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between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ere is a r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ebuttabl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presumption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of decisive influence over subsidiaries owned by 100% (or almost 100%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presumption can be reversed by the parent company by adducing sufficient evide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45720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C5B6-E576-45FA-822E-6C74EE1FE2E4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The concept of decisive influence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0" y="299736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EU Treaty (Articles 101 and 102 TFEU) applies to infringements committed by "undertaking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n undertaking is an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"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economic unit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consisting of a unitary organization of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personal,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tangible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and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intangible elements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 which pursues a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pecific economic aim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on a </a:t>
            </a:r>
            <a:r>
              <a:rPr b="1" i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long-term basis </a:t>
            </a:r>
            <a:r>
              <a:rPr b="1" i="1" lang="en-GB" sz="2400" spc="-1" strike="noStrike">
                <a:solidFill>
                  <a:srgbClr val="003399"/>
                </a:solidFill>
                <a:latin typeface="Calibri"/>
              </a:rPr>
              <a:t>and can contribute to the commission of an infringement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17604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A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ingle economic unit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can consist of several legal entities (i.e. companies): parents and subsidiari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1FCF-19C1-4104-A209-D9C6F09C3428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9036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79280" y="2781360"/>
            <a:ext cx="8956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If a parent company exercises decisive influence over its subsidiary, they form a single economic unit/underta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is entitled to hold the parent company liable for the infringement committed by its subsidia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Parent company and subsidiary are held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jointly and severally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liable for the infring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's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settled practice 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is to hold parents liable for the illegal conduct of their subsidiar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E2B2-479E-4F12-A9CB-D9C0266AE872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cept of "undertaking"</a:t>
            </a:r>
            <a:r>
              <a:rPr b="1" lang="hu-HU" sz="3600" spc="-1" strike="noStrike">
                <a:solidFill>
                  <a:srgbClr val="003399"/>
                </a:solidFill>
                <a:latin typeface="Calibri"/>
              </a:rPr>
              <a:t> III.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250920" y="2707920"/>
            <a:ext cx="8796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identifies the legal entities </a:t>
            </a:r>
            <a:r>
              <a:rPr b="1" lang="hu-HU" sz="2400" spc="-1" strike="noStrike">
                <a:solidFill>
                  <a:srgbClr val="003399"/>
                </a:solidFill>
                <a:latin typeface="Calibri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  <a:ea typeface="ＭＳ Ｐゴシック"/>
              </a:rPr>
              <a:t>directly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 participated in the infringement ("direct participants"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555920" indent="-4572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  <a:ea typeface="ＭＳ Ｐゴシック"/>
              </a:rPr>
              <a:t>exercised decisive influence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 over the direct participants (parent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normally pursues th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alibri"/>
              </a:rPr>
              <a:t>ultimate</a:t>
            </a: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 ("top") parent and ignores intermediate compan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alibri"/>
              </a:rPr>
              <a:t>The Commission has discretion to attribute li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CC1-3FB5-43EE-A8A0-9D5CBC4EB20C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Example 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98360" y="2276640"/>
            <a:ext cx="895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A subsidiary participated directly in an infring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it is owned 100% (or almost 100%) by its parent company – the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Calibri"/>
              </a:rPr>
              <a:t>presumption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 of decisive influence applies. The parent can adduce factual evidence that this was not the c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it is owned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Calibri"/>
              </a:rPr>
              <a:t>significantly less</a:t>
            </a: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 than 100%, the Commission has to prove decisive influence based on the fac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Final decis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subsidiary: liability for direct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parent: parental liabilit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both: joint and several liability for the payment of the f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B770-28D2-4923-9FF0-63524B6AE7C2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8000" y="177336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Calibri"/>
              </a:rPr>
              <a:t>The consequences of parental liability</a:t>
            </a:r>
            <a:endParaRPr b="1" lang="en-US" sz="36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0" y="263700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If there was decisive influence, joint and several liability for the fine seems to be justifi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More effective recovery of the f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legal "cap" for the fine is 10% of the total worldwide turnover of the undertaking – potentially higher fines can be impo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Deterrence multiplier can be applied on basis of turnover of pa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The risk of finding recidivism increases (recidivism uplif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Facilitates private damages a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D137-0A75-4B82-B873-D5186798D4B0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Calibri"/>
              </a:rPr>
              <a:t>Thank you for your attention</a:t>
            </a:r>
            <a:endParaRPr b="1" lang="en-US" sz="4000" spc="-1" strike="noStrike">
              <a:solidFill>
                <a:srgbClr val="003399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5DA-7BD6-40CA-9950-EA8A5FC7F8FC}" type="slidenum">
              <a:rPr b="0" lang="en-GB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6:14:31Z</dcterms:created>
  <dc:creator>LAINA Flavio (COMP)</dc:creator>
  <dc:description/>
  <dc:language>en-US</dc:language>
  <cp:lastModifiedBy>DQC</cp:lastModifiedBy>
  <cp:lastPrinted>2015-01-12T17:39:06Z</cp:lastPrinted>
  <dcterms:modified xsi:type="dcterms:W3CDTF">2017-09-12T07:38:51Z</dcterms:modified>
  <cp:revision>124</cp:revision>
  <dc:subject/>
  <dc:title>PowerPoint Presentation</dc:title>
</cp:coreProperties>
</file>