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9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0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1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148-8004-48A8-BC75-BA500C0C2D4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C5B8A2D-A6E4-4B0B-A3FA-6EFD014EE0B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9C61-F4E6-475A-9695-3E6862A0FED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352-236C-4449-9F80-05AB17CAFF5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FBA-1E3B-4414-BD66-10684DA6BAE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B11-78FE-4355-B53A-E64D592FB19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4057-86DB-4D40-9B43-11748ECC5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95B5-31E0-49B2-8622-4F60D42122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7432-0D2E-4333-B05F-60F62A3505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08604-5E0B-4C04-8E44-1D09FCFAC2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29D5-A067-43D9-A83C-400F33A726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5F88-CA32-41B1-ADC4-09D39D2F03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6D20-EA56-4633-90B9-7841D6A621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144B-BB7A-4933-9633-FA86BC96EE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D83E-09E5-46E3-B59B-98434BC0F7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31E6-9ECB-483B-900E-541009CFC1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18B9-0D65-428F-B386-17AEA0B585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EDBA5-5E13-45E2-85B5-84F622D50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5F6B-856B-46D3-8A80-EFB89B278F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B5EC2-5389-4719-911D-0D1592FE60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83DCB-C3D0-482C-AAE2-708AA1E991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44236-4C0B-4F32-9209-4D69D8956F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30A6C-CE47-4656-B01A-690FD355CC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EE039-EE7A-4F53-96F8-2C93B3A996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7D2B8-AA45-4B5E-9DA8-519997C9BB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380AE-71FC-49EF-9929-6D7507B896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43BC0-5A7D-486E-B330-669475F091E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05CC6-D567-4805-8849-C0B262DF85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81365-7029-481F-B928-F433F02D3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1D1D-560C-41CF-A0D9-1B28069BA50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6145E-3312-404E-8F92-21DCFD1D52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EE431-F1FC-4E56-9914-90ED4087CB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F1C66-0186-4BD4-828D-95D491179E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FAE9B-345B-4610-AEC9-104D8311C0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DFD2C-A517-4D9F-BC4F-DB62E3C157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AF5BA-23C6-4E89-A304-158A70BDD6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2E308-E471-4112-A67E-F5A402F4BE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4C2F1-3886-4E24-8DAA-AE7D6AC8314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0FE76-6EED-482B-9EA8-E8108F64D5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8B714-C72B-4074-BADC-9D2C177E5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A5F5C-C5ED-46FF-BF12-09E3CA5F5F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C184F-AC28-4E48-9CF9-E3B47733B38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11485-75FC-4A92-A4D1-A23FF58EA5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315C8-5DC6-4F10-8B8F-916861CE39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DD5D-E415-469F-91C7-B92EC49E16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D706-EC7A-4F2D-A493-0E93C8A54D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5770F-B1A7-4A93-A78B-7402CEB10F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8412-9B24-4276-A589-1032781E836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4F906-41D7-4863-9D22-7EAFC5170D5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5014-1507-4069-8A15-DD06BCFDB6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8B997-763A-435D-A7B8-603A8BA80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0F7E2-4CA1-4FB5-88F8-18B48B25528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306E-1031-4CED-AACF-04BC97A54F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87AEC-351C-4FA3-9376-5068105F2B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73DE-A583-4946-81B5-47C75E8A47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81E3-0C50-44ED-B950-B7CC6FBA0F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2C0B-CEBE-4F45-A04B-10B8C739FC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8ED98-4AF5-4DD9-97A7-3ACC9D07288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B87B2-859B-48F1-A1A8-DDD0E85DCF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04214-66AD-48A6-A933-656468B8D8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46E0D-B88C-4206-82EF-26220832B6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266D6C-3939-411A-A498-6AB9D5FF73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06084-766C-4304-ADE9-2980B822B4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E982E-A0F4-4FC0-9752-53CCFD7543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11761-36C4-479B-9258-D5CE4B5AAA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AC9302-7FF3-406A-AC57-A470D5EE5B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BDAD0-32EE-4331-B860-B4FC755592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46612-E267-4151-9027-78CB1127A5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63FCE-C9BB-4EB4-AAEC-E938E72A95F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44C6FA-031A-4BBE-B8E7-C4FD19D204A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CBB17-406C-4CDF-B24B-FBFD39EA8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2BB76-A079-41E0-AE20-19119D8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55050-63D8-4CAD-8C5F-21D4C2B6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5217-F074-4ACB-8D0A-F0428C0C7E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D8574-2AD0-4318-988B-0B25040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26E91-EF3D-4B8C-B97D-41A24FE4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606BE-BBFB-4FCA-9A90-986FC78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7AA72-E003-4D38-9405-795A89B2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D8DE3-7581-4DFF-B7E1-87C60F1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88891-2032-42B9-B2C1-25B28D26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10DB5-6E0B-4C74-B770-3DF480B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8793A-B4FA-4D52-A3A7-C0D9DF4A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52622-8FFF-4DF1-9DA6-D197138DA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36B27-2C3B-434F-9610-AF463304FC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3B6EC-3C9D-4D28-8376-2098DDC7A6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2F5E6-3EA0-4DB1-9B82-ECCC59DFA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0809-23BE-47C9-A2C0-210AE34F3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0FE0-1476-4673-A3F1-A421D9E93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5B4F-EADC-4C94-A7F3-D0D508443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8BF6-3C8D-4B41-A71D-0F89AC31DF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57B07-FA90-485A-AEB6-A7CB15406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EC6CD-6958-4126-A197-875A5A27E1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6B87-744E-4FEE-ADEB-96CFC9B353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12A-B311-4413-8502-CC67566312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2AA8-9D12-4339-93D4-8ABFBBE78A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AB3-1225-4404-8630-DCF890B71C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2506-93BB-40ED-BF28-183B75AA5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6B23-AC6D-4017-A7CD-F764A9353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C18-1DDA-4F86-9DD4-DBB21CA24F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42A-DFE9-47A0-98E8-E625BC3C2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ABA-C849-4DCD-9052-9730350106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1C6-0ADB-4D3E-B2DD-B637072A67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5684-1D6E-4ABA-A4F0-EA880BA64D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61A-4E5B-45EA-B217-D330826396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E21E-E545-4A60-9F2F-4A557585CF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3B09A-3F2A-48F7-9972-B173A03C76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E65E5-D89A-4E1A-A50B-4A1D15E953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76641-65D2-4C24-B6CA-AB63210AF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6841-F17C-4D9E-A169-93F20C0051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6092-9D72-41F0-9974-DE53385178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6DDF2-7B85-488A-AFC5-088241DB11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601B0-5FB1-4377-BF66-D7D168238B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17848-EE9A-42A0-9F37-C932345955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5CE3F-BD1F-4B7D-9EAE-DB034DF0B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86646-9261-4D5D-9377-C491CFA07A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D6DA2-5796-4130-B861-942265C190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BDE6C-DE3C-49F1-AE6A-D3DED3C793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3193A-49CC-43EF-9907-EF8B0579C9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1B96A-7F99-4B52-8D16-6BF9711E8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A589-039E-40BB-B1F5-AB65CA4B8A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0052F-B8C1-40A9-A0E6-909CA6F7BD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D7BD1-9F0F-4DCE-9742-0F7E4E389D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04857-4547-4A33-8F61-38D8BCECB0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170F6-AA9B-4D77-ACD2-352DCF7C7C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4E539-C869-4E19-97B8-11E9CDB27F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812A3-627E-461B-BDF6-66DA0B0FEB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035CE-1DC2-432B-842C-7175EAB272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312FE-F2A1-47F7-ABF9-5C7A0DB472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82068-2DE9-4861-8997-958671EE6B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A03C0-8299-44E4-8009-1EEFD4DDE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083E-7A0A-4FD0-B129-66E5200D3E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9D252-A039-4524-80C9-22479AF9B6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EDB4-876E-40E5-BEDF-74FE2287B9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A24E-2D17-46EC-8C6D-1DAF83D743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D6D4-7E28-440E-BCFD-F406FB4F4E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AC3D-5A75-4651-944A-2994A26B53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40A0-BC8B-4BFC-9789-1FB0CEE1A9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1DD5-2E5D-448E-9A8B-AAEBDD7BF3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3833-C853-4013-A261-914BC475E4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C4E2-EA5D-4123-9C3D-21EAC3E34C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7FA6-6038-41D4-A659-0D997D68D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2F04-1BF7-4AED-B36F-BF929DE60F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AE30-6E0A-446A-91F9-1BC4503EAC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6E7F-83DC-46F9-88A1-CB3FFCD372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D057-1BC5-479E-A592-F10556AD87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59406-FE2F-4A44-959B-A7F70A179A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65792-0034-4296-BB19-EBCDEEB9EB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52462-9D87-42D7-A36D-CE0CA72EFF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26CD5-F42D-4CA1-99AC-19EB1EE824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6E418-03F0-4054-ACFC-B2EC998781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9BF6C-1029-480D-B7EA-C29D376D4E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024F8-9B01-45FB-B1B0-32CFCF3F9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EBF0-0744-436F-AFBF-711ABB93237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030BC-A2E0-4933-AB6C-A33B08F212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C5E79-6245-4D59-B315-403BB1A387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EB522-0FC0-4D0B-AD3C-95C6562B10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222F7-C68A-4456-8A10-C7740EB810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B8B89-3B46-4823-8F5A-7C842E6D82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8C2935-A9F9-4BA5-8827-C38C89E577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D21168-8820-4800-A5CD-C0B18D77F1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3CE979-95B7-4E9E-9922-4AC2DDB5C4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BB94A-DD6C-4006-B438-79427E6DC0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071457-274D-4C3A-986D-59D998C19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A8A8-5CDB-4B84-8F87-16EA8C6D40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950BF0-4F17-4BB6-926C-D89AF6A66D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5F694-9D0F-4094-8FD3-12A7E2729B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D9F6F-3C87-4A02-AC2C-39E68D510A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5A0AA-1806-4D75-8BD1-E2AD2032D2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DA8D5-30C4-42AA-BD74-E2302F1151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3C301-CCAA-4C3F-8A72-5FADB8CFB3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5760D-F39D-40A7-B0AA-F5AD77E8CD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0930-ECA2-47E6-8E48-6AE86BE9F0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389E-FB70-44A4-8D46-58412805F1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5E63-1491-4109-B314-03B5C20C2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C38-B401-40CF-9C59-3C4C943A6130}" type="slidenum">
              <a: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0F8-5261-44D9-B1ED-C3D41E225EB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10D-B50C-41D6-9717-8C298416CDE6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8259-3803-4C61-BE97-37E70BB815D2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E5E0-BCCF-4320-A76D-295B612BB7EE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F9C3-7AF3-44D7-8B85-4E794B9204B0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198-01BA-4F60-866F-0FAFC0001A62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C29-CB84-4EDA-85C7-92242235AE6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053-D123-4EB8-AD48-28D85B5C974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550-4B7D-40FA-86BA-4E26F80DF595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2C91-3456-4F32-8790-0DDDBC7978D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5EB-02E3-4630-ABFD-D85A3D41E86C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AA44-FCA6-4CC0-A8C3-5B33A53AAF46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006-5548-42C3-9D4C-1BAF28A7BFF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3399"/>
                </a:solidFill>
                <a:latin typeface="Calibri"/>
              </a:rPr>
              <a:t>ICN webinar on parental liability </a:t>
            </a:r>
            <a:br>
              <a:rPr sz="4000"/>
            </a:br>
            <a:br>
              <a:rPr sz="40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20 September 2017 </a:t>
            </a:r>
            <a:br>
              <a:rPr sz="2800"/>
            </a:br>
            <a:br>
              <a:rPr sz="4000"/>
            </a:br>
            <a:r>
              <a:rPr b="1" lang="hu-HU" sz="3200" spc="-1" strike="noStrike">
                <a:solidFill>
                  <a:srgbClr val="003399"/>
                </a:solidFill>
                <a:latin typeface="Calibri"/>
              </a:rPr>
              <a:t>Tímea Pálos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br>
              <a:rPr sz="32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Case Handler – DG Competition, Cartels Directorate  </a:t>
            </a: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BE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25D-CBE8-4763-B67D-0D45942210F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parental liability in EU law 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ncept was developed by cas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mmission must show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had the capability of exercising decisive influence over the subsidiary that committed the infringement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in fact exercised this power (ICI judgement)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B451-819D-4BC5-A117-6BAA3FC940E3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Where the subsidiary does not decid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dependently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upon its own conduct on the market, but carries out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 all material respec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th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struction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given to it by the parent company.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ccount must be taken, in particular, to the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organisational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egal link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ere is a r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ebuttabl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of decisive influence over subsidiaries owned by 100% (or almost 100%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presumption can be reversed by the parent company by adducing sufficient evid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78B-3D25-43BE-A29F-216304284E7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decisive influenc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EU Treaty (Articles 101 and 102 TFEU) applies to infringements committed by "undertaking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n undertaking is an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 unit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consisting of a unitary organization of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ersonal,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tangible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tangible elemen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which pursues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pecific economic aim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on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ong-term basis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and can contribute to the commission of an infringement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ingle economic unit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can consist of several legal entities (i.e. companies): parents and subsidiari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B4B0-EAD6-4462-9ADD-2EA13FE530D3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8956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f a parent company exercises decisive influence over its subsidiary, they form a single economic unit/undert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s entitled to hold the parent company liable for the infringement committed by its subsidi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Parent company and subsidiary are held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jointly and severally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liable for the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's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ettled practice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s to hold parents liable for the illegal conduct of their subsidia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0B7-513E-401B-928B-15345DDD5956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796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dentifies the legal entities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directly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participated in the infringement ("direct participants"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exercised decisive influenc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over the direct participants (parent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normally pursues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ultimat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("top") parent and ignores intermediate compan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has discretion to attribute li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386D-F768-4C5D-BC4C-673C8BEC5D86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Exampl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98360" y="2276640"/>
            <a:ext cx="895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A subsidiary participated directly in an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100% (or almost 100%) by its parent company – 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of decisive influence applies. The parent can adduce factual evidence that this was not the c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significantly less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than 100%, the Commission has to prove decisive influence based on the f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inal decis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subsidiary: liability for direct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parent: parental lia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both: joint and several liability for the payment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4CC7-6FED-4B3A-9D8F-755CD1BABCA8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177336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sequences of parental liability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there was decisive influence, joint and several liability for the fine seems to be justifi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More effective recovery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legal "cap" for the fine is 10% of the total worldwide turnover of the undertaking – potentially higher fines can be im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Deterrence multiplier can be applied on basis of turnover of pa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risk of finding recidivism increases (recidivism uplif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acilitates private damages a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49EF-8F19-4F53-B881-EF3A8E8B74C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Calibri"/>
              </a:rPr>
              <a:t>Thank you for your attention</a:t>
            </a:r>
            <a:endParaRPr b="1" lang="en-US" sz="40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D5B-FADA-4132-BA37-D359E44BFC2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6:14:31Z</dcterms:created>
  <dc:creator>LAINA Flavio (COMP)</dc:creator>
  <dc:description/>
  <dc:language>en-US</dc:language>
  <cp:lastModifiedBy>DQC</cp:lastModifiedBy>
  <cp:lastPrinted>2015-01-12T17:39:06Z</cp:lastPrinted>
  <dcterms:modified xsi:type="dcterms:W3CDTF">2017-09-12T07:38:51Z</dcterms:modified>
  <cp:revision>124</cp:revision>
  <dc:subject/>
  <dc:title>PowerPoint Presentation</dc:title>
</cp:coreProperties>
</file>