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dt" idx="29"/>
          </p:nvPr>
        </p:nvSpPr>
        <p:spPr>
          <a:xfrm>
            <a:off x="389880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Img"/>
          </p:nvPr>
        </p:nvSpPr>
        <p:spPr>
          <a:xfrm>
            <a:off x="96516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ftr" idx="30"/>
          </p:nvPr>
        </p:nvSpPr>
        <p:spPr>
          <a:xfrm>
            <a:off x="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 type="sldNum" idx="31"/>
          </p:nvPr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3FE5-FDDC-4DD7-B375-B7624814450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542673D9-F1E4-44E9-9709-880F739ACF44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0D80-85A2-4988-BC32-34080C2351CE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759D-6A66-4E77-85B5-821C43C123F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3D1A-7A48-4A30-9FF9-27CCBFBDC85E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D978-9D68-428A-AC76-71EE5F9AB295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CB44C-3CD3-4EB3-A83E-023A1236A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6471A-0C60-4AEC-A2E3-801ECC4906E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043C1-69E5-4BBF-B48D-6DC886C5C56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307F6-4E53-41DB-9C46-3BCA22816EA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E283A-6A98-4868-A6F6-32807EB7257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6BA38-34D2-41E1-8C7A-81A78FB3E87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38767-4005-4B71-A790-C7E4ED193CB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03AF5-FB86-44F9-BA9C-57D207550F5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BB737-27DE-409E-BEC2-9F07D7AD1EF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486C8-E71D-4A2D-8F91-D879398542E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8E79D-E751-4B60-AC75-6E95735388D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E65B74-C0E0-41C0-A6DF-89AF5DEC3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9CAE4-DD05-46C2-9A71-2DE456CEC9C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17C980-0931-4212-9EFE-C4DE302C049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25BAD9-CCCF-4AA5-A007-D08E8962C43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380967-1484-4D5A-89B8-466469A25D5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BACC3B-E37D-4368-A5D0-B72FEE1D777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B1C924-020D-48FA-8E2F-C0CBAF0AC55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069A94-95F8-4253-9DA3-F69D50F71BE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85E7C1-1A79-4D72-9B63-73A93031D16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0B332C-EBE8-48B6-95B2-72D70D99B98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EAC574-F6A9-4C9E-9CF1-C4D6121A52F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ADC7D3-2620-478B-AB18-FE1C48839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EBF7D-2155-4032-AAF5-A84E1F40618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F8EADD-EA4E-4418-B0EF-8D8FA686282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52230C-9E7C-427E-8702-EBB3AA0332F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3A14AA-2761-4552-BE89-0329DB3708F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480376-268F-4097-AB69-A638FEFDFE6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8C45BE-14FC-47F6-9B0A-EB666EAB9E5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5FE36B-9268-4FF3-9E78-6BAE15D47E2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8E3FC4-9279-4728-93B5-2B97BC9632A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3C1A71-2E9B-437A-A79E-E6F7790371B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9BF1C4-0D39-4DB8-AA42-6C528DD01A3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DAF758-1C81-48A6-9D06-755A53D91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A6DE1-6AE6-47C1-A31D-52715C1272E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087010-ED1D-4E8D-B6EC-00764B2D392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7A9AF6-3689-4F29-9180-95A8D8E9E0B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5943DF-F87D-4F94-9086-F071AC86BB3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BF780-9CB4-4FAD-AFB1-FF089DD63E9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80144-6E46-4CA7-9814-E0BD3812041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CA7FA-3814-4707-AD3E-D0D69D1367F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F8F96-A6B2-48E7-8FCA-12275823CBB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FE8D5-D705-4AC6-8577-EC9390E50DE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D4693-DD78-4A21-A12E-5A157F279B4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38F43-990F-4C0F-A18C-6C2A4E9CA7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87BF9-E646-4F9E-9B79-606B651FF61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BB77B-6177-4E63-B86F-323CA791983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FF98A-68FE-42B1-A42E-1C0A118BCA7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8F62F-5596-4580-82B7-7B6D7A585B5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89157-7E17-4DF7-A4D0-2AA01C243E6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7EA05-66DC-4D19-85A0-7E79CFE03D0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6E598E-61FD-4D25-804B-8E9B8697B83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914DF3-85CA-4061-9B9A-69A416F4392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048FF7-FD62-410A-9562-796C8BF6F9A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17491F-A495-47A5-B8B5-BB5B3E9C2FA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0AF137-4C10-433D-8A6F-3F89A49DE7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CF7D4-569A-4CAD-B341-F82FAF83D2A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3132B1-33FE-4888-A880-A9FAB4B88BD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C4E4A2-0754-40B4-A528-0DCDAB51A5B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C5B7B2-C985-482A-B441-EEEAB75126D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5E2CA0-8B9D-4BA0-A00C-E267DE9BA82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C3B07F-3630-4B51-AE6E-075EEAB5ECA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B1CE59-1B10-4A24-A4C8-8BA3CDD74FF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DDFC0D-5A6F-463B-8679-27CB6AEB3CC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DD3A6-B918-491A-9744-16C2B8E7F8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B5CDDD-7950-4A62-9755-848B3393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D2BE8-2073-4ED7-99B8-6D9CBE4A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E9B8D-0A75-4F09-A710-3432E538B34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996FE8-528A-4B24-9939-0A06274C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42DBE-898E-4D3C-A141-0BD5FA05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B45E13-6A76-492D-95C6-3BC7FE6B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E37FEB-1E8A-4E35-BBC9-32B899D7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164E4-713E-4AF5-8123-A5F8DD4A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D1DD1F-E58E-480B-A849-9A657F26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34E59D-3905-4945-A2DF-76137CFC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CB0967-9D12-4387-A54B-A24A29A8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EB922C-349D-489B-B204-D62E3AA54A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EA4FB-157A-4A28-BBE7-5128723D6A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0621C-35C5-42C7-A08B-675BAEE7E2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CF07A-CBCA-4506-8E7B-53A0DBD6BE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8FB64-5A0F-46E2-9BA8-7444DC25B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B02A7-2DFF-494D-9D33-58350358E5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DAA33-DE87-4535-8649-8DAB524C94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7872F-449A-4B2C-9152-4415F0208C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2308D-4991-4D34-BC86-F3A1CA0478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B9631-47D0-4536-949D-B649811413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870A-E506-451A-86B6-C36DBE4755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B5D4-0CA3-43D8-8A99-528CC441AF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1428-2E00-476A-9E31-ECC9FACF12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B22F-B941-4BA5-A0DC-A4EB1A7E2D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2286-9A57-49C9-9E0F-7194A40C60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3F981-20FB-417C-A241-93C216EB49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4E0E-D72E-4EDA-B78E-EA019CD849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3DF1-A535-4CD9-BE68-DE644EC549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4F25-682D-462F-81F6-F14F0062D2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D3F9-2F40-4399-802B-62C8141017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F575-CB44-4C60-B752-FF3D860D03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0D3B-3B61-44BD-937E-A976A42577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60AA-2695-46B3-8028-02757BFC67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8B0EC-192D-4947-BB07-F0AE3E22A7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81197-6C72-4973-919A-5047493D59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F0E9B7-80DE-4D24-8CED-93E3DF8C3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AB3CE-F2D8-4996-AEA3-EE74436C9B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962C97-2325-45A2-AA6A-BABFC18D3E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0756C-2855-42E4-B2DA-3477CDFDAA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36616-3420-4119-9729-F9370B45C2B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60CB4-00C8-4400-A8CE-F74EC1A8FD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36632-CB14-4E00-A04D-ABEDE10865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E01097-B75E-45E7-BA96-182C74E658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3F1FB-85D1-4EC4-A1CC-95CB4F6B90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34195-746B-4900-9445-A6FE3B68907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ABB07-9E77-4724-862E-69FB1F26C3B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380897-288F-4B95-AE9F-2554BE264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161CB-8C43-4026-A0FF-17D6D1E8213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FF99EB-B68D-457A-9F18-C56C8E9F3A3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D97C12-6175-4109-9721-C08061BFE24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7C8CF1-C750-48C4-B605-C8577DDA529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EA1BE9-6869-4E65-9558-282A6D1C34F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AD946C-0E9C-443A-A7E4-E0D10B03152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302C36-5454-48EC-B1EA-8BF8E6B5E3F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78CFCA-723A-4288-BD7B-DD74E445721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860DB9-8684-4C63-90E5-5284A9EC66B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330EDC-A0BE-4B54-B2B9-A7DCC8413A4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18B8C6-8AE6-449D-884A-B96F08B49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48B03-22AF-4E48-A7D5-ED6E6AF7E3A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7AD3CA-1E50-486B-9470-C5126D5470A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D5601-9C7A-4535-A2F0-3EB5C1C0F9D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24DC2-0DF0-42A8-A72D-2CF6F82A2BD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A2D0B-8988-428F-BEF4-8FBD4EC94D4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BD81C-0117-4925-BD14-10A9AA1D8F0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B1FB6-1622-4F60-9204-D7B32836205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46D2D-116A-4FF4-921E-3312FEA3216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D42F3-756B-4898-A7AE-F268A7FD002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F411E-C995-4A9E-955B-E4F59F21F3C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1EA04-6332-46AD-8A19-782B65132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F9550-333B-4226-A207-83B71538AB9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AA72D-19FA-4CE9-9176-740FA203850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C2696-08C3-4E5D-A365-947F4A16042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F57FF-3DBC-490F-A7FC-14CA9942A17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E5CE40-F7DB-4D3C-B019-F79BE4B74AE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349936-9C54-43BD-8D97-201089EC6A8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F3A9F3-3415-46E0-B2B9-9B19D4B491E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3BFFF0-7172-44FD-9EDC-18ECA33FFA0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E7C835-C30C-4E31-80F5-A1FABCCB7FE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AE14DE-D72E-49A0-86C1-DECDA6F76EA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509356-C59B-49D7-9FC5-D2FDAF108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A3824-942D-4C98-8B8F-A76FC8B62B9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C85FE-145C-4947-8530-4F2A5B7C6AF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C0998D-8036-443F-9ACD-6619AEC3853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19380D-7273-47F8-BD3F-96D337D3995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2237FB-BC09-4F4D-BFD4-C9940EABAC7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825988-E182-484E-984A-423DE24850B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D5C0EB-E72C-4462-AE1A-0BB6F5DB421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C95600-622D-4495-B2DE-424DFE857E8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6C58DD-98CB-4DE8-B220-EE2E01EC286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553831-C0F8-46A2-9408-DAB939D2292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D423AA-9F7A-4253-B9EF-8E0461918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15688-A43B-4121-8EA4-E0771FF6F21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B0309F-7F10-4D20-9E21-BFEE4F6B454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8EAABD-9DDF-424A-974B-31198BE98BF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31C8F6-7EC5-4FCE-ABDF-6FEE3DF22EA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55BF76-5842-4E76-BA65-00A6BDCE43C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BD7680-E014-4F18-BECA-517E8F92B49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31EBC7-F043-465B-B7A8-3F52392FAC5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703954-84E4-49F6-A466-D6DB58A0069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60B8E-9455-4017-82E7-5E6FAE34525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BC7C4-25D5-4313-9E60-3101422186F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B1EB8-8433-4FA4-8CBC-D5B818501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2052-3A31-45A7-9A90-7991C0B87A52}" type="slidenum">
              <a:rPr b="0" lang="en-GB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4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9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CB53-FFCE-4123-9764-E21E8097BE59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FD52-0383-4F7F-BF6A-9D4EA2242058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3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8800-49FA-479B-9A95-E3712117E4D7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25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2E98-3C88-46B9-AAEF-03577E5FD543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7" descr="logo_for_ppt"/>
          <p:cNvPicPr/>
          <p:nvPr/>
        </p:nvPicPr>
        <p:blipFill>
          <a:blip r:embed="rId2"/>
          <a:srcRect l="11310" t="0" r="11053" b="0"/>
          <a:stretch/>
        </p:blipFill>
        <p:spPr>
          <a:xfrm>
            <a:off x="0" y="0"/>
            <a:ext cx="9144000" cy="17431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4" descr="small box COMPETITION"/>
          <p:cNvPicPr/>
          <p:nvPr/>
        </p:nvPicPr>
        <p:blipFill>
          <a:blip r:embed="rId3"/>
          <a:stretch/>
        </p:blipFill>
        <p:spPr>
          <a:xfrm>
            <a:off x="4140360" y="6446880"/>
            <a:ext cx="852480" cy="4381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9" descr="Letterhead_A4_EN3"/>
          <p:cNvPicPr/>
          <p:nvPr/>
        </p:nvPicPr>
        <p:blipFill>
          <a:blip r:embed="rId4"/>
          <a:srcRect l="0" t="0" r="0" b="4977"/>
          <a:stretch/>
        </p:blipFill>
        <p:spPr>
          <a:xfrm>
            <a:off x="0" y="1341360"/>
            <a:ext cx="3851280" cy="551664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3A9B-7030-4B32-AB65-51050FE5BD22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BCDE-C164-4209-8150-0E5D12122E50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3B76-3FB5-4FB0-AB41-DC1AD3172BEE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A440-3B03-4464-8CAB-67F70C1825A1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2429-C741-4B6B-AC63-110B02EB811B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ACA3-5A22-4C2F-ADB1-6827CC9AF092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3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63E4-87BF-4E44-870D-5079E5BE274D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5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A350-9511-4931-90A6-A0038C2684A0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7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7968-6A3A-4D9F-ABED-ABE6467EA31A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3399"/>
                </a:solidFill>
                <a:latin typeface="Calibri"/>
              </a:rPr>
              <a:t>ICN webinar on parental liability </a:t>
            </a:r>
            <a:br>
              <a:rPr sz="4000"/>
            </a:br>
            <a:br>
              <a:rPr sz="4000"/>
            </a:br>
            <a:r>
              <a:rPr b="1" lang="hu-HU" sz="2800" spc="-1" strike="noStrike">
                <a:solidFill>
                  <a:srgbClr val="003399"/>
                </a:solidFill>
                <a:latin typeface="Calibri"/>
              </a:rPr>
              <a:t>20 September 2017 </a:t>
            </a:r>
            <a:br>
              <a:rPr sz="2800"/>
            </a:br>
            <a:br>
              <a:rPr sz="4000"/>
            </a:br>
            <a:r>
              <a:rPr b="1" lang="hu-HU" sz="3200" spc="-1" strike="noStrike">
                <a:solidFill>
                  <a:srgbClr val="003399"/>
                </a:solidFill>
                <a:latin typeface="Calibri"/>
              </a:rPr>
              <a:t>Tímea Pálos</a:t>
            </a:r>
            <a:r>
              <a:rPr b="1" lang="fr-FR" sz="3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3399"/>
                </a:solidFill>
                <a:latin typeface="Calibri"/>
              </a:rPr>
              <a:t>	</a:t>
            </a:r>
            <a:br>
              <a:rPr sz="3200"/>
            </a:br>
            <a:r>
              <a:rPr b="1" lang="hu-HU" sz="2800" spc="-1" strike="noStrike">
                <a:solidFill>
                  <a:srgbClr val="003399"/>
                </a:solidFill>
                <a:latin typeface="Calibri"/>
              </a:rPr>
              <a:t>Case Handler – DG Competition, Cartels Directorate  </a:t>
            </a:r>
            <a:r>
              <a:rPr b="1" lang="en-GB" sz="28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fr-BE" sz="28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1" lang="en-US" sz="28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2E5C-F216-46FF-AFA5-17CA916B8326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The concept of parental liability in EU law  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0" y="2565360"/>
            <a:ext cx="9144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The concept was developed by case l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The Commission must show </a:t>
            </a:r>
            <a:r>
              <a:rPr b="1" lang="hu-HU" sz="2400" spc="-1" strike="noStrike">
                <a:solidFill>
                  <a:srgbClr val="003399"/>
                </a:solidFill>
                <a:latin typeface="Calibri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555920" indent="-45720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t</a:t>
            </a:r>
            <a:r>
              <a:rPr b="1" lang="en-US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he parent company had the capability of exercising decisive influence over the subsidiary that committed the infringement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555920" indent="-45720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t</a:t>
            </a:r>
            <a:r>
              <a:rPr b="1" lang="en-US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he parent company in fact exercised this power (ICI judgement)</a:t>
            </a:r>
            <a:r>
              <a:rPr b="1" lang="hu-HU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7A13-9070-4A15-80CB-B8F725AED57A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0" y="278136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"Where the subsidiary does not decide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independently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upon its own conduct on the market, but carries out,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in all material respects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, the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instructions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given to it by the parent company.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Account must be taken, in particular, to the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"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economic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,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organisational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and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legal links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"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 between th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399"/>
                </a:solidFill>
                <a:latin typeface="Calibri"/>
              </a:rPr>
              <a:t>There is a r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ebuttable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presumption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 of decisive influence over subsidiaries owned by 100% (or almost 100%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presumption can be reversed by the parent company by adducing sufficient eviden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25FA-E88D-4D4D-B7E7-FF32E76433CC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title"/>
          </p:nvPr>
        </p:nvSpPr>
        <p:spPr>
          <a:xfrm>
            <a:off x="0" y="1773000"/>
            <a:ext cx="914400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The concept of decisive influence 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Calibri"/>
              </a:rPr>
              <a:t>The concept of "undertaking"</a:t>
            </a:r>
            <a:r>
              <a:rPr b="1" lang="hu-HU" sz="3600" spc="-1" strike="noStrike">
                <a:solidFill>
                  <a:srgbClr val="003399"/>
                </a:solidFill>
                <a:latin typeface="Calibri"/>
              </a:rPr>
              <a:t> I.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0" y="299736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1720" indent="-17604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EU Treaty (Articles 101 and 102 TFEU) applies to infringements committed by "undertakings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17604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An undertaking is an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"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economic unit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consisting of a unitary organization of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personal,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tangible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and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intangible elements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which pursues a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specific economic aim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on a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long-term basis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and can contribute to the commission of an infringement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17604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A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single economic unit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can consist of several legal entities (i.e. companies): parents and subsidiarie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AE17-B162-42D2-9F7D-9E48DAF9C313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8000" y="1699920"/>
            <a:ext cx="9036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Calibri"/>
              </a:rPr>
              <a:t>The concept of "undertaking"</a:t>
            </a:r>
            <a:r>
              <a:rPr b="1" lang="hu-HU" sz="3600" spc="-1" strike="noStrike">
                <a:solidFill>
                  <a:srgbClr val="003399"/>
                </a:solidFill>
                <a:latin typeface="Calibri"/>
              </a:rPr>
              <a:t> II.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79280" y="2781360"/>
            <a:ext cx="89568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If a parent company exercises decisive influence over its subsidiary, they form a single economic unit/undertak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 is entitled to hold the parent company liable for the infringement committed by its subsidiar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Parent company and subsidiary are held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jointly and severally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liable for the infringe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's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settled practice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is to hold parents liable for the illegal conduct of their subsidiar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5FD8-3A77-4661-A4F2-EA46BB746972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Calibri"/>
              </a:rPr>
              <a:t>The concept of "undertaking"</a:t>
            </a:r>
            <a:r>
              <a:rPr b="1" lang="hu-HU" sz="3600" spc="-1" strike="noStrike">
                <a:solidFill>
                  <a:srgbClr val="003399"/>
                </a:solidFill>
                <a:latin typeface="Calibri"/>
              </a:rPr>
              <a:t> III.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250920" y="2707920"/>
            <a:ext cx="8796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 identifies the legal entities </a:t>
            </a:r>
            <a:r>
              <a:rPr b="1" lang="hu-HU" sz="2400" spc="-1" strike="noStrike">
                <a:solidFill>
                  <a:srgbClr val="003399"/>
                </a:solidFill>
                <a:latin typeface="Calibri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555920" indent="-45720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  <a:ea typeface="ＭＳ Ｐゴシック"/>
              </a:rPr>
              <a:t>directly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 participated in the infringement ("direct participants"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555920" indent="-45720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  <a:ea typeface="ＭＳ Ｐゴシック"/>
              </a:rPr>
              <a:t>exercised decisive influence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 over the direct participants (parent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 normally pursues the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ultimate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 ("top") parent and ignores intermediate compan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 has discretion to attribute liabili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6E74-21D4-442F-A24F-6146C03DCD1D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Example 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198360" y="2276640"/>
            <a:ext cx="8956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A subsidiary participated directly in an infringe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If it is owned 100% (or almost 100%) by its parent company – the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Calibri"/>
              </a:rPr>
              <a:t>presumption</a:t>
            </a: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 of decisive influence applies. The parent can adduce factual evidence that this was not the cas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If it is owned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Calibri"/>
              </a:rPr>
              <a:t>significantly less</a:t>
            </a: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 than 100%, the Commission has to prove decisive influence based on the fac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Final decisi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4272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subsidiary: liability for direct particip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4272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parent: parental liability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4272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both: joint and several liability for the payment of the fi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419C-00FC-42EF-A520-22716CBC3A92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8000" y="177336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Calibri"/>
              </a:rPr>
              <a:t>The consequences of parental liability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0" y="2637000"/>
            <a:ext cx="9144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If there was decisive influence, joint and several liability for the fine seems to be justifi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More effective recovery of the fi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The legal "cap" for the fine is 10% of the total worldwide turnover of the undertaking – potentially higher fines can be impo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Deterrence multiplier can be applied on basis of turnover of par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The risk of finding recidivism increases (recidivism uplift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Facilitates private damages ac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AA33-F94E-42AE-839D-0085FCFD0014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99"/>
                </a:solidFill>
                <a:latin typeface="Calibri"/>
              </a:rPr>
              <a:t>Thank you for your attention</a:t>
            </a:r>
            <a:endParaRPr b="1" lang="en-US" sz="40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71CF-1A8E-430A-9E68-BBE43ACD465B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6:14:31Z</dcterms:created>
  <dc:creator>LAINA Flavio (COMP)</dc:creator>
  <dc:description/>
  <dc:language>en-US</dc:language>
  <cp:lastModifiedBy>DQC</cp:lastModifiedBy>
  <cp:lastPrinted>2015-01-12T17:39:06Z</cp:lastPrinted>
  <dcterms:modified xsi:type="dcterms:W3CDTF">2017-09-12T07:38:51Z</dcterms:modified>
  <cp:revision>124</cp:revision>
  <dc:subject/>
  <dc:title>PowerPoint Presentation</dc:title>
</cp:coreProperties>
</file>