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834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83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1"/>
          </p:nvPr>
        </p:nvSpPr>
        <p:spPr>
          <a:xfrm>
            <a:off x="389880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33280" y="693720"/>
            <a:ext cx="46162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move the slide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"/>
          </p:nvPr>
        </p:nvSpPr>
        <p:spPr>
          <a:xfrm>
            <a:off x="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3"/>
          </p:nvPr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6828-2C19-4077-A8B7-84C4521CA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8A79-24F0-4899-9AC2-525632231875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FA24-F904-488A-B6E1-DC7DCC654BED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EE74-22F5-482C-B84E-A0CDFAC2DB1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529-F360-4064-AF2C-F79DDE777A30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3319-C635-424B-A38B-7159DED0B74D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9C96-9BEF-41BE-905F-794E8C5B70DB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7934-3281-430F-B2D3-494916796354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B4C0-523C-494D-883B-6B5527B03C5B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6728-94E0-4740-AE11-0E4ADBE6B20D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608D-DFA0-465C-B98C-30B07B7E892B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057C-8988-46A2-9940-EB93DA77D33D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CC98-83AF-4643-829A-2D59F9DD3CA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A3CD-13BA-40E3-A399-E1556A54C174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6BEF-E788-4E1F-BB09-FE66E0420B3A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4E5E-C135-4BE8-89F9-CAE7CC79B1A6}" type="slidenum">
              <a:rPr b="0" lang="en-US" sz="12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7882-F306-4B8A-875B-591B5D96E67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2742-D28D-406E-9A18-67C46A98C19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B097-B458-45C9-BFF1-1E1D2567AB6C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7B4-9520-4551-A49F-DA371E6DFE12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7042-A225-44FE-B7DD-14171165AC2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1619-2FF5-4A6E-9724-DE9A04D31122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8C2D-3CA0-4B8F-85DB-5887E397CB6B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6CCC-2900-4B7F-AB26-E21CD864A4CC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40" name="Picture 4" descr="Untitled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11"/>
          <p:cNvGrpSpPr/>
          <p:nvPr/>
        </p:nvGrpSpPr>
        <p:grpSpPr>
          <a:xfrm>
            <a:off x="0" y="0"/>
            <a:ext cx="9144000" cy="2286000"/>
            <a:chOff x="0" y="0"/>
            <a:chExt cx="9144000" cy="2286000"/>
          </a:xfrm>
        </p:grpSpPr>
        <p:sp>
          <p:nvSpPr>
            <p:cNvPr id="42" name="Rectangle 6"/>
            <p:cNvSpPr/>
            <p:nvPr/>
          </p:nvSpPr>
          <p:spPr>
            <a:xfrm>
              <a:off x="0" y="0"/>
              <a:ext cx="9144000" cy="2286000"/>
            </a:xfrm>
            <a:prstGeom prst="rect">
              <a:avLst/>
            </a:prstGeom>
            <a:solidFill>
              <a:srgbClr val="36424a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pic>
          <p:nvPicPr>
            <p:cNvPr id="43" name="Picture 2" descr="K:\Creative Services\Logos\McMillan\McMillan\emf\McMillan_Red (Microsoft).emf"/>
            <p:cNvPicPr/>
            <p:nvPr/>
          </p:nvPicPr>
          <p:blipFill>
            <a:blip r:embed="rId3"/>
            <a:stretch/>
          </p:blipFill>
          <p:spPr>
            <a:xfrm>
              <a:off x="457200" y="1207800"/>
              <a:ext cx="281916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Straight Connector 8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9360">
              <a:solidFill>
                <a:srgbClr val="e33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45" name="Group 12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46" name="Rectangle 11"/>
            <p:cNvSpPr/>
            <p:nvPr/>
          </p:nvSpPr>
          <p:spPr>
            <a:xfrm>
              <a:off x="0" y="6400800"/>
              <a:ext cx="9144000" cy="457200"/>
            </a:xfrm>
            <a:prstGeom prst="rect">
              <a:avLst/>
            </a:prstGeom>
            <a:solidFill>
              <a:srgbClr val="e33534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47" name="TextBox 12"/>
            <p:cNvSpPr/>
            <p:nvPr/>
          </p:nvSpPr>
          <p:spPr>
            <a:xfrm>
              <a:off x="1752480" y="6514920"/>
              <a:ext cx="56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McMillan LLP | Vancouver | Calgary | Toronto | Ottawa | Montréal | Hong Kong | mcmillan.ca</a:t>
              </a:r>
              <a:endParaRPr b="0" lang="en-US" sz="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48" name="Rectangle 13"/>
          <p:cNvSpPr/>
          <p:nvPr/>
        </p:nvSpPr>
        <p:spPr>
          <a:xfrm>
            <a:off x="0" y="2514600"/>
            <a:ext cx="6629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8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30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72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14" name="Picture 5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56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9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world.emf"/>
          <p:cNvPicPr/>
          <p:nvPr/>
        </p:nvPicPr>
        <p:blipFill>
          <a:blip r:embed="rId2"/>
          <a:stretch/>
        </p:blipFill>
        <p:spPr>
          <a:xfrm>
            <a:off x="2114640" y="1314360"/>
            <a:ext cx="4914720" cy="4915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e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3e464d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341" name="Picture 5" descr="McMillan_RGB_red.png"/>
          <p:cNvPicPr/>
          <p:nvPr/>
        </p:nvPicPr>
        <p:blipFill>
          <a:blip r:embed="rId3"/>
          <a:stretch/>
        </p:blipFill>
        <p:spPr>
          <a:xfrm>
            <a:off x="492120" y="297000"/>
            <a:ext cx="2022480" cy="504720"/>
          </a:xfrm>
          <a:prstGeom prst="rect">
            <a:avLst/>
          </a:prstGeom>
          <a:ln w="0">
            <a:noFill/>
          </a:ln>
        </p:spPr>
      </p:pic>
      <p:sp>
        <p:nvSpPr>
          <p:cNvPr id="342" name="Straight Connector 8"/>
          <p:cNvSpPr/>
          <p:nvPr/>
        </p:nvSpPr>
        <p:spPr>
          <a:xfrm>
            <a:off x="0" y="107316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0" y="6516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Verdana"/>
              </a:rPr>
              <a:t>McMillan LLP | Vancouver | Calgary | Toronto | Ottawa | Montréal | Hong Kong | mcmillan.ca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1200240" y="1542960"/>
            <a:ext cx="737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33534"/>
                </a:solidFill>
                <a:latin typeface="Verdana"/>
              </a:rPr>
              <a:t>McMillan</a:t>
            </a:r>
            <a:r>
              <a:rPr b="0" lang="en-US" sz="1700" spc="-1" strike="noStrike">
                <a:solidFill>
                  <a:srgbClr val="e33534"/>
                </a:solidFill>
                <a:latin typeface="Arial"/>
              </a:rPr>
              <a:t> offices</a:t>
            </a:r>
            <a:endParaRPr b="0" lang="en-US" sz="1700" spc="-1" strike="noStrike">
              <a:solidFill>
                <a:srgbClr val="3e464d"/>
              </a:solidFill>
              <a:latin typeface="Arial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1200240" y="2057400"/>
            <a:ext cx="2971800" cy="1909800"/>
            <a:chOff x="1200240" y="2057400"/>
            <a:chExt cx="2971800" cy="1909800"/>
          </a:xfrm>
        </p:grpSpPr>
        <p:sp>
          <p:nvSpPr>
            <p:cNvPr id="346" name="TextBox 13"/>
            <p:cNvSpPr/>
            <p:nvPr/>
          </p:nvSpPr>
          <p:spPr>
            <a:xfrm>
              <a:off x="120024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Vancouver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47" name="TextBox 14"/>
            <p:cNvSpPr/>
            <p:nvPr/>
          </p:nvSpPr>
          <p:spPr>
            <a:xfrm>
              <a:off x="120024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Royal Centre, 1055 West Georgia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1500, PO Box 1111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Vancouver, British Columbi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V6E 4N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04.689.911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48" name="Group 49"/>
          <p:cNvGrpSpPr/>
          <p:nvPr/>
        </p:nvGrpSpPr>
        <p:grpSpPr>
          <a:xfrm>
            <a:off x="1200240" y="3457440"/>
            <a:ext cx="2971800" cy="1910160"/>
            <a:chOff x="1200240" y="3457440"/>
            <a:chExt cx="2971800" cy="1910160"/>
          </a:xfrm>
        </p:grpSpPr>
        <p:sp>
          <p:nvSpPr>
            <p:cNvPr id="349" name="TextBox 16"/>
            <p:cNvSpPr/>
            <p:nvPr/>
          </p:nvSpPr>
          <p:spPr>
            <a:xfrm>
              <a:off x="120024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Calgar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0" name="TextBox 17"/>
            <p:cNvSpPr/>
            <p:nvPr/>
          </p:nvSpPr>
          <p:spPr>
            <a:xfrm>
              <a:off x="120024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D Canada Trust Tower, Suite 1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21 7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Verdana"/>
                </a:rPr>
                <a:t>th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 Avenue S.W.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lgary, Albert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T2P 4K9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03.531.4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1" name="Group 48"/>
          <p:cNvGrpSpPr/>
          <p:nvPr/>
        </p:nvGrpSpPr>
        <p:grpSpPr>
          <a:xfrm>
            <a:off x="1200240" y="4857840"/>
            <a:ext cx="2971800" cy="1909800"/>
            <a:chOff x="1200240" y="4857840"/>
            <a:chExt cx="2971800" cy="1909800"/>
          </a:xfrm>
        </p:grpSpPr>
        <p:sp>
          <p:nvSpPr>
            <p:cNvPr id="352" name="TextBox 19"/>
            <p:cNvSpPr/>
            <p:nvPr/>
          </p:nvSpPr>
          <p:spPr>
            <a:xfrm>
              <a:off x="120024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Toront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3" name="TextBox 20"/>
            <p:cNvSpPr/>
            <p:nvPr/>
          </p:nvSpPr>
          <p:spPr>
            <a:xfrm>
              <a:off x="1200240" y="593028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rookfield Place, Suite 44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81 Bay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oronto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M5J 2T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16.865.7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4" name="Group 51"/>
          <p:cNvGrpSpPr/>
          <p:nvPr/>
        </p:nvGrpSpPr>
        <p:grpSpPr>
          <a:xfrm>
            <a:off x="4975200" y="2057400"/>
            <a:ext cx="2971800" cy="1909800"/>
            <a:chOff x="4975200" y="2057400"/>
            <a:chExt cx="2971800" cy="1909800"/>
          </a:xfrm>
        </p:grpSpPr>
        <p:sp>
          <p:nvSpPr>
            <p:cNvPr id="355" name="TextBox 22"/>
            <p:cNvSpPr/>
            <p:nvPr/>
          </p:nvSpPr>
          <p:spPr>
            <a:xfrm>
              <a:off x="497520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Ottaw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6" name="TextBox 23"/>
            <p:cNvSpPr/>
            <p:nvPr/>
          </p:nvSpPr>
          <p:spPr>
            <a:xfrm>
              <a:off x="497520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World Exchange Plaza 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5 O'Connor Street, Suite 2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Ottawa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K1P 1A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13.232.717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7" name="Group 54"/>
          <p:cNvGrpSpPr/>
          <p:nvPr/>
        </p:nvGrpSpPr>
        <p:grpSpPr>
          <a:xfrm>
            <a:off x="4950000" y="3457440"/>
            <a:ext cx="2971800" cy="1910160"/>
            <a:chOff x="4950000" y="3457440"/>
            <a:chExt cx="2971800" cy="1910160"/>
          </a:xfrm>
        </p:grpSpPr>
        <p:sp>
          <p:nvSpPr>
            <p:cNvPr id="358" name="TextBox 25"/>
            <p:cNvSpPr/>
            <p:nvPr/>
          </p:nvSpPr>
          <p:spPr>
            <a:xfrm>
              <a:off x="495000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Montréal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9" name="TextBox 26"/>
            <p:cNvSpPr/>
            <p:nvPr/>
          </p:nvSpPr>
          <p:spPr>
            <a:xfrm>
              <a:off x="495000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000 Sherbrooke Street Wes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2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Montréal, QC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H3A 3G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514.987.5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60" name="Group 57"/>
          <p:cNvGrpSpPr/>
          <p:nvPr/>
        </p:nvGrpSpPr>
        <p:grpSpPr>
          <a:xfrm>
            <a:off x="4950000" y="4857840"/>
            <a:ext cx="2971800" cy="1575000"/>
            <a:chOff x="4950000" y="4857840"/>
            <a:chExt cx="2971800" cy="1575000"/>
          </a:xfrm>
        </p:grpSpPr>
        <p:sp>
          <p:nvSpPr>
            <p:cNvPr id="361" name="TextBox 28"/>
            <p:cNvSpPr/>
            <p:nvPr/>
          </p:nvSpPr>
          <p:spPr>
            <a:xfrm>
              <a:off x="495000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Hong Kong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62" name="TextBox 29"/>
            <p:cNvSpPr/>
            <p:nvPr/>
          </p:nvSpPr>
          <p:spPr>
            <a:xfrm>
              <a:off x="4950000" y="5762880"/>
              <a:ext cx="29718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3502 Tower 2 Lippo Centre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89 Queenswa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Hong Kong, Chin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852.3101.021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427880" cy="64800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6424a"/>
                </a:solidFill>
                <a:latin typeface="Verdana"/>
              </a:rPr>
              <a:t>Guy Pinsonnault</a:t>
            </a:r>
            <a:endParaRPr b="0" lang="en-US" sz="17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2685960"/>
            <a:ext cx="829152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e33534"/>
                </a:solidFill>
                <a:latin typeface="Verdana"/>
              </a:rPr>
              <a:t>THE CANADIAN CORPORATE CRIMINAL LIABILITY REGIME </a:t>
            </a:r>
            <a:endParaRPr b="0" lang="en-US" sz="27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828800" y="5409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6424a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Section 718.21 CrC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ets out ten aggravating and mitigating factors for sentences to be imposed on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nly possible sentence is a fine, which may be accompanied by a probation ord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fine imposed must be proportionate to the seriousness of the offence and degree of responsibility of the offender in accordance with s. 718.1 CrC, “whatever weight a judge may wish to accord to the objectives”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dvantage realized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Section 718.21(a) CrC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vides that courts must consider the “advantage realized” by the organization as a result of the offence committed by its senior office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to analyze all of the consequences for the organization, negative and positive when determining if the organization did in fact realize an advantage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.g.: monetary advantages, damaged reputation, decrease in share price, loss of clients etc.)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McNamara Construction et al. v. The Queen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[1977] 2 SCR 654,75 DLR (3d) 273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held that for price fixing, the objective of deterrence commands that a court must consider the “</a:t>
            </a:r>
            <a:r>
              <a:rPr b="0" lang="en-US" sz="1300" spc="-1" strike="noStrike" u="sng">
                <a:solidFill>
                  <a:srgbClr val="3e464d"/>
                </a:solidFill>
                <a:uFillTx/>
                <a:latin typeface="Verdana"/>
              </a:rPr>
              <a:t>expected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gain” of the cartel and not the gain that was actually obtained, together with “the level of the multiple required to render negative, in approximate terms and on average, that gain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. Advantage realized under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ompetition A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r criminal offenses the first factor of s.718.21 cannot be reduced by the damages suffered by the organization due to the disclosure of the crime to the public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. v. Constructions GTRL (1990)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2012 QCCS 4755, [2012] JQ no 966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erior Court of Québec refused to take into consideration negative publicity suffered by an organization as a mitigating factor, ruling that it constituted “[TRANSLATION]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the price to pay for the crimes committed clandestinely and against public interes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b. Complexity, Planning, Dur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for the courts to consider the complexity and the duration of the offense and the degree of planning involv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the words of the Department of Justice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areful planning shows a deliberate breaking of the law and should be punished more than a case where the senior officers took advantage of an unexpected opportunity to make a quick, illegal profi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c. Concealment and Conversion of Asset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 attempt by an organization to conceal or convert its assets to avoid payment of a restitution or fine is an aggrav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ntario Court of Justice has further held that hiding assets justifies a restitution order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ith respect to civil matters, the Superior Court of Québec has once considered the concealment of assets as an aggravating factor in the awarding of punitive damag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d. Economic Viability and Continued Employmen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rganization’s economic health and continued employment of its employees was deemed to be a relevant factor prior to the 2004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must therefore ensure that the fine punishes the organization financially, without endangering its financial sustainability or continued employment of its employe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s the Court of Appeal of Alberta stated in </a:t>
            </a: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R. v. R.L. Thorpe Sales Ltd.,[1983] 49 AR 354, AJ No 999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(CA)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[t]he penalty must be more than a slap on the wrist but less than a fatal blow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buClr>
                <a:srgbClr val="e33534"/>
              </a:buClr>
              <a:buSzPct val="9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hen the evidence shows that the organization realized most of its profits from the criminal activity, a fine onerous to the point that it could cause the business to go bankrupt may be justifi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e. Costs Investigation and Prosecu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may adjust the fine depending on the amount of fees incurred by the government with respect to investigations and prosecutions initiated against the organization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f. Imposition of Regulatory Penalti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llowing the commission of an offence, an organization that imposes internal disciplinary penalties on the offenders may obtain a reduction of its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purpose it to prompt organizations to take steps to prevent recidivism by taking disciplinary measur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Canada v. Maxzone Auto Parts (Canada) Corp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refused to recognize a fine of $43,000,000 imposed in the US on Maxzone Canada’s parent company as a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g. Prior Conviction for a Similar Offence and Regulatory Penalties for Similar Condu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May constitute an aggravating or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h. Imposition of Penalties on Representativ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aragraph (f) of s.718.21 should be interpreted to include only regulatory penalti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sition of a prison sentence on an organization’s president does not bar the imposition of a heavy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uch penalties should have a direct connection with the actions that led to the commission of the off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. Restitution of Voluntary Indemnific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compasses two criterion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upplements paragraph (d) by ensuring that the organization is not sentenced to pay an amount that might affect its economic viability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ncourages organizations to indemnify the victim voluntarily.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j. Measures to Prevent Recidivism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doption of such measures by an organization may help reduce its sent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mpetition Bureau provides guidelines to assist businesses in developing compliance program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five “essential components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enior management must truly support the program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Compliance policies must be easily understood by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provide adequate training to its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ssential that the company establishes monitoring, auditing and reporting mechanism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ensure that it has consistent disciplinary procedures in place with respect to dismissal, demotion, suspension and even legal action against employees who do not comply with the policies. 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SA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like in the USA, Canadian courts have rejected the recognition of corporate criminal liability based on a vicarious liability simpliciter model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uch a regime, any person who is a part of the corporation, regardless of his/her position, may engage the organization’s liabilit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dopted by the Supreme Court of the USA more than a century ago, the vicarious liability simpliciter model applies the tort doctrine of respondeat superior (‘let the master answer’) to criminal law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 corporation may be held criminally liable where an individual, acting within the scope of his employment or authority, commits a crime with a view (at least in part) to benefit the corporation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Europ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rporate criminal liability ranges from not attributable to pure vicarious liability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U jurisdictions that follow an approach similar to that of the USA include Belgium, the Netherlands, Poland, Slovenia, and Romania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Germany’s Criminal Code, which includes anticompetitive offences, namely bid-rigging (s. 298) and taking and offering bribes in business transactions (s. 299), only applies to natural pers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Jurisdictions which have adopted a system that considers the position of the offending agent within the organization in order to establish criminal corporate liability include Luxembourg, France, Spain, and the Czech Republic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. Introduc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ill C-45 An Act to Amen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(Criminal Liability of Organizations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: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urposes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ilitate the conviction of organizations for offences committed by their representatives by replacing the 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identification theory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developed by the common law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mpt organizations to take additional measures to protect their employees and the public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first decision in which a court applied the provisions brought by the 2004 amendments was rendered in 2013 in </a:t>
            </a: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(gas price-fixing cartel in Quebec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K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UK has a system fairly similar to that of Canada pre-2004 Criminal Code amendments, with the courts applying the identification theory to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ce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ince the coming into force of 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Bribery Act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2010, an ‘organization’ conducting ‘part of a business’ in the UK may also be held criminally liable for failure to implement adequate procedures to prevent briber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the Indian law, a corporation can be liable for the acts of its officers/directing minds and </a:t>
            </a:r>
            <a:r>
              <a:rPr b="0" lang="en-US" sz="1500" spc="-1" strike="noStrike" u="sng">
                <a:solidFill>
                  <a:srgbClr val="3e464d"/>
                </a:solidFill>
                <a:uFillTx/>
                <a:latin typeface="Verdana"/>
              </a:rPr>
              <a:t>NOT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any employe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Conclus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entry into force of the Bill C-45 amendments significantly changed the face of criminal law with respect to the criminal liability of organizations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reased the risk of prosecution and convic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isk of a heavy fin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er definition of “senior officer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For More Informa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82880" y="3429000"/>
            <a:ext cx="2984400" cy="1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5984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2b0"/>
                </a:solidFill>
                <a:latin typeface="Verdana"/>
              </a:rPr>
              <a:t>Guy Pinsonnault</a:t>
            </a: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  <a:p>
            <a:pPr marL="15984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842920" y="3801600"/>
            <a:ext cx="3057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Ottawa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613.691.6125 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916360" y="5445000"/>
            <a:ext cx="3024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82b0"/>
                </a:solidFill>
                <a:latin typeface="Verdana"/>
              </a:rPr>
              <a:t>guy.pinsonnault@mcmillan.ca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</p:txBody>
      </p:sp>
      <p:pic>
        <p:nvPicPr>
          <p:cNvPr id="455" name="Picture Placeholder 26" descr="guy.jpg"/>
          <p:cNvPicPr/>
          <p:nvPr/>
        </p:nvPicPr>
        <p:blipFill>
          <a:blip r:embed="rId1"/>
          <a:srcRect l="0" t="717" r="0" b="717"/>
          <a:stretch/>
        </p:blipFill>
        <p:spPr>
          <a:xfrm>
            <a:off x="3255840" y="1557360"/>
            <a:ext cx="2179800" cy="175752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3"/>
          <p:cNvSpPr/>
          <p:nvPr/>
        </p:nvSpPr>
        <p:spPr>
          <a:xfrm>
            <a:off x="868680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8467-AAC3-4903-86AD-B2F51C83BDC8}" type="slidenum">
              <a:rPr b="0" lang="en-US" sz="18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58920" y="4652640"/>
            <a:ext cx="2665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Montréal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514.987.5063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efore 2004, the criminal liability of corporations used to be established through the identification theory developed by the common law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itially adopted to establish corporate criminal liability through a sufficiently rational connection between the organization and the offence committed  by a natural person.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Attempted to connect the liability of the “directing mind” to that of the corporation, rather than establishing corporate criminal liability for the acts committed by any employee of the corporation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Canadian Dredge &amp; Dock Co. v. The Queen, [1985] 1 SCR 662: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Supreme Court of Canada rejected the vicarious liability model advocated by the US Supreme Court  in New York Central R. Co. v. United States, 212 U.S. 481 (1909)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, 2012 QCCQ 5749, [2012] JQ no 5437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ummarized the following principles applicable before the coming into force of Bill C-45 in respect of the criminal liability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identification theory attributes to the legal person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d actus reus of its directing mind and engages the liability of th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ral directing minds may exist within the sam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title of the employee within the organization is immaterial; what is considered is the functions that such person performs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ncept of directing mind is no longer limited to the executives;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directing mind is a person who is capable of exercising decision-making authority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b) The 2004 Amendment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o provide that an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organization’s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 criminal liability for subjectiv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offences (including fraud and antitrust offences) is established where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[…] one of its senior officers,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a) acting within the scope of their authority, is a party to the offence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b) having the mental state required to be a party to the offence and acting within the scope of their authority, directs the work of other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s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so that they do the act or make the omission specified in the offence; or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c) knowing that a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is or is about to be a party to the offence, does not take all reasonable measures to stop them from being a party to the offence.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 definition, which includes associations without legal personality that meet three criteria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reated for a common purpose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ave an operational structure, and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old themselves out to the public as association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ncompasses not only legal persons, such as corporations, but also any “public body, body corporate, society, company, firm, partnership, trade union or municipality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ludes both profit and non-profit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efined broadly to include not just officers and employees, but also agents and contractors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Not the business title, but the duties performed by the a person which demonstrate if one acts as a representative of the organization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riminal liability does not extend to entities that exercis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jure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r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factor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ntrol over its affiliat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Piercing the corporate veil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≠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not possibl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would need to explicitly provide that the parent organization is liabl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Senior Officer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Who Plays an Important Role in the Establishment of the Organization’s Polic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Responsible for Managing an Important Aspect of the Organization’s Activit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irector, Chief Executive Officer and Chief Financial Officer of a Body Corporat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v) Recent Case Law on the Definition of “Senior Officer”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Pétroles Global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(2013)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rst case to apply the new provisions brought by the 2004 amendment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held that evidence demonstrated that Global’s General Manager was a “senior officer” within the meaning of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, as he managed an important aspect of the company’s activitie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considered the following factors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e supervised over 200 service stations in Québec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as the third highest-paid employee of Global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sured implementation of the economics developed by senior management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d) Subjective </a:t>
            </a:r>
            <a:r>
              <a:rPr b="1" i="1" lang="en-US" sz="2100" spc="-1" strike="noStrike">
                <a:solidFill>
                  <a:srgbClr val="e33534"/>
                </a:solidFill>
                <a:latin typeface="Verdana"/>
              </a:rPr>
              <a:t>Mens Rea </a:t>
            </a: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Offences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) Intent to Benefit the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rganization is considered to have participated to the offence where its senior officer has acted “with the intent at least in part to benefit the organization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Participation, Influence, or Omission by Senior Officer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. 22.2 CrC subjectiv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ses are established through participation, influence of representatives or omission by a senior offic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legislature rejects the restrictive approach according to which a criminal act had to be committed within the “scope of employment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Willful blindness could suffice to implicate the organization’s culpa in omittendo where a senior officer fails to take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necessary measures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tors such as industry standards, risk management techniques help the court determine the scope of the “reasonable measures”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10:29:28Z</dcterms:created>
  <dc:creator/>
  <dc:description/>
  <dc:language>en-US</dc:language>
  <cp:lastModifiedBy/>
  <cp:lastPrinted>2017-09-19T10:29:28Z</cp:lastPrinted>
  <dcterms:modified xsi:type="dcterms:W3CDTF">2017-09-18T18:12:21Z</dcterms:modified>
  <cp:revision>1</cp:revision>
  <dc:subject/>
  <dc:title/>
</cp:coreProperties>
</file>