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29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30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31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818-D6B5-441E-B0B8-98226514EF6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072D63A-463B-4E92-82A6-07875C76AB6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1135-E8E7-448A-8ED2-D2138D17EBC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3EFD-995F-4FE0-827B-5F3B0108DD3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DD6-E95B-46A2-8C38-5338CE10AF4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95B-FEDD-42AD-B38E-4B80B2A61FC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F058-442E-48CB-B0A8-031487145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C41F-C37E-40E1-9AE9-DCAC74866D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C9777-D3E3-42EB-AB82-5775A15F38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BC5D-D12F-43AB-B634-16B33CD3C1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E1697-BB7A-4F2E-8194-8F28B87D05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E45B-98A5-4286-A56A-E007F7FFF9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6AE0-8180-4298-B5EF-0664D56EDE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A103-DB07-40DE-8DDA-169106C0ED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A4F7-3524-4314-A984-1DF1984459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8A405-8A3C-4348-AC07-7E12C3F4659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73D9-5D5D-47BE-A49E-311140D580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28941-C27D-4F57-8034-933B971BE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A1A7-9AD1-4951-AA53-CD3CF505C4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9670A-CA37-4D0F-9066-6C301B9B977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B3F6F-4716-41F5-A04A-F9FBD1C3F8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5ABDD-CB15-4CB6-805C-4779F6362E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C8049-9106-462C-AA45-FF8868036B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7963C-6095-4AE6-93F9-A51C46B1C8D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7D30E-72E5-409C-8389-A5898047AF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916F6-3FB4-439F-BFA6-19B7D98FF6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6E3FD-E04B-44A2-A57D-A2B8D35606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DF938-F5B8-4F40-B95E-301E7F23AC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6F2AF-B26C-4C8A-9EAD-CC1CC1EF7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D5CA-A4E2-4F4A-8563-0ACA5B52884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E3A1B-61BA-4BC7-B286-A6328CAA4E0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47224-97D8-4FA9-834C-A17201330E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13F42-6C8C-498B-BB11-419B8A449F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CE1319-89AB-4093-B1EC-87634CC59C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130C1B-0504-4007-9F6F-C54283E413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4AA6B3-B3B5-4158-A018-D2F1E5E6684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F97497-A13C-4649-89EB-D6E78F4765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62716-E039-4B73-AA81-4A7DE3C5FD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1F1B3-68B3-4414-B1A1-836A7C8BA1E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5D203E-FB49-4DC8-9DA3-0D53E38C8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FA61B-C612-4AFC-BE20-C4317D15C77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6FE883-652A-479D-9859-E5DEA0EC21B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874CA-B99F-4C1F-89D1-671633070C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74FD23-9A15-4678-9F31-45F5E282D5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70CC2-C83E-419B-9583-BE7F6ABE7C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FD33B-913B-419C-8035-D443E18009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4B56-946F-41DB-9CBC-238D42580A5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FCCF-02DA-4FBA-A0A5-65AF28D5E9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7BFF1-3EE0-4768-ACB5-9011DCF1C9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3917-E395-4D82-A9EC-6DC6EDD03E7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06223-8127-4CD5-AB4F-46A9A2556D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B5A44-1ABF-49BC-9D0C-0CE84285368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0E23-A7A4-4C93-BE75-06C2435731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09ED0-8DEE-45D1-A936-2F78F091665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CC7C-A38D-4874-967E-6617D0D06AB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A247-2E03-4BEE-91C7-13C8309BF00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5C208-5C0C-41E7-8E33-CD22A64088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7594A-A608-4289-B30A-2F802E3367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03CFCD-16E1-4A9D-A32E-E6C4B3021F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220D9-80FB-44C2-80C7-2B1B8A6883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C61982-F1D9-4F12-8AD9-22DAD90658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454D6F-9148-4F36-A6B7-404DF4586D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B872D-D2DE-4657-86E3-D071A413174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BFD5B-C4FA-4093-AE71-AA7DD0E1A40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EBD39-A000-4B28-9956-F72DAAAFA5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99090-2DF2-465C-8E18-93388344BF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8D5F99-4B0A-49D1-B414-5812EE8C45D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8CB0E7-F482-4854-A322-19D7728DD5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E37577-14A6-4299-B638-1574A5C7978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E81D4-1DB7-45E6-9C29-783FAADC52C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E025A-881F-480D-B942-79247B1B00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300A1-FE0D-459E-BB45-057A75B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3768E-0F81-4E30-9829-E3EF463D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26348-552A-4A8E-9D87-F82F17E4AD6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79128-29A4-4D0F-902E-5A158B4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1FE88-D5C3-467A-A351-57793FB2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FD6BC-B1AA-4FF9-ACF9-E2F90D16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4559A-6A17-4D14-9732-7BB6DDB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3B2A2-7509-487C-87DC-0E60E9E8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D187B-CF01-465B-8872-1F7C357C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804F4-85BE-4448-8E96-0E3B88E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C4416-C86D-4539-BCBC-706A092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1B41F-45BC-4D93-B83E-69DA98211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2A7F9-F684-42C8-9BAC-1C541247B6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D7C6C-E11D-4704-8F1C-BFB8ABD3CB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2541A-6A63-493C-ACEB-8D7C4C8D57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3C83-825C-4139-BA7D-0A490553B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7953C-97BE-4B30-9070-73811E204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F519-9AE2-491C-900F-F53E95BDE3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B4AFA-3809-407A-9D04-A8C0014522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D5215-9CB7-4E3B-A356-27A45F78B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743BE-DB01-4871-92DD-581C545F04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0EB2-E617-48AF-B41B-C45AFC11A5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37EE-CE5F-48D0-BF90-C823A33D61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A4CA-4C22-4A78-8D88-F3CB1B855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A4D-ED64-4E4D-A32D-6B6830CF82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E91A-0F7D-4633-80A1-DD93BCE1F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CF05-01DF-4914-AD3D-8355B56CBB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28F8-0F95-4E10-B621-17A59841E4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96E-5ED6-48F7-869C-8C0709310A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4541-F5FE-4050-9A1E-E7E1512EFD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2F98-286B-480A-8848-81A6AB70E5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798B-EFEE-4553-92FC-81D7F40123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254A-815D-4F8E-A8F2-B1028EDD1C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33B0-4FF9-45BB-9149-6832890D1C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9CC11-63FF-46DE-9968-DC05309C1A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F9A36-F56D-4F6B-8E59-8AB6B51B1D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14D69-6535-49EF-8A66-770BB832F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3669-AB18-40FB-A023-952DE97FA4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CEED4-9D1E-4026-9413-E1281A4BB4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0C91B-BF29-4427-8987-B2E0B262CB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C03F6-A865-4542-8ED8-85B866DCA1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50924-F8AD-4FE1-A777-60EB45DA6A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D05F7-386D-4034-9C50-6A6483B3FA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FE431-FBBE-4B79-94BA-66E1E26CBA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75E97-95DC-467B-A806-A8B531380B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A47DC-4DB3-429F-AF84-FABF6800E6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E0434-B017-478C-BC13-56077806C3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1CA37-A20E-40A6-B7A7-64BFB8131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4E2E-E5D8-4107-A2DC-2F24259ECE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5FF62-F74C-4DB2-AE10-9F9F563AB5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62FF1-389A-4CB3-AC57-C20163BD46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596E7-815E-4BD4-8910-74536B9DBC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A42C5-20D2-4A0E-9446-92EA435D4A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AA005-41E8-4613-8696-8B6FAA73AC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C44F5-DDFE-4FE7-BB3E-A23D9A41F7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2752B-8AB7-4030-8DC0-301839EC78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C6A87-27D6-478B-BF03-048AABE689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E506F-12AE-4E92-85CE-6E682A1C20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A29D5-30EE-4A44-B059-1F9B0A6E1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3A4B-3EBA-43A1-9C6C-FB098E2FA1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32005-BE91-42D6-B9B6-87DBCE821D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286D-3534-4F6E-AABF-F631E145F9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B370-A7C8-464B-AA0E-3800AD4801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BDF1-72B8-40A1-8BC9-2F883672B4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3CD8-F47B-4FE3-9623-5D5789B8E0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111B-988C-49EE-BAAA-3E8C2CA2DF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E120-D47F-45DC-A8DF-9C3A87C73E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72EC-726F-456C-90C8-922FAC5994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A67E-4CC2-4957-A930-DA25BCC997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F56C-99C8-42E0-BF08-3755CAFCF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912F-3876-44AE-9C39-0ABFED8868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B552-7BA7-4AD7-8902-4AE10D5814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5893-F581-4E49-9C5C-E7E6025227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DEA2-4961-46E4-B5A9-756141B916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72685-167D-4CE4-BF58-2B93FDD38E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C73B1-031C-4462-AA2E-5F6FD00CC7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905C0-A014-4159-9402-D0FC7F31F9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7CDC3-7C7D-4657-9928-A03DBDCB8B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99483-AA8E-4DC9-B0BD-4653B9927B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DB9C0-4B84-4953-9DA5-5BD88A6EE5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38EC2-1E47-411F-83DE-0913988DE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7992-4C85-4A27-AA93-118DDBBE98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8A102-8B45-47CD-BF71-3FD58F166C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33D70-B2C2-4C1B-A590-240BB3236B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204EC-70A0-4D57-9ACA-EF66D0BA37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137DF-9B2C-40AC-B212-E0A3F58CD8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65E2B-C025-40A2-833F-AD35AE2550A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341E9-7A67-4999-ADD4-A8978D028B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ED012-74F1-4784-A184-D62ADE01F5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A84E9-1D96-4408-8789-A2C8B3990F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F01D0-0DBB-433D-AD50-997DA73188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A4F7E9-DFFE-4515-93CB-0B4BB5EB6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93B9-670E-461B-9668-30B3060927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0700C-7B23-4D4D-9338-3D08AB0187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F6870-4AE1-4AF6-917B-028525E743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8DE70-6CDB-4565-8F9F-CD9DCA8BB0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6370EE-66E8-4E03-9C4C-12E6159C20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65258F-8574-43B0-924C-E3B6A6B920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74C29B-92F5-43C4-97CF-946F39831B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CEE23-F8E3-4F56-A740-811AF73253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3203-014A-44EC-B197-6FAB6960BA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A308-D615-4266-9041-BBDD771AE0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D1B6F-78F9-4F2E-AB1A-9E954EE9C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C7BB-94D8-4BF2-B6BE-4930C5751637}" type="slidenum">
              <a: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170-C572-43B9-90C5-0921C30B169D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843C-117E-4DB1-A935-37A56CB0224A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B6EE-9D8B-41CC-B372-2B05218DC72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FD2-D19E-4AEE-968D-B81EF741FD2B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CCB7-A257-4FF9-9C19-4038BE891248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556-4C77-4C22-A4DE-6892BE7BBC50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6CB2-E9A6-4FC3-B41C-90DC248BBD3A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DD9-BF4D-495C-86AB-92461D6D207F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DEE-E89C-4210-AD51-BB0C60FC3C65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C3B-EFBE-4E97-9968-11A47FCC53D4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67D1-D3E7-40AE-93CE-87FA1170757C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D7C4-819C-4E3C-9628-8256E72855D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BFC-EFA1-4748-A57F-EDA2F92EFBF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3399"/>
                </a:solidFill>
                <a:latin typeface="Calibri"/>
              </a:rPr>
              <a:t>ICN webinar on parental liability </a:t>
            </a:r>
            <a:br>
              <a:rPr sz="4000"/>
            </a:br>
            <a:br>
              <a:rPr sz="40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20 September 2017 </a:t>
            </a:r>
            <a:br>
              <a:rPr sz="2800"/>
            </a:br>
            <a:br>
              <a:rPr sz="4000"/>
            </a:br>
            <a:r>
              <a:rPr b="1" lang="hu-HU" sz="3200" spc="-1" strike="noStrike">
                <a:solidFill>
                  <a:srgbClr val="003399"/>
                </a:solidFill>
                <a:latin typeface="Calibri"/>
              </a:rPr>
              <a:t>Tímea Pálos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br>
              <a:rPr sz="32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Case Handler – DG Competition, Cartels Directorate  </a:t>
            </a:r>
            <a:r>
              <a:rPr b="1" lang="en-GB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BE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C413-6E5F-4B70-B256-EAB899E3ABF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parental liability in EU law 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ncept was developed by cas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mmission must show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had the capability of exercising decisive influence over the subsidiary that committed the infringement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in fact exercised this power (ICI judgement)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1643-92D7-44CD-A5CE-A17FCA75B37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Where the subsidiary does not decid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dependently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upon its own conduct on the market, but carries out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 all material respec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th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struction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given to it by the parent company.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ccount must be taken, in particular, to the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organisational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egal link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between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ere is a r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ebuttabl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of decisive influence over subsidiaries owned by 100% (or almost 100%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presumption can be reversed by the parent company by adducing sufficient evide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CE9-A657-430D-9BB0-94702F87922A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decisive influenc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EU Treaty (Articles 101 and 102 TFEU) applies to infringements committed by "undertaking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n undertaking is an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 unit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consisting of a unitary organization of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ersonal,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tangible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tangible elemen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which pursues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pecific economic aim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on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ong-term basis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and can contribute to the commission of an infringement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ingle economic unit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can consist of several legal entities (i.e. companies): parents and subsidiari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534-80E1-44BF-8644-0522632FFB2E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8956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f a parent company exercises decisive influence over its subsidiary, they form a single economic unit/undert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s entitled to hold the parent company liable for the infringement committed by its subsidi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Parent company and subsidiary are held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jointly and severally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liable for the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's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ettled practice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s to hold parents liable for the illegal conduct of their subsidia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591B-0E75-41CE-A849-93DFE3A40CE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796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dentifies the legal entities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directly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participated in the infringement ("direct participants"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exercised decisive influenc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over the direct participants (parent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normally pursues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ultimat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("top") parent and ignores intermediate compan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has discretion to attribute li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F03D-9325-4FE6-8B2D-005B857AC403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Exampl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98360" y="2276640"/>
            <a:ext cx="895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A subsidiary participated directly in an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100% (or almost 100%) by its parent company – the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of decisive influence applies. The parent can adduce factual evidence that this was not the c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significantly less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than 100%, the Commission has to prove decisive influence based on the f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inal decis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subsidiary: liability for direct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parent: parental lia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both: joint and several liability for the payment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98BF-A2A5-4922-B62F-58D8F1944924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000" y="177336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sequences of parental liability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there was decisive influence, joint and several liability for the fine seems to be justifi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More effective recovery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legal "cap" for the fine is 10% of the total worldwide turnover of the undertaking – potentially higher fines can be im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Deterrence multiplier can be applied on basis of turnover of pa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risk of finding recidivism increases (recidivism uplif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acilitates private damages a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ADD-B7F1-4C4C-B131-957641C97860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Calibri"/>
              </a:rPr>
              <a:t>Thank you for your attention</a:t>
            </a:r>
            <a:endParaRPr b="1" lang="en-US" sz="40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FEE-D4A6-474B-BB28-C8C76863FDA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6:14:31Z</dcterms:created>
  <dc:creator>LAINA Flavio (COMP)</dc:creator>
  <dc:description/>
  <dc:language>en-US</dc:language>
  <cp:lastModifiedBy>DQC</cp:lastModifiedBy>
  <cp:lastPrinted>2015-01-12T17:39:06Z</cp:lastPrinted>
  <dcterms:modified xsi:type="dcterms:W3CDTF">2017-09-12T07:38:51Z</dcterms:modified>
  <cp:revision>124</cp:revision>
  <dc:subject/>
  <dc:title>PowerPoint Presentation</dc:title>
</cp:coreProperties>
</file>