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9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0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1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9C2-77CA-4DCF-B6C4-ED33D773F39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EC06B51-F4DF-47F4-A109-051EB854E53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E5B8-F5EF-4670-BA67-67A84F2F18B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7BF-7C91-4D15-8B27-B3A56787C6B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108-4E50-406A-B17B-A7AE44B490E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374-923B-48BB-8809-ED2766C92F2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59DC-B00E-430A-BEE7-34CC55ED8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E9AA-5E27-45E9-88BA-B9B9DBE3F0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D18C-631E-4A63-A21D-3F5AAECD7E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279A-F353-4245-B2B3-B5CC6436EE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DAC5-5051-4C96-B34C-CEEB75C7A4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54B5-A416-4935-8362-2026824738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A741-D424-499B-897A-ACC108A3B0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BD7A-E50E-4758-B991-BDF13AAFEA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AAAB-B043-4E98-98A2-DB83A042CE4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8592B-1609-469B-A9FB-2F00893609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9FC5-E635-4F5B-9675-DF35AF0AFE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D1294-BA52-4ABD-992D-465137EAE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85E4-91E0-484C-8DA0-12E9707C11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4EACE-ED4B-49D3-8FBF-F924D026BA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E925D-F49D-437B-AE5A-8D3CF31C32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BC587-A7F0-452B-A6BB-3E2504CBE8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F6246-2749-4E4D-A152-4289B4456B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D1922-2263-4B0E-8346-92CF113A4B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06005-5D51-499D-82CD-6685B75D68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28F69-894F-48D4-A5DD-E16CACEB56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76276-9CB5-48EF-B08E-FD56A7EBAF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4457C-DED6-4598-BCA7-4BE96F879E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47D20-4EEF-453C-BFE7-7E3DB055B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95F4-5A3B-4BAF-8FED-977DFD26ACE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0D296-870D-459B-8440-CF8831B980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DFE9B-934C-441E-8C7B-695FB6A2831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CCE60-3B19-466A-BD2F-385B1E27F3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4CF14-0A10-4510-9A40-B8F0139E3D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C0492-E215-48A7-AA2F-99EF9F32F7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64096-2A70-482C-BCD5-90C128245C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11086-BAE6-4013-B3EA-0CCD526B2A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A38C0-7716-45AE-B3EF-3C62E7D111A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2EAF1-7250-4C31-A270-F1E289907D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0E00F-643F-4FAD-9122-FC666C885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0B26F-ACFD-4DBE-85C0-C5714187DE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D27F2-B7BB-428C-9588-E9233D142C1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815119-4D05-4657-8278-DD08846E4D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6789B-F7B2-42CD-8A4F-A518031187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A2305-CF1D-49B8-AEBD-4E5C4B37B8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195B9-EF69-4732-B5CE-AEC68591B7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A5F0-25B0-49BA-AC93-F927B9F779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78DF7-7AD6-4927-BE4F-68FF03C629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FE40-E498-4303-934D-93C94D2DE3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E1EE8-56C9-4172-83B3-EF917BCCF2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71D6-E30D-45C6-9DFE-1C545566D2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D53E7-1539-48ED-9DFB-66402753F3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5978-5FE4-4E28-AD2B-0CF5A5886D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EA77-A521-42C9-87B1-A735C187C3B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AE828-76FE-47D2-BE17-17F9D0657E9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5C13-81E5-4B11-9234-7AD496B78D4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5FBB-362C-4DE3-8C80-548C117B95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C1519-27BD-4F12-A390-1602D76045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DCD76-73D2-4B0C-B8BE-449DF2AACD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BD7AE-67F6-40C8-91AE-A6C6067C5E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B1C24-2840-445F-BE5A-23348C0979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01DBB-4A79-4C67-AB7A-35C57F7325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A5752-76E8-4F07-9E3F-12B17B85415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0751A0-F136-45BC-A5F1-2316629B0B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CAF20-FEBD-4A03-87E8-54D1062BFE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7EA1D-663A-441D-AEEC-0D47582D351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5F786B-B777-4E5C-A804-78C22AB9578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5CB1A-0347-42AB-86D2-1098D79CB6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2DC38-3005-4CC0-9B6E-2E719583B6D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731660-BEF5-49DF-AE51-4766EEF4CC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D0F56-1AEC-4CB3-AB45-F2B71A2ADC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BBAF0-1C95-4193-8A6F-EF060164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34C7B-27F1-49E1-AC0C-CE246580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19C2D-521B-4717-8C5A-9DC49E8476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91C76-604F-459A-BBAC-2D7A4F4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A3DF3-E708-4C65-91EA-969227BB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DB614-4C79-49EE-8F61-EAFE7C12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F86CE-1B64-4BC4-AEB0-40266FC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73399-0F33-44E2-8221-4C80440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515D2-051A-49FA-B5B9-098B0FBB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217CF-3D62-493F-8352-DFC1375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82593-E7CC-449D-8B4B-7808CEF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9773E-4B04-404D-814D-5055C2A46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06F83-BF2A-4A92-A9F1-626E5C6080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2F72-8E90-4DDD-87F2-031F78B306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D8DD-4CA8-4FFC-93C0-C41A4E8010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6810-7270-4727-A396-27CB7507F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85E3F-057E-423D-B5AC-C97267064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0E2DB-289B-4170-BB62-7A41B0407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F3E99-E61E-442E-A49B-3924CBD94F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D72B1-50D7-4F57-A77E-170E16F57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CB1C0-5443-4BA4-BA42-FAFC67545B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DF4F-0D4E-4EC1-8EBB-344534C4EA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9FE-912C-4E3D-8CC8-77E0B89AA5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D50-BCEE-4C7E-A7DB-7A84A3C461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3816-5171-48FC-A88E-45F6601D8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C4F4-0628-4E12-9C9F-8D7CC3355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E1CA-C3E5-4171-A689-8486DE3301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B658-C552-43CD-AB29-139318E10D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DA9E-6ED1-4B7A-9663-106CBA7002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9196-0F9A-4588-A336-0F7779C61D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F218-0A5F-4544-8CFC-D21F826F49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AF0-682C-4D4F-843E-8B2DB2FF18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887-1543-4C84-B541-4037461F12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96E-50D6-4143-A282-617EFBA08B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71E9-DB1C-4FFC-A907-B791FE125A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DDE1D-73E0-4CB3-88C7-24FC4FC3F6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3DC3-5C0C-434C-84B1-7BC1F400B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4715-84E9-4807-953F-11381F4CA1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ED64B-34E2-416D-9FAD-7509CD0654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94D3F-3A2F-47FE-B51F-307704239D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E0C2E-0B9B-4A9C-85EE-F6064D758D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F243A-2DAD-4EFC-B211-A714E71D53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5A37D-D7D6-48D8-A9E4-95EC168489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7DE11-4DAA-4339-8E6E-C17DCED101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55A7B-8B23-4C99-ADFF-8ED7B2C58E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A563C-118F-46B8-A6D6-FC8CBE4B2E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219AA-504D-41EC-813D-C300288607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4695C-0433-4338-9E30-EF7AB4C56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C2AB-548E-4118-B6E1-52CEC51E33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D6BC0-A8E3-4EB6-9191-0C8D0E11D1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E8BCD-DC46-44BC-86F3-CECFAA2A08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F1E63-B37C-449B-AD1F-C65AF11155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9AA9B-6971-4385-AF59-2513DCDD53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3C82A-DA26-4425-AA6D-E1E5CE5669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2CEAE-FA1C-44AB-B19A-C7FCA52568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F7F3D-4BA7-4B6C-9D16-E440141154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09A85-71FE-4FFD-B3A7-2640BE26D1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9411B-135F-4508-A446-A514BFAF43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4CBB0-6904-491D-AC30-293BB0760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1EB0-47D5-4E5C-993C-6F27FA5454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C6568-BF2D-4A67-8B92-C42F44B529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5496-E415-46AB-AAF4-6EC2EE6906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9744-E9EA-4321-8D07-9A7BD42B24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9569-0303-4F31-AC64-8B47ADC82B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F21E-D5FB-4503-8785-9B102B34AF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EF84-88F8-443E-8E8B-138E5C0DCD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917D-CCF3-477E-A0E3-CE09E9C22F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7919-F2B7-48D7-BB6E-1DD371962B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9FFB0-0266-488D-BC55-88709E1CAD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9F38-C6F5-4748-952D-ABBE7B978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31C4-7412-4916-83A5-BA982C725E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291C-9188-45D7-9D23-C4A2F29A7E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39FB-9271-4F13-AA1E-5AD1DD3C93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CCD6-BC7F-4D12-91B8-EFC3955050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33FEF-FBF0-4F1E-9C16-EAB5ABCC93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4518B-EB62-4D5A-A33E-14F1919E7C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00E18-2575-44AC-899C-98D537FAE7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C6475-92F3-4030-9D16-DD167599B3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00C95-5025-40D8-9EA8-74790FF9A7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B639F-F2EB-4C2A-A513-DD2A2780E9A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5EFD2-1268-43D5-9702-553C9A6DB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03D9-5CBE-4C79-9672-91847CD0E5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D6146-6B1F-4C94-85AD-B253AA4894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38DE8-6189-4B1B-8F56-A89F148A4C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9357D-DF92-478C-9860-CF635C6DDE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EC0BD-12BA-4754-8310-11A5FF7B62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C9F92-68E5-4E24-BFEA-62E75A7CE4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90ED1-F32A-43BD-848B-199FBD9606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9F748-48ED-4CDC-A834-CABFDF364A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54B69-A894-4EA6-9FEA-043DFEC1F7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79619-CCCB-4020-9DB1-93A116B06E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863B9B-AA19-46DF-8CC1-1A2DF12D4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385F-736A-40FE-BE46-7D9A5DFAA6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98BA9-D63C-4A56-85AE-EA345803069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870CD-94EF-44E0-B9CF-15EA49A5E5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FF5A62-C814-41E3-89E8-2F0DDA1E890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265DF8-AA2A-4BE8-8C41-9F4E303D87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C4166-7CE9-4A41-A169-2053F21296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696104-EF5B-4507-A790-33BC1DEDEC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11685-5BFC-4FC6-9657-05AE41D597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6AE2-B07D-49C3-BB49-FBD1B88C7F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9CBD-A54F-4AE1-BE28-E11FBAC3E5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896B-BF12-4B74-B20C-A36DE314D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6A32-D6E7-484A-9171-54D8F97DE5C2}" type="slidenum">
              <a: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05C-BC11-47DC-BE62-9E1ADD19C4A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706-892B-4990-B1F1-F749051DE7B0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B9B-E2D8-46DF-A0B9-0859A14485B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E41B-88C1-4717-83D9-6874ADBAF16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E61-B0AA-426A-9610-BD02A2A4F79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DF1C-EA25-400D-AB95-FC11232D405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A317-03B7-4AAB-8871-BCBDB02B076F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CC10-8E12-4A6B-B32B-D9818401DB2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2634-84FF-40FF-B135-4CC770BA3F3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0207-B785-4516-8575-DBF37D78250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BE2-1D8C-4FE1-BA23-2A630DB8628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1634-2A86-4750-BAA9-36CE0158637A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FC7B-D247-4B55-89C8-FCB2029C1851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3399"/>
                </a:solidFill>
                <a:latin typeface="Calibri"/>
              </a:rPr>
              <a:t>ICN webinar on parental liability </a:t>
            </a:r>
            <a:br>
              <a:rPr sz="4000"/>
            </a:br>
            <a:br>
              <a:rPr sz="40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20 September 2017 </a:t>
            </a:r>
            <a:br>
              <a:rPr sz="2800"/>
            </a:br>
            <a:br>
              <a:rPr sz="4000"/>
            </a:br>
            <a:r>
              <a:rPr b="1" lang="hu-HU" sz="3200" spc="-1" strike="noStrike">
                <a:solidFill>
                  <a:srgbClr val="003399"/>
                </a:solidFill>
                <a:latin typeface="Calibri"/>
              </a:rPr>
              <a:t>Tímea Pálos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br>
              <a:rPr sz="32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Case Handler – DG Competition, Cartels Directorate  </a:t>
            </a: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BE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F34-47B7-4123-ADBB-015CD489044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parental liability in EU law 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ncept was developed by cas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mmission must show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had the capability of exercising decisive influence over the subsidiary that committed the infringement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in fact exercised this power (ICI judgement)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DC1-F3F9-48D3-A537-86343429718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Where the subsidiary does not decid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dependently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upon its own conduct on the market, but carries out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 all material respec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th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struction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given to it by the parent company.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ccount must be taken, in particular, to the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organisational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egal link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ere is a r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ebuttabl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of decisive influence over subsidiaries owned by 100% (or almost 100%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presumption can be reversed by the parent company by adducing sufficient evid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F30-20D9-49B7-851A-0B720474679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decisive influenc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EU Treaty (Articles 101 and 102 TFEU) applies to infringements committed by "undertaking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n undertaking is an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 unit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consisting of a unitary organization of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ersonal,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tangible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tangible elemen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which pursues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pecific economic aim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on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ong-term basis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and can contribute to the commission of an infringement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ingle economic unit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can consist of several legal entities (i.e. companies): parents and subsidiari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C96-F7A9-4B93-8207-0AE5FBD9C005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8956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f a parent company exercises decisive influence over its subsidiary, they form a single economic unit/undert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s entitled to hold the parent company liable for the infringement committed by its subsidi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Parent company and subsidiary are held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jointly and severally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liable for the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's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ettled practice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s to hold parents liable for the illegal conduct of their subsidia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0BF8-2E14-456F-A68C-36BB8EB78DAF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796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dentifies the legal entities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directly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participated in the infringement ("direct participants"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exercised decisive influenc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over the direct participants (parent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normally pursues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ultimat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("top") parent and ignores intermediate compan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has discretion to attribute li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24E3-41B8-41E0-A890-D04C4EE5B06B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Exampl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98360" y="2276640"/>
            <a:ext cx="895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A subsidiary participated directly in an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100% (or almost 100%) by its parent company – 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of decisive influence applies. The parent can adduce factual evidence that this was not the c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significantly less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than 100%, the Commission has to prove decisive influence based on the f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inal decis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subsidiary: liability for direct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parent: parental lia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both: joint and several liability for the payment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8EA-BFF3-4D3B-B865-F91E9F06E70E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177336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sequences of parental liability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there was decisive influence, joint and several liability for the fine seems to be justifi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More effective recovery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legal "cap" for the fine is 10% of the total worldwide turnover of the undertaking – potentially higher fines can be im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Deterrence multiplier can be applied on basis of turnover of pa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risk of finding recidivism increases (recidivism uplif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acilitates private damages a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BC0-3645-4031-A9D2-0442C3074994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Calibri"/>
              </a:rPr>
              <a:t>Thank you for your attention</a:t>
            </a:r>
            <a:endParaRPr b="1" lang="en-US" sz="40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2DE-2517-4BA8-9410-3410B52805AB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6:14:31Z</dcterms:created>
  <dc:creator>LAINA Flavio (COMP)</dc:creator>
  <dc:description/>
  <dc:language>en-US</dc:language>
  <cp:lastModifiedBy>DQC</cp:lastModifiedBy>
  <cp:lastPrinted>2015-01-12T17:39:06Z</cp:lastPrinted>
  <dcterms:modified xsi:type="dcterms:W3CDTF">2017-09-12T07:38:51Z</dcterms:modified>
  <cp:revision>124</cp:revision>
  <dc:subject/>
  <dc:title>PowerPoint Presentation</dc:title>
</cp:coreProperties>
</file>