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193620-FD9A-4381-952D-1372F2B232D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16AF11-EC51-4C84-B96A-3BC5B25F4A7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144-F7EF-456E-BC9C-CBE793BD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CBB-8EEB-4149-AED2-019E54A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E26-F88A-4BD5-98C5-6BF39E26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441-5915-4AC5-A21D-BC921F2D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F65-C8C9-45D8-9C2F-E75E36B3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DBC-B47A-4F46-BE9B-9574AF9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E31-1ECF-4FCE-A28F-2F8CA3FB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B8B-DBD9-4411-A696-814438C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AF0-949D-48CE-AA76-B3A29D4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CB1-FA2A-4376-B71D-26910D7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ACE-87A5-4E61-ABE9-A679B04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DF9-6429-4165-8851-50F16A6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81A1-08E8-4D5C-A972-43B0B5817C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7653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35812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46240" y="255276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ternative Methods of Cartel Detection in Canad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3573360"/>
            <a:ext cx="6840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Ex Officio Cartel Investig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ctober 14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F933-106B-435D-8114-B1678C0904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6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Maintaining and improving public awareness of the Bureau’s role and mandate is a crucial feature of maintaining credible domestic enforcement program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 regularly publishes press releases following events, such as the laying of charges and/or guilty pleas, and also publishes speeches given by Bureau officials 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’s cartel awareness efforts, particularly the media attention that large cartel and bid-rigging cases draw, increase awareness of competition law throughout the general Canadian popul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B4FB-80A1-4948-84E2-44E6EDDA57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Quebec Gas Cartel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68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vestigation of retail gas stations who conspired to fix prices in local communities in Quebec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different investigative tools used, including wiretaps and searche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searched 88 premises in two weeks, the largest search ever undertaken by the Bureau. 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9 individuals and 15 companies have been charged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3 individuals and 7 companies have pleaded or were found guilty, with fines totalling over $3 million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6 individuals have been sentenced to terms of imprisonment totalling 54 months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33" name="Picture 4" descr="C:\Users\PinheyK\Pictures\gas.jpg"/>
          <p:cNvPicPr/>
          <p:nvPr/>
        </p:nvPicPr>
        <p:blipFill>
          <a:blip r:embed="rId1"/>
          <a:stretch/>
        </p:blipFill>
        <p:spPr>
          <a:xfrm>
            <a:off x="6021360" y="3933720"/>
            <a:ext cx="2892600" cy="216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6084720" y="1697040"/>
            <a:ext cx="2829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1CC-6510-480B-B7C1-0E573AB477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IT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stigation of companies and individuals who rigged bids to obtain Government of Canada contracts for information technology services worth approximately $67 million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harges laid against 14 individuals and 7 companie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 date, 2 individuals have each pleaded guilty to one count of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3-month preliminary hearing was completed and the accused have been committed to stand tria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1779-9F6B-4F94-B05A-FA0BE61A08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ase Example: Bid Rigging in the Construction Industry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February 2011, the Québec provincial police force, the Sureté du Québec, created a Permanent Anti-Corruption Unit (UPAC)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conducted a joint investigation with UPAC involving bid-rigging in the construction industry in greater Montreal area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June 2012, a total of 77 charges were laid against nine companies and 11 individuals in in connection with a collusion scheme. These charges included 20 counts of bid-rigging against nine companies and 24 counts of bid-rigging against six individual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41" name="Picture 4" descr="C:\Users\pinheyk\Pictures\597068-mandat-upac-creee-fevrier-2011.jpg"/>
          <p:cNvPicPr/>
          <p:nvPr/>
        </p:nvPicPr>
        <p:blipFill>
          <a:blip r:embed="rId1"/>
          <a:stretch/>
        </p:blipFill>
        <p:spPr>
          <a:xfrm>
            <a:off x="5173560" y="46324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inheyk\Pictures\imagesCAIKVGCM.jpg"/>
          <p:cNvPicPr/>
          <p:nvPr/>
        </p:nvPicPr>
        <p:blipFill>
          <a:blip r:embed="rId2"/>
          <a:stretch/>
        </p:blipFill>
        <p:spPr>
          <a:xfrm>
            <a:off x="1690560" y="4632480"/>
            <a:ext cx="290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4BE-8FDD-4032-A9CA-18B3CB597C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394E-72F8-4D26-BEEA-56FDA21537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munity and Leniency Program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613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goal of the Competition Bureau’s Immunity Program is to uncover and stop criminal anti-competitive activity and to deter others from engaging in this behaviour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Immunity Program has proven to be the Bureau’s single most powerful means of detecting, investigating and prosecuting criminal activity under the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ur Leniency Program complements our Immunity Program by supporting the effective and efficient enforcement of 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5" descr="03248-eng"/>
          <p:cNvPicPr/>
          <p:nvPr/>
        </p:nvPicPr>
        <p:blipFill>
          <a:blip r:embed="rId1"/>
          <a:stretch/>
        </p:blipFill>
        <p:spPr>
          <a:xfrm>
            <a:off x="6516720" y="2095560"/>
            <a:ext cx="246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594-C323-4D60-AC31-AC313E98B9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Other Methods of Cartel Detection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stleblower initiativ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with the business and legal commun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45B9-89D8-4238-BD93-4EEFE1FE63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Centre is the primary point of entry for requests from members of the public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ublic can contact the Bureau through the Information Centre by telephone or e-mai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 also have an online complaints form to facilitate the complaints proc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4" descr="C:\Users\pinheyk\Pictures\untitled.png"/>
          <p:cNvPicPr/>
          <p:nvPr/>
        </p:nvPicPr>
        <p:blipFill>
          <a:blip r:embed="rId1"/>
          <a:stretch/>
        </p:blipFill>
        <p:spPr>
          <a:xfrm>
            <a:off x="6156360" y="1976400"/>
            <a:ext cx="2830320" cy="16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pinheyk\Pictures\imagesCA5EAGNG.jpg"/>
          <p:cNvPicPr/>
          <p:nvPr/>
        </p:nvPicPr>
        <p:blipFill>
          <a:blip r:embed="rId2"/>
          <a:stretch/>
        </p:blipFill>
        <p:spPr>
          <a:xfrm>
            <a:off x="6087960" y="4149720"/>
            <a:ext cx="2898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9AD-08EC-430B-A266-783049F0EE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riminal Cartel Whistleblower Initiativ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has a specific provision protecting the identity of a “whistleblower”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recently announced the establishment of a new whistleblower initiative and updates to its website to provide information about how whistleblowers can contact the Bureau to report alleged criminal activity 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wo of the objectives of this initiative are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quality and quantity of whistleblower requests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number of cases originating outside of the Immunity Program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8" name="Picture 4" descr="C:\Users\pinheyk\Pictures\Whistleblower.jpg"/>
          <p:cNvPicPr/>
          <p:nvPr/>
        </p:nvPicPr>
        <p:blipFill>
          <a:blip r:embed="rId1"/>
          <a:stretch/>
        </p:blipFill>
        <p:spPr>
          <a:xfrm>
            <a:off x="5076720" y="525456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2556000" y="5013360"/>
            <a:ext cx="1855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AFE-08E1-437E-A070-91B58242F4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reau officers regularly monitor the media for potential cartel conduc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also benefits from information sharing within the agenc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ally, Bureau officers and management frequently liaise with international counterpa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3" name="Picture 4" descr="C:\Users\pinheyk\Pictures\imagesCAPCH4SI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60600" cy="188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pinheyk\Pictures\imagesCAKQJUVC.jpg"/>
          <p:cNvPicPr/>
          <p:nvPr/>
        </p:nvPicPr>
        <p:blipFill>
          <a:blip r:embed="rId2"/>
          <a:stretch/>
        </p:blipFill>
        <p:spPr>
          <a:xfrm>
            <a:off x="5508720" y="419112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50D-B557-4540-B8F0-B5182DB708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7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has partnerships with several domestic agencies which complement and support the work of the Bureau, as well as strong international partnership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domestic side, we are strengthening our ties with various Canadian police forces and their respective white-collar crime investigation uni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international front, the Bureau works in partnership with its international counterparts when conducting international investigation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8" name="Picture 3" descr="C:\Users\pinheyk\Pictures\20131002-192404-g.jpg"/>
          <p:cNvPicPr/>
          <p:nvPr/>
        </p:nvPicPr>
        <p:blipFill>
          <a:blip r:embed="rId1"/>
          <a:stretch/>
        </p:blipFill>
        <p:spPr>
          <a:xfrm>
            <a:off x="1332000" y="4667400"/>
            <a:ext cx="3384360" cy="19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pinheyk\Pictures\untitled.png"/>
          <p:cNvPicPr/>
          <p:nvPr/>
        </p:nvPicPr>
        <p:blipFill>
          <a:blip r:embed="rId2"/>
          <a:stretch/>
        </p:blipFill>
        <p:spPr>
          <a:xfrm>
            <a:off x="4786200" y="4667400"/>
            <a:ext cx="419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61D-B561-4436-A0EE-14224B5A26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provides anti bid-rigging presentations to all levels of government, including Public Works and Government Services Canada (PWGSC), the principal procurement agency of the Canadian Federal governmen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se outreach presentations provide procurement authorities with knowledge of how to detect, deter and report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We are in the process of completing a Memorandum of Understanding with PWGSC that will formalize our strong relationship with the agency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4" descr="C:\Users\pinheyk\Pictures\imagesCABQOC2C.jpg"/>
          <p:cNvPicPr/>
          <p:nvPr/>
        </p:nvPicPr>
        <p:blipFill>
          <a:blip r:embed="rId1"/>
          <a:stretch/>
        </p:blipFill>
        <p:spPr>
          <a:xfrm>
            <a:off x="2484360" y="5445000"/>
            <a:ext cx="4448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E6EF-9FD1-4FE3-B54F-561C077316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Times New Roman"/>
              </a:rPr>
              <a:t>Outreach in the Business and Legal Communities</a:t>
            </a:r>
            <a:r>
              <a:rPr b="0" lang="en-CA" sz="2000" spc="-1" strike="noStrike">
                <a:solidFill>
                  <a:srgbClr val="000000"/>
                </a:solidFill>
                <a:latin typeface="Humanst521 B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regularly conducts outreach sessions with the business communit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ing these presentations, the Bureau uses a post-outreach presentation survey to evaluate the effectiveness of the presentation and participants’ increased awaren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publishes for consumers and businesses on its websit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PIOTROWSKI Dominik (COMP)</cp:lastModifiedBy>
  <dcterms:modified xsi:type="dcterms:W3CDTF">2014-10-10T11:16:24Z</dcterms:modified>
  <cp:revision>162</cp:revision>
  <dc:subject/>
  <dc:title>PowerPoint Presentation</dc:title>
</cp:coreProperties>
</file>