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manst521 Bd BT"/>
              </a:rPr>
              <a:t>Click to move the slide</a:t>
            </a: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B3C3AE3-9B20-49B8-BAB2-6FAF5FACF723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649DCEE-7AB8-4676-AA10-88703021A4C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0DD1-B8FA-4AA6-BB6D-82299B09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D2D5-E148-40C6-808B-C8377034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860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89FD-1979-4318-BEBD-7BC154245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440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440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60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DCF7-7002-40B5-AD59-21DF9B74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838080"/>
            <a:ext cx="8458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92A4-176B-4781-9E2D-29C92BAF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860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860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440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440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460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491B-2FE6-41E1-945C-A529F57F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CA51-5BD6-4A30-98BD-1EE4932E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54A4-8CE0-4A92-8EA1-2E7DD8F4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838080"/>
            <a:ext cx="8458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5089-4AA8-4409-8AC2-8BC7A96A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3C09-655E-4B94-9976-F2DF25FB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860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D3E2-9389-4D5F-AFDE-F2829EAB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96F7-D935-406A-9089-AB68D022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ontent_Slide"/>
          <p:cNvPicPr/>
          <p:nvPr/>
        </p:nvPicPr>
        <p:blipFill>
          <a:blip r:embed="rId2"/>
          <a:stretch/>
        </p:blipFill>
        <p:spPr>
          <a:xfrm>
            <a:off x="123840" y="90360"/>
            <a:ext cx="8896320" cy="6677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manst521 Bd B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oudyOl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oudyOlS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77CA-F6A8-40CA-A973-2E2F1E7432C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Title_Slide_e"/>
          <p:cNvPicPr/>
          <p:nvPr/>
        </p:nvPicPr>
        <p:blipFill>
          <a:blip r:embed="rId2"/>
          <a:stretch/>
        </p:blipFill>
        <p:spPr>
          <a:xfrm>
            <a:off x="123840" y="90360"/>
            <a:ext cx="8896320" cy="66772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2"/>
          <p:cNvSpPr/>
          <p:nvPr/>
        </p:nvSpPr>
        <p:spPr>
          <a:xfrm>
            <a:off x="0" y="213372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manst521 Bd B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oudyOl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oudyOlS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3645000"/>
            <a:ext cx="76536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br>
              <a:rPr sz="3000"/>
            </a:br>
            <a:br>
              <a:rPr sz="1500"/>
            </a:b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80880" y="3581280"/>
            <a:ext cx="693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246240" y="2552760"/>
            <a:ext cx="864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lternative Methods of Cartel Detection in Canada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539640" y="3573360"/>
            <a:ext cx="684072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Remarks of Kristen Pinhey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ompetition Law Officer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ompetition Bureau Canad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artel Working Group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G 1 Teleconference on Ex Officio Cartel Investigation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October 14, 201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C606-3D7D-4294-8715-6DA0302C134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ublic Awareness of the Bureau’s Mandate and Programs</a:t>
            </a:r>
            <a:endParaRPr b="0" lang="en-US" sz="26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Times New Roman"/>
              </a:rPr>
              <a:t>Maintaining and improving public awareness of the Bureau’s role and mandate is a crucial feature of maintaining credible domestic enforcement programs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22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Times New Roman"/>
              </a:rPr>
              <a:t>The Bureau regularly publishes press releases following events, such as the laying of charges and/or guilty pleas, and also publishes speeches given by Bureau officials 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22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Times New Roman"/>
              </a:rPr>
              <a:t>The Bureau’s cartel awareness efforts, particularly the media attention that large cartel and bid-rigging cases draw, increase awareness of competition law throughout the general Canadian population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5055-907A-4274-B3E7-01544A557F4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Case Example: Quebec Gas Cartel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5688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Investigation of retail gas stations who conspired to fix prices in local communities in Quebec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Many different investigative tools used, including wiretaps and searche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he Bureau searched 88 premises in two weeks, the largest search ever undertaken by the Bureau. 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he matter is currently before the court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39 individuals and 15 companies have been charged</a:t>
            </a:r>
            <a:endParaRPr b="0" lang="en-US" sz="18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33 individuals and 7 companies have pleaded or were found guilty, with fines totalling over $3 million</a:t>
            </a:r>
            <a:endParaRPr b="0" lang="en-US" sz="18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6 individuals have been sentenced to terms of imprisonment totalling 54 months</a:t>
            </a:r>
            <a:endParaRPr b="0" lang="en-US" sz="18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33" name="Picture 4" descr="C:\Users\PinheyK\Pictures\gas.jpg"/>
          <p:cNvPicPr/>
          <p:nvPr/>
        </p:nvPicPr>
        <p:blipFill>
          <a:blip r:embed="rId1"/>
          <a:stretch/>
        </p:blipFill>
        <p:spPr>
          <a:xfrm>
            <a:off x="6021360" y="3933720"/>
            <a:ext cx="2892600" cy="2165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Users\PinheyK\Pictures\untitled.png"/>
          <p:cNvPicPr/>
          <p:nvPr/>
        </p:nvPicPr>
        <p:blipFill>
          <a:blip r:embed="rId2"/>
          <a:stretch/>
        </p:blipFill>
        <p:spPr>
          <a:xfrm>
            <a:off x="6084720" y="1697040"/>
            <a:ext cx="282924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1C1B-43A1-4D20-92C1-65CC2B5EA50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Case Example: IT Services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81342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vestigation of companies and individuals who rigged bids to obtain Government of Canada contracts for information technology services worth approximately $67 million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matter is currently before the court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Charges laid against 14 individuals and 7 companies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o date, 2 individuals have each pleaded guilty to one count of bid-rigging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 3-month preliminary hearing was completed and the accused have been committed to stand tria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875E-2B6E-4971-9F8C-F3A6AF3DC61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Case Example: Bid Rigging in the Construction Industry</a:t>
            </a:r>
            <a:endParaRPr b="0" lang="en-US" sz="28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675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n February 2011, the Québec provincial police force, the Sureté du Québec, created a Permanent Anti-Corruption Unit (UPAC)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he Bureau conducted a joint investigation with UPAC involving bid-rigging in the construction industry in greater Montreal area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n June 2012, a total of 77 charges were laid against nine companies and 11 individuals in in connection with a collusion scheme. These charges included 20 counts of bid-rigging against nine companies and 24 counts of bid-rigging against six individual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41" name="Picture 4" descr="C:\Users\pinheyk\Pictures\597068-mandat-upac-creee-fevrier-2011.jpg"/>
          <p:cNvPicPr/>
          <p:nvPr/>
        </p:nvPicPr>
        <p:blipFill>
          <a:blip r:embed="rId1"/>
          <a:stretch/>
        </p:blipFill>
        <p:spPr>
          <a:xfrm>
            <a:off x="5173560" y="4632480"/>
            <a:ext cx="2998800" cy="20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:\Users\pinheyk\Pictures\imagesCAIKVGCM.jpg"/>
          <p:cNvPicPr/>
          <p:nvPr/>
        </p:nvPicPr>
        <p:blipFill>
          <a:blip r:embed="rId2"/>
          <a:stretch/>
        </p:blipFill>
        <p:spPr>
          <a:xfrm>
            <a:off x="1690560" y="4632480"/>
            <a:ext cx="29070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9932-9A20-4F4A-ADE1-0E871943DF5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ppt-template-closin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1C3E-DC72-436A-8EF0-AC33B55475B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Immunity and Leniency Programs</a:t>
            </a:r>
            <a:endParaRPr b="0" lang="en-US" sz="28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37960" y="1557360"/>
            <a:ext cx="6134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he goal of the Competition Bureau’s Immunity Program is to uncover and stop criminal anti-competitive activity and to deter others from engaging in this behaviour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he Immunity Program has proven to be the Bureau’s single most powerful means of detecting, investigating and prosecuting criminal activity under the Act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Our Leniency Program complements our Immunity Program by supporting the effective and efficient enforcement of the </a:t>
            </a:r>
            <a:r>
              <a:rPr b="0" i="1" lang="en-CA" sz="2200" spc="-1" strike="noStrike">
                <a:solidFill>
                  <a:srgbClr val="000000"/>
                </a:solidFill>
                <a:latin typeface="Times New Roman"/>
              </a:rPr>
              <a:t>Competition Act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96" name="Picture 5" descr="03248-eng"/>
          <p:cNvPicPr/>
          <p:nvPr/>
        </p:nvPicPr>
        <p:blipFill>
          <a:blip r:embed="rId1"/>
          <a:stretch/>
        </p:blipFill>
        <p:spPr>
          <a:xfrm>
            <a:off x="6516720" y="2095560"/>
            <a:ext cx="24606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F2D7-59FC-4263-8A3E-0F04D940514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Other Methods of Cartel Detection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Centre and complaints line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stleblower initiative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active monitoring and competitive intelligence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nerships with domestic and international agencie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s with procurement authoritie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reach with the business and legal communitie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awareness of the Bureau’s mandate and program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DC9B-1FD8-4578-B3CF-A52FA8D338E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formation Centre and Complaints Line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601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formation Centre is the primary point of entry for requests from members of the public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public can contact the Bureau through the Information Centre by telephone or e-mai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 also have an online complaints form to facilitate the complaints proces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03" name="Picture 4" descr="C:\Users\pinheyk\Pictures\untitled.png"/>
          <p:cNvPicPr/>
          <p:nvPr/>
        </p:nvPicPr>
        <p:blipFill>
          <a:blip r:embed="rId1"/>
          <a:stretch/>
        </p:blipFill>
        <p:spPr>
          <a:xfrm>
            <a:off x="6156360" y="1976400"/>
            <a:ext cx="2830320" cy="1698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C:\Users\pinheyk\Pictures\imagesCA5EAGNG.jpg"/>
          <p:cNvPicPr/>
          <p:nvPr/>
        </p:nvPicPr>
        <p:blipFill>
          <a:blip r:embed="rId2"/>
          <a:stretch/>
        </p:blipFill>
        <p:spPr>
          <a:xfrm>
            <a:off x="6087960" y="4149720"/>
            <a:ext cx="289872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3F31-AA0D-4C5F-80CB-A5A164FCD0F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Criminal Cartel Whistleblower Initiative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CA" sz="2200" spc="-1" strike="noStrike">
                <a:solidFill>
                  <a:srgbClr val="000000"/>
                </a:solidFill>
                <a:latin typeface="Times New Roman"/>
              </a:rPr>
              <a:t>Competition Act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 has a specific provision protecting the identity of a “whistleblower”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he Bureau recently announced the establishment of a new whistleblower initiative and updates to its website to provide information about how whistleblowers can contact the Bureau to report alleged criminal activity 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wo of the objectives of this initiative are: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Times New Roman"/>
              </a:rPr>
              <a:t>To increase the quality and quantity of whistleblower requests.</a:t>
            </a:r>
            <a:endParaRPr b="0" lang="en-US" sz="19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Times New Roman"/>
              </a:rPr>
              <a:t>To increase the number of cases originating outside of the Immunity Program.</a:t>
            </a:r>
            <a:endParaRPr b="0" lang="en-US" sz="19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08" name="Picture 4" descr="C:\Users\pinheyk\Pictures\Whistleblower.jpg"/>
          <p:cNvPicPr/>
          <p:nvPr/>
        </p:nvPicPr>
        <p:blipFill>
          <a:blip r:embed="rId1"/>
          <a:stretch/>
        </p:blipFill>
        <p:spPr>
          <a:xfrm>
            <a:off x="5076720" y="5254560"/>
            <a:ext cx="2438640" cy="1371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Users\pinheyk\Pictures\untitled.png"/>
          <p:cNvPicPr/>
          <p:nvPr/>
        </p:nvPicPr>
        <p:blipFill>
          <a:blip r:embed="rId2"/>
          <a:stretch/>
        </p:blipFill>
        <p:spPr>
          <a:xfrm>
            <a:off x="2556000" y="5013360"/>
            <a:ext cx="185580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9BD5-4828-462B-890D-27F3E8ED6DF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7854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Proactive Monitoring and Competitive Intelligence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773000"/>
            <a:ext cx="5148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reau officers regularly monitor the media for potential cartel conduct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Bureau also benefits from information sharing within the agency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dditionally, Bureau officers and management frequently liaise with international counterpart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13" name="Picture 4" descr="C:\Users\pinheyk\Pictures\imagesCAPCH4SI.jpg"/>
          <p:cNvPicPr/>
          <p:nvPr/>
        </p:nvPicPr>
        <p:blipFill>
          <a:blip r:embed="rId1"/>
          <a:stretch/>
        </p:blipFill>
        <p:spPr>
          <a:xfrm>
            <a:off x="5292720" y="1844640"/>
            <a:ext cx="3360600" cy="188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:\Users\pinheyk\Pictures\imagesCAKQJUVC.jpg"/>
          <p:cNvPicPr/>
          <p:nvPr/>
        </p:nvPicPr>
        <p:blipFill>
          <a:blip r:embed="rId2"/>
          <a:stretch/>
        </p:blipFill>
        <p:spPr>
          <a:xfrm>
            <a:off x="5508720" y="4191120"/>
            <a:ext cx="30477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BF56-827D-4CA5-B8AD-DAF546216E7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s with Domestic and International Agencies</a:t>
            </a:r>
            <a:endParaRPr b="0" lang="en-US" sz="27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he Bureau has partnerships with several domestic agencies which complement and support the work of the Bureau, as well as strong international partnership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On the domestic side, we are strengthening our ties with various Canadian police forces and their respective white-collar crime investigation unit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On the international front, the Bureau works in partnership with its international counterparts when conducting international investigation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18" name="Picture 3" descr="C:\Users\pinheyk\Pictures\20131002-192404-g.jpg"/>
          <p:cNvPicPr/>
          <p:nvPr/>
        </p:nvPicPr>
        <p:blipFill>
          <a:blip r:embed="rId1"/>
          <a:stretch/>
        </p:blipFill>
        <p:spPr>
          <a:xfrm>
            <a:off x="1332000" y="4667400"/>
            <a:ext cx="3384360" cy="1900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C:\Users\pinheyk\Pictures\untitled.png"/>
          <p:cNvPicPr/>
          <p:nvPr/>
        </p:nvPicPr>
        <p:blipFill>
          <a:blip r:embed="rId2"/>
          <a:stretch/>
        </p:blipFill>
        <p:spPr>
          <a:xfrm>
            <a:off x="4786200" y="4667400"/>
            <a:ext cx="419760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8EBA-C62E-4DE7-9AC5-6C41F55BEBC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Relationships with Procurement Authorities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he Bureau provides anti bid-rigging presentations to all levels of government, including Public Works and Government Services Canada (PWGSC), the principal procurement agency of the Canadian Federal government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hese outreach presentations provide procurement authorities with knowledge of how to detect, deter and report bid-rigging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We are in the process of completing a Memorandum of Understanding with PWGSC that will formalize our strong relationship with the agency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23" name="Picture 4" descr="C:\Users\pinheyk\Pictures\imagesCABQOC2C.jpg"/>
          <p:cNvPicPr/>
          <p:nvPr/>
        </p:nvPicPr>
        <p:blipFill>
          <a:blip r:embed="rId1"/>
          <a:stretch/>
        </p:blipFill>
        <p:spPr>
          <a:xfrm>
            <a:off x="2484360" y="5445000"/>
            <a:ext cx="444816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6017-C54D-4C56-861F-2CC3466F60B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3640" y="907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700" spc="-1" strike="noStrike">
                <a:solidFill>
                  <a:srgbClr val="000000"/>
                </a:solidFill>
                <a:latin typeface="Times New Roman"/>
              </a:rPr>
              <a:t>Outreach in the Business and Legal Communities</a:t>
            </a:r>
            <a:r>
              <a:rPr b="0" lang="en-CA" sz="2000" spc="-1" strike="noStrike">
                <a:solidFill>
                  <a:srgbClr val="000000"/>
                </a:solidFill>
                <a:latin typeface="Humanst521 Bd B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Bureau regularly conducts outreach sessions with the business community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ollowing these presentations, the Bureau uses a post-outreach presentation survey to evaluate the effectiveness of the presentation and participants’ increased awarenes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Bureau publishes for consumers and businesses on its website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5:36:40Z</dcterms:created>
  <dc:creator>RodericY</dc:creator>
  <dc:description/>
  <dc:language>en-US</dc:language>
  <cp:lastModifiedBy>PIOTROWSKI Dominik (COMP)</cp:lastModifiedBy>
  <dcterms:modified xsi:type="dcterms:W3CDTF">2014-10-10T11:16:24Z</dcterms:modified>
  <cp:revision>162</cp:revision>
  <dc:subject/>
  <dc:title>PowerPoint Presentation</dc:title>
</cp:coreProperties>
</file>