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08EF1F-005F-415D-899F-7692653E27E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2F6504-7CB5-47C3-890E-5F28A8665BE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4CF-2D5D-408A-8DE2-9C49F080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F1D-73D4-42E5-BD53-CBE4A9D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407-7D16-4F07-BA38-90DD45C7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A05-5F1C-46D8-B3B0-6E6EC50A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91B-99E4-42A6-8777-6342EBB3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B80-0C62-49A6-9D27-736A886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556-98BD-4404-BB46-D2CB2C04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E49-89C5-4150-B43E-75A63EF5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F78-1459-460F-A63B-1057590B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996-6DC9-4629-B55B-CDF4E8E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8A9-6462-4336-975A-AF79294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BA3-A52C-49E5-885B-A645655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D46-1B8B-47C4-B0AD-8437EA8CB2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7653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35812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46240" y="255276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ternative Methods of Cartel Detection in Canad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3573360"/>
            <a:ext cx="6840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Ex Officio Cartel Investig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ctober 14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692-F90E-4C94-B465-C97A67DBDF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6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Maintaining and improving public awareness of the Bureau’s role and mandate is a crucial feature of maintaining credible domestic enforcement program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 regularly publishes press releases following events, such as the laying of charges and/or guilty pleas, and also publishes speeches given by Bureau officials 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’s cartel awareness efforts, particularly the media attention that large cartel and bid-rigging cases draw, increase awareness of competition law throughout the general Canadian popul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C72-96D4-45BA-AA8D-55CA5AB8DD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Quebec Gas Cartel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68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vestigation of retail gas stations who conspired to fix prices in local communities in Quebec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different investigative tools used, including wiretaps and searche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searched 88 premises in two weeks, the largest search ever undertaken by the Bureau. 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9 individuals and 15 companies have been charged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3 individuals and 7 companies have pleaded or were found guilty, with fines totalling over $3 million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6 individuals have been sentenced to terms of imprisonment totalling 54 months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33" name="Picture 4" descr="C:\Users\PinheyK\Pictures\gas.jpg"/>
          <p:cNvPicPr/>
          <p:nvPr/>
        </p:nvPicPr>
        <p:blipFill>
          <a:blip r:embed="rId1"/>
          <a:stretch/>
        </p:blipFill>
        <p:spPr>
          <a:xfrm>
            <a:off x="6021360" y="3933720"/>
            <a:ext cx="2892600" cy="216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6084720" y="1697040"/>
            <a:ext cx="2829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11E4-2310-44AF-88CF-6F38779282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IT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stigation of companies and individuals who rigged bids to obtain Government of Canada contracts for information technology services worth approximately $67 million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harges laid against 14 individuals and 7 companie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 date, 2 individuals have each pleaded guilty to one count of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3-month preliminary hearing was completed and the accused have been committed to stand tria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504-96B6-4800-93BF-4E15DC0DC3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ase Example: Bid Rigging in the Construction Industry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February 2011, the Québec provincial police force, the Sureté du Québec, created a Permanent Anti-Corruption Unit (UPAC)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conducted a joint investigation with UPAC involving bid-rigging in the construction industry in greater Montreal area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June 2012, a total of 77 charges were laid against nine companies and 11 individuals in in connection with a collusion scheme. These charges included 20 counts of bid-rigging against nine companies and 24 counts of bid-rigging against six individual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41" name="Picture 4" descr="C:\Users\pinheyk\Pictures\597068-mandat-upac-creee-fevrier-2011.jpg"/>
          <p:cNvPicPr/>
          <p:nvPr/>
        </p:nvPicPr>
        <p:blipFill>
          <a:blip r:embed="rId1"/>
          <a:stretch/>
        </p:blipFill>
        <p:spPr>
          <a:xfrm>
            <a:off x="5173560" y="46324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inheyk\Pictures\imagesCAIKVGCM.jpg"/>
          <p:cNvPicPr/>
          <p:nvPr/>
        </p:nvPicPr>
        <p:blipFill>
          <a:blip r:embed="rId2"/>
          <a:stretch/>
        </p:blipFill>
        <p:spPr>
          <a:xfrm>
            <a:off x="1690560" y="4632480"/>
            <a:ext cx="290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3D9-FE30-44B6-BBDB-FD076774DC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AE8-9E21-4A04-89EC-8ADA86C1E4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munity and Leniency Program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613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goal of the Competition Bureau’s Immunity Program is to uncover and stop criminal anti-competitive activity and to deter others from engaging in this behaviour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Immunity Program has proven to be the Bureau’s single most powerful means of detecting, investigating and prosecuting criminal activity under the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ur Leniency Program complements our Immunity Program by supporting the effective and efficient enforcement of 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5" descr="03248-eng"/>
          <p:cNvPicPr/>
          <p:nvPr/>
        </p:nvPicPr>
        <p:blipFill>
          <a:blip r:embed="rId1"/>
          <a:stretch/>
        </p:blipFill>
        <p:spPr>
          <a:xfrm>
            <a:off x="6516720" y="2095560"/>
            <a:ext cx="246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633-F336-4BD5-92A7-AFCC0775DC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Other Methods of Cartel Detection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stleblower initiativ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with the business and legal commun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EFD5-7077-41AD-926F-DB1DED8FBF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Centre is the primary point of entry for requests from members of the public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ublic can contact the Bureau through the Information Centre by telephone or e-mai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 also have an online complaints form to facilitate the complaints proc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4" descr="C:\Users\pinheyk\Pictures\untitled.png"/>
          <p:cNvPicPr/>
          <p:nvPr/>
        </p:nvPicPr>
        <p:blipFill>
          <a:blip r:embed="rId1"/>
          <a:stretch/>
        </p:blipFill>
        <p:spPr>
          <a:xfrm>
            <a:off x="6156360" y="1976400"/>
            <a:ext cx="2830320" cy="16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pinheyk\Pictures\imagesCA5EAGNG.jpg"/>
          <p:cNvPicPr/>
          <p:nvPr/>
        </p:nvPicPr>
        <p:blipFill>
          <a:blip r:embed="rId2"/>
          <a:stretch/>
        </p:blipFill>
        <p:spPr>
          <a:xfrm>
            <a:off x="6087960" y="4149720"/>
            <a:ext cx="2898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94D3-D731-43E4-ADE0-D4DC70E98A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riminal Cartel Whistleblower Initiativ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has a specific provision protecting the identity of a “whistleblower”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recently announced the establishment of a new whistleblower initiative and updates to its website to provide information about how whistleblowers can contact the Bureau to report alleged criminal activity 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wo of the objectives of this initiative are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quality and quantity of whistleblower requests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number of cases originating outside of the Immunity Program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8" name="Picture 4" descr="C:\Users\pinheyk\Pictures\Whistleblower.jpg"/>
          <p:cNvPicPr/>
          <p:nvPr/>
        </p:nvPicPr>
        <p:blipFill>
          <a:blip r:embed="rId1"/>
          <a:stretch/>
        </p:blipFill>
        <p:spPr>
          <a:xfrm>
            <a:off x="5076720" y="525456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2556000" y="5013360"/>
            <a:ext cx="1855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36BC-2F82-4DF9-A70C-D612B6A9C7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reau officers regularly monitor the media for potential cartel conduc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also benefits from information sharing within the agenc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ally, Bureau officers and management frequently liaise with international counterpa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3" name="Picture 4" descr="C:\Users\pinheyk\Pictures\imagesCAPCH4SI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60600" cy="188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pinheyk\Pictures\imagesCAKQJUVC.jpg"/>
          <p:cNvPicPr/>
          <p:nvPr/>
        </p:nvPicPr>
        <p:blipFill>
          <a:blip r:embed="rId2"/>
          <a:stretch/>
        </p:blipFill>
        <p:spPr>
          <a:xfrm>
            <a:off x="5508720" y="419112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DA5-5064-4B4A-A938-51CCAFF57B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7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has partnerships with several domestic agencies which complement and support the work of the Bureau, as well as strong international partnership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domestic side, we are strengthening our ties with various Canadian police forces and their respective white-collar crime investigation uni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international front, the Bureau works in partnership with its international counterparts when conducting international investigation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8" name="Picture 3" descr="C:\Users\pinheyk\Pictures\20131002-192404-g.jpg"/>
          <p:cNvPicPr/>
          <p:nvPr/>
        </p:nvPicPr>
        <p:blipFill>
          <a:blip r:embed="rId1"/>
          <a:stretch/>
        </p:blipFill>
        <p:spPr>
          <a:xfrm>
            <a:off x="1332000" y="4667400"/>
            <a:ext cx="3384360" cy="19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pinheyk\Pictures\untitled.png"/>
          <p:cNvPicPr/>
          <p:nvPr/>
        </p:nvPicPr>
        <p:blipFill>
          <a:blip r:embed="rId2"/>
          <a:stretch/>
        </p:blipFill>
        <p:spPr>
          <a:xfrm>
            <a:off x="4786200" y="4667400"/>
            <a:ext cx="419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DC86-5340-404B-A4F6-03351E93E0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provides anti bid-rigging presentations to all levels of government, including Public Works and Government Services Canada (PWGSC), the principal procurement agency of the Canadian Federal governmen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se outreach presentations provide procurement authorities with knowledge of how to detect, deter and report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We are in the process of completing a Memorandum of Understanding with PWGSC that will formalize our strong relationship with the agency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4" descr="C:\Users\pinheyk\Pictures\imagesCABQOC2C.jpg"/>
          <p:cNvPicPr/>
          <p:nvPr/>
        </p:nvPicPr>
        <p:blipFill>
          <a:blip r:embed="rId1"/>
          <a:stretch/>
        </p:blipFill>
        <p:spPr>
          <a:xfrm>
            <a:off x="2484360" y="5445000"/>
            <a:ext cx="4448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7E5-C16F-4928-AE4D-2C3484824E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Times New Roman"/>
              </a:rPr>
              <a:t>Outreach in the Business and Legal Communities</a:t>
            </a:r>
            <a:r>
              <a:rPr b="0" lang="en-CA" sz="2000" spc="-1" strike="noStrike">
                <a:solidFill>
                  <a:srgbClr val="000000"/>
                </a:solidFill>
                <a:latin typeface="Humanst521 B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regularly conducts outreach sessions with the business communit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ing these presentations, the Bureau uses a post-outreach presentation survey to evaluate the effectiveness of the presentation and participants’ increased awaren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publishes for consumers and businesses on its websit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PIOTROWSKI Dominik (COMP)</cp:lastModifiedBy>
  <dcterms:modified xsi:type="dcterms:W3CDTF">2014-10-10T11:16:24Z</dcterms:modified>
  <cp:revision>162</cp:revision>
  <dc:subject/>
  <dc:title>PowerPoint Presentation</dc:title>
</cp:coreProperties>
</file>