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93DB18-CB2B-45EC-8F13-9B9B111CDA5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35E6FA-E150-43C8-9566-975EA479E33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7F2-99A2-430B-8CA8-C830DF18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74B-B748-4AF3-907F-BEAF47D6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38A-C956-484C-BCA2-2E775FE7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8B2-4D61-46F4-AD9D-457AACEA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880-C2DF-4292-A8EC-AAA65BA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39F-C87A-430C-BB80-77E15B20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7D2-3FB2-4303-A382-4FC78F1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8A1-FB50-4375-B9E2-35D9787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591-3BE6-4C16-8AEA-0E87077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69A-3A0F-4C28-823A-CFB08393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A1E-9192-47BC-85BF-EC10D813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AA7-00AA-4F79-B986-710D0C2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FD6E-D9B5-496E-865D-084E6307AF3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3645000"/>
            <a:ext cx="7653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3581280"/>
            <a:ext cx="693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46240" y="2552760"/>
            <a:ext cx="864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ternative Methods of Cartel Detection in Canad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3573360"/>
            <a:ext cx="68407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Ex Officio Cartel Investig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ctober 14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CAB1-6EF2-47F4-BC3C-81B765C9118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6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Maintaining and improving public awareness of the Bureau’s role and mandate is a crucial feature of maintaining credible domestic enforcement program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 regularly publishes press releases following events, such as the laying of charges and/or guilty pleas, and also publishes speeches given by Bureau officials 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Bureau’s cartel awareness efforts, particularly the media attention that large cartel and bid-rigging cases draw, increase awareness of competition law throughout the general Canadian popul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B3C-16E9-43D1-BB46-E3695B6F78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Quebec Gas Cartel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68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vestigation of retail gas stations who conspired to fix prices in local communities in Quebec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ny different investigative tools used, including wiretaps and searche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searched 88 premises in two weeks, the largest search ever undertaken by the Bureau. 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9 individuals and 15 companies have been charged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33 individuals and 7 companies have pleaded or were found guilty, with fines totalling over $3 million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6 individuals have been sentenced to terms of imprisonment totalling 54 months</a:t>
            </a: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33" name="Picture 4" descr="C:\Users\PinheyK\Pictures\gas.jpg"/>
          <p:cNvPicPr/>
          <p:nvPr/>
        </p:nvPicPr>
        <p:blipFill>
          <a:blip r:embed="rId1"/>
          <a:stretch/>
        </p:blipFill>
        <p:spPr>
          <a:xfrm>
            <a:off x="6021360" y="3933720"/>
            <a:ext cx="2892600" cy="216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6084720" y="1697040"/>
            <a:ext cx="28292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2496-7DB4-425C-8823-C07A4D72049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ase Example: IT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134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vestigation of companies and individuals who rigged bids to obtain Government of Canada contracts for information technology services worth approximately $67 million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atter is currently before the cou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harges laid against 14 individuals and 7 companie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 date, 2 individuals have each pleaded guilty to one count of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3-month preliminary hearing was completed and the accused have been committed to stand tria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FABF-7E7E-428B-9541-657B4870788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ase Example: Bid Rigging in the Construction Industry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February 2011, the Québec provincial police force, the Sureté du Québec, created a Permanent Anti-Corruption Unit (UPAC)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conducted a joint investigation with UPAC involving bid-rigging in the construction industry in greater Montreal area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 June 2012, a total of 77 charges were laid against nine companies and 11 individuals in in connection with a collusion scheme. These charges included 20 counts of bid-rigging against nine companies and 24 counts of bid-rigging against six individual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41" name="Picture 4" descr="C:\Users\pinheyk\Pictures\597068-mandat-upac-creee-fevrier-2011.jpg"/>
          <p:cNvPicPr/>
          <p:nvPr/>
        </p:nvPicPr>
        <p:blipFill>
          <a:blip r:embed="rId1"/>
          <a:stretch/>
        </p:blipFill>
        <p:spPr>
          <a:xfrm>
            <a:off x="5173560" y="4632480"/>
            <a:ext cx="2998800" cy="20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inheyk\Pictures\imagesCAIKVGCM.jpg"/>
          <p:cNvPicPr/>
          <p:nvPr/>
        </p:nvPicPr>
        <p:blipFill>
          <a:blip r:embed="rId2"/>
          <a:stretch/>
        </p:blipFill>
        <p:spPr>
          <a:xfrm>
            <a:off x="1690560" y="4632480"/>
            <a:ext cx="2907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B4F-69FA-4458-B327-D535332A02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4D80-871C-4B15-A069-092F82ECF9B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munity and Leniency Program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6134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goal of the Competition Bureau’s Immunity Program is to uncover and stop criminal anti-competitive activity and to deter others from engaging in this behaviour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Immunity Program has proven to be the Bureau’s single most powerful means of detecting, investigating and prosecuting criminal activity under the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ur Leniency Program complements our Immunity Program by supporting the effective and efficient enforcement of 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5" descr="03248-eng"/>
          <p:cNvPicPr/>
          <p:nvPr/>
        </p:nvPicPr>
        <p:blipFill>
          <a:blip r:embed="rId1"/>
          <a:stretch/>
        </p:blipFill>
        <p:spPr>
          <a:xfrm>
            <a:off x="6516720" y="2095560"/>
            <a:ext cx="246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AB0B-FC91-459D-AA1C-C0011239305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Other Methods of Cartel Detection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stleblower initiativ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reach with the business and legal communiti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wareness of the Bureau’s mandate and progra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244-6BC8-498A-9E9D-CC7C38BDCC1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formation Centre and Complaints 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Centre is the primary point of entry for requests from members of the public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ublic can contact the Bureau through the Information Centre by telephone or e-mai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 also have an online complaints form to facilitate the complaints proc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4" descr="C:\Users\pinheyk\Pictures\untitled.png"/>
          <p:cNvPicPr/>
          <p:nvPr/>
        </p:nvPicPr>
        <p:blipFill>
          <a:blip r:embed="rId1"/>
          <a:stretch/>
        </p:blipFill>
        <p:spPr>
          <a:xfrm>
            <a:off x="6156360" y="1976400"/>
            <a:ext cx="2830320" cy="169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pinheyk\Pictures\imagesCA5EAGNG.jpg"/>
          <p:cNvPicPr/>
          <p:nvPr/>
        </p:nvPicPr>
        <p:blipFill>
          <a:blip r:embed="rId2"/>
          <a:stretch/>
        </p:blipFill>
        <p:spPr>
          <a:xfrm>
            <a:off x="6087960" y="4149720"/>
            <a:ext cx="28987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F88-AA34-4FFB-B476-32759C06B52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riminal Cartel Whistleblower Initiativ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CA" sz="2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has a specific provision protecting the identity of a “whistleblower”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recently announced the establishment of a new whistleblower initiative and updates to its website to provide information about how whistleblowers can contact the Bureau to report alleged criminal activity 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wo of the objectives of this initiative are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quality and quantity of whistleblower requests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To increase the number of cases originating outside of the Immunity Program.</a:t>
            </a:r>
            <a:endParaRPr b="0" lang="en-US" sz="19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8" name="Picture 4" descr="C:\Users\pinheyk\Pictures\Whistleblower.jpg"/>
          <p:cNvPicPr/>
          <p:nvPr/>
        </p:nvPicPr>
        <p:blipFill>
          <a:blip r:embed="rId1"/>
          <a:stretch/>
        </p:blipFill>
        <p:spPr>
          <a:xfrm>
            <a:off x="5076720" y="525456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pinheyk\Pictures\untitled.png"/>
          <p:cNvPicPr/>
          <p:nvPr/>
        </p:nvPicPr>
        <p:blipFill>
          <a:blip r:embed="rId2"/>
          <a:stretch/>
        </p:blipFill>
        <p:spPr>
          <a:xfrm>
            <a:off x="2556000" y="5013360"/>
            <a:ext cx="185580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78B-1152-4E74-8F2F-E3B0E67300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785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Proactive Monitoring and Competitive Intelligence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514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reau officers regularly monitor the media for potential cartel conduc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also benefits from information sharing within the agenc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ally, Bureau officers and management frequently liaise with international counterpart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3" name="Picture 4" descr="C:\Users\pinheyk\Pictures\imagesCAPCH4SI.jpg"/>
          <p:cNvPicPr/>
          <p:nvPr/>
        </p:nvPicPr>
        <p:blipFill>
          <a:blip r:embed="rId1"/>
          <a:stretch/>
        </p:blipFill>
        <p:spPr>
          <a:xfrm>
            <a:off x="5292720" y="1844640"/>
            <a:ext cx="3360600" cy="188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pinheyk\Pictures\imagesCAKQJUVC.jpg"/>
          <p:cNvPicPr/>
          <p:nvPr/>
        </p:nvPicPr>
        <p:blipFill>
          <a:blip r:embed="rId2"/>
          <a:stretch/>
        </p:blipFill>
        <p:spPr>
          <a:xfrm>
            <a:off x="5508720" y="419112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CDA-AB7C-49CA-8C01-3A434C53C441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s with Domestic and International Agencies</a:t>
            </a:r>
            <a:endParaRPr b="0" lang="en-US" sz="27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Bureau has partnerships with several domestic agencies which complement and support the work of the Bureau, as well as strong international partnership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domestic side, we are strengthening our ties with various Canadian police forces and their respective white-collar crime investigation unit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On the international front, the Bureau works in partnership with its international counterparts when conducting international investigation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18" name="Picture 3" descr="C:\Users\pinheyk\Pictures\20131002-192404-g.jpg"/>
          <p:cNvPicPr/>
          <p:nvPr/>
        </p:nvPicPr>
        <p:blipFill>
          <a:blip r:embed="rId1"/>
          <a:stretch/>
        </p:blipFill>
        <p:spPr>
          <a:xfrm>
            <a:off x="1332000" y="4667400"/>
            <a:ext cx="3384360" cy="19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pinheyk\Pictures\untitled.png"/>
          <p:cNvPicPr/>
          <p:nvPr/>
        </p:nvPicPr>
        <p:blipFill>
          <a:blip r:embed="rId2"/>
          <a:stretch/>
        </p:blipFill>
        <p:spPr>
          <a:xfrm>
            <a:off x="4786200" y="4667400"/>
            <a:ext cx="419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C818-7500-49B3-8A5A-FC2EB69B8D6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Relationships with Procurement Authori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Bureau provides anti bid-rigging presentations to all levels of government, including Public Works and Government Services Canada (PWGSC), the principal procurement agency of the Canadian Federal government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se outreach presentations provide procurement authorities with knowledge of how to detect, deter and report bid-rigging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We are in the process of completing a Memorandum of Understanding with PWGSC that will formalize our strong relationship with the agency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4" descr="C:\Users\pinheyk\Pictures\imagesCABQOC2C.jpg"/>
          <p:cNvPicPr/>
          <p:nvPr/>
        </p:nvPicPr>
        <p:blipFill>
          <a:blip r:embed="rId1"/>
          <a:stretch/>
        </p:blipFill>
        <p:spPr>
          <a:xfrm>
            <a:off x="2484360" y="5445000"/>
            <a:ext cx="444816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D3A-5624-4995-9E49-81E5D5A1FED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Times New Roman"/>
              </a:rPr>
              <a:t>Outreach in the Business and Legal Communities</a:t>
            </a:r>
            <a:r>
              <a:rPr b="0" lang="en-CA" sz="2000" spc="-1" strike="noStrike">
                <a:solidFill>
                  <a:srgbClr val="000000"/>
                </a:solidFill>
                <a:latin typeface="Humanst521 Bd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regularly conducts outreach sessions with the business community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ing these presentations, the Bureau uses a post-outreach presentation survey to evaluate the effectiveness of the presentation and participants’ increased awarenes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Bureau publishes for consumers and businesses on its website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PIOTROWSKI Dominik (COMP)</cp:lastModifiedBy>
  <dcterms:modified xsi:type="dcterms:W3CDTF">2014-10-10T11:16:24Z</dcterms:modified>
  <cp:revision>162</cp:revision>
  <dc:subject/>
  <dc:title>PowerPoint Presentation</dc:title>
</cp:coreProperties>
</file>