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C53AD5-7ADF-4E86-8831-C5F4A1B5377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25B91A-D85A-4B49-8DAC-D638EA515B8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58-22C9-4A55-8024-A170CDEC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D3D-85EE-4AC8-9C37-9FFC350A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951-8912-44D6-B5E7-A51E9FC5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A13-52BA-4B44-8922-1359CDF8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FDD-7A99-4CB6-9FDC-168F60F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99A-BA98-4D44-8B49-27A0ADE0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6D6-7DDA-4613-8966-CD0F43EF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461-5612-44A8-A6DE-FCB202E8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03B-9CD8-41A0-94A1-527817E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C8F-3515-4995-A8DE-14F123E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F43-9EEF-4320-972E-072DF21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AB9-0AA6-46BB-AD5A-07DD614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AA8-C1D7-45F6-92E1-4CB2D14E9D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3645000"/>
            <a:ext cx="7653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358128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46240" y="2552760"/>
            <a:ext cx="864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ternative Methods of Cartel Detection in Canad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3573360"/>
            <a:ext cx="6840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Ex Officio Cartel Investig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ctober 14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97E6-A4F2-4C08-9F2F-D774A5EE8F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6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Maintaining and improving public awareness of the Bureau’s role and mandate is a crucial feature of maintaining credible domestic enforcement program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 regularly publishes press releases following events, such as the laying of charges and/or guilty pleas, and also publishes speeches given by Bureau officials 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’s cartel awareness efforts, particularly the media attention that large cartel and bid-rigging cases draw, increase awareness of competition law throughout the general Canadian popul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568B-F047-49D1-99B0-1B36982F4F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Quebec Gas Cartel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68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vestigation of retail gas stations who conspired to fix prices in local communities in Quebec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y different investigative tools used, including wiretaps and searche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searched 88 premises in two weeks, the largest search ever undertaken by the Bureau. 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9 individuals and 15 companies have been charged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3 individuals and 7 companies have pleaded or were found guilty, with fines totalling over $3 million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6 individuals have been sentenced to terms of imprisonment totalling 54 months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33" name="Picture 4" descr="C:\Users\PinheyK\Pictures\gas.jpg"/>
          <p:cNvPicPr/>
          <p:nvPr/>
        </p:nvPicPr>
        <p:blipFill>
          <a:blip r:embed="rId1"/>
          <a:stretch/>
        </p:blipFill>
        <p:spPr>
          <a:xfrm>
            <a:off x="6021360" y="3933720"/>
            <a:ext cx="2892600" cy="216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6084720" y="1697040"/>
            <a:ext cx="28292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9CB1-EA09-4C79-B39F-A276839B25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IT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stigation of companies and individuals who rigged bids to obtain Government of Canada contracts for information technology services worth approximately $67 million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harges laid against 14 individuals and 7 companie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 date, 2 individuals have each pleaded guilty to one count of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3-month preliminary hearing was completed and the accused have been committed to stand tria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AAA3-E664-46C6-9D30-765878553D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ase Example: Bid Rigging in the Construction Industry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February 2011, the Québec provincial police force, the Sureté du Québec, created a Permanent Anti-Corruption Unit (UPAC)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conducted a joint investigation with UPAC involving bid-rigging in the construction industry in greater Montreal area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June 2012, a total of 77 charges were laid against nine companies and 11 individuals in in connection with a collusion scheme. These charges included 20 counts of bid-rigging against nine companies and 24 counts of bid-rigging against six individual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41" name="Picture 4" descr="C:\Users\pinheyk\Pictures\597068-mandat-upac-creee-fevrier-2011.jpg"/>
          <p:cNvPicPr/>
          <p:nvPr/>
        </p:nvPicPr>
        <p:blipFill>
          <a:blip r:embed="rId1"/>
          <a:stretch/>
        </p:blipFill>
        <p:spPr>
          <a:xfrm>
            <a:off x="5173560" y="46324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inheyk\Pictures\imagesCAIKVGCM.jpg"/>
          <p:cNvPicPr/>
          <p:nvPr/>
        </p:nvPicPr>
        <p:blipFill>
          <a:blip r:embed="rId2"/>
          <a:stretch/>
        </p:blipFill>
        <p:spPr>
          <a:xfrm>
            <a:off x="1690560" y="4632480"/>
            <a:ext cx="2907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C383-B08C-4A1F-999D-7C871BB007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0CFB-2002-4BE5-AE4C-76D9C3E601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munity and Leniency Program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613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goal of the Competition Bureau’s Immunity Program is to uncover and stop criminal anti-competitive activity and to deter others from engaging in this behaviour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Immunity Program has proven to be the Bureau’s single most powerful means of detecting, investigating and prosecuting criminal activity under the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ur Leniency Program complements our Immunity Program by supporting the effective and efficient enforcement of 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5" descr="03248-eng"/>
          <p:cNvPicPr/>
          <p:nvPr/>
        </p:nvPicPr>
        <p:blipFill>
          <a:blip r:embed="rId1"/>
          <a:stretch/>
        </p:blipFill>
        <p:spPr>
          <a:xfrm>
            <a:off x="6516720" y="2095560"/>
            <a:ext cx="246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41BC-8988-4DAA-B404-7F7050880A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Other Methods of Cartel Detection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stleblower initiativ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with the business and legal commun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C78C-61AC-499B-9B15-B71FF3BA21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Centre is the primary point of entry for requests from members of the public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ublic can contact the Bureau through the Information Centre by telephone or e-mai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 also have an online complaints form to facilitate the complaints proc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4" descr="C:\Users\pinheyk\Pictures\untitled.png"/>
          <p:cNvPicPr/>
          <p:nvPr/>
        </p:nvPicPr>
        <p:blipFill>
          <a:blip r:embed="rId1"/>
          <a:stretch/>
        </p:blipFill>
        <p:spPr>
          <a:xfrm>
            <a:off x="6156360" y="1976400"/>
            <a:ext cx="2830320" cy="169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pinheyk\Pictures\imagesCA5EAGNG.jpg"/>
          <p:cNvPicPr/>
          <p:nvPr/>
        </p:nvPicPr>
        <p:blipFill>
          <a:blip r:embed="rId2"/>
          <a:stretch/>
        </p:blipFill>
        <p:spPr>
          <a:xfrm>
            <a:off x="6087960" y="4149720"/>
            <a:ext cx="28987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EDED-E32F-4E9B-B020-DF448E5338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riminal Cartel Whistleblower Initiativ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has a specific provision protecting the identity of a “whistleblower”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recently announced the establishment of a new whistleblower initiative and updates to its website to provide information about how whistleblowers can contact the Bureau to report alleged criminal activity 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wo of the objectives of this initiative are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quality and quantity of whistleblower requests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number of cases originating outside of the Immunity Program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8" name="Picture 4" descr="C:\Users\pinheyk\Pictures\Whistleblower.jpg"/>
          <p:cNvPicPr/>
          <p:nvPr/>
        </p:nvPicPr>
        <p:blipFill>
          <a:blip r:embed="rId1"/>
          <a:stretch/>
        </p:blipFill>
        <p:spPr>
          <a:xfrm>
            <a:off x="5076720" y="5254560"/>
            <a:ext cx="243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2556000" y="5013360"/>
            <a:ext cx="18558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28EF-CDCA-4A36-8419-E64DA284F7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514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reau officers regularly monitor the media for potential cartel conduc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also benefits from information sharing within the agenc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ally, Bureau officers and management frequently liaise with international counterpa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3" name="Picture 4" descr="C:\Users\pinheyk\Pictures\imagesCAPCH4SI.jpg"/>
          <p:cNvPicPr/>
          <p:nvPr/>
        </p:nvPicPr>
        <p:blipFill>
          <a:blip r:embed="rId1"/>
          <a:stretch/>
        </p:blipFill>
        <p:spPr>
          <a:xfrm>
            <a:off x="5292720" y="1844640"/>
            <a:ext cx="3360600" cy="188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pinheyk\Pictures\imagesCAKQJUVC.jpg"/>
          <p:cNvPicPr/>
          <p:nvPr/>
        </p:nvPicPr>
        <p:blipFill>
          <a:blip r:embed="rId2"/>
          <a:stretch/>
        </p:blipFill>
        <p:spPr>
          <a:xfrm>
            <a:off x="5508720" y="419112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D735-56C4-4566-97DD-D0BCBD99C6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7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has partnerships with several domestic agencies which complement and support the work of the Bureau, as well as strong international partnership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domestic side, we are strengthening our ties with various Canadian police forces and their respective white-collar crime investigation uni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international front, the Bureau works in partnership with its international counterparts when conducting international investigation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8" name="Picture 3" descr="C:\Users\pinheyk\Pictures\20131002-192404-g.jpg"/>
          <p:cNvPicPr/>
          <p:nvPr/>
        </p:nvPicPr>
        <p:blipFill>
          <a:blip r:embed="rId1"/>
          <a:stretch/>
        </p:blipFill>
        <p:spPr>
          <a:xfrm>
            <a:off x="1332000" y="4667400"/>
            <a:ext cx="3384360" cy="19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pinheyk\Pictures\untitled.png"/>
          <p:cNvPicPr/>
          <p:nvPr/>
        </p:nvPicPr>
        <p:blipFill>
          <a:blip r:embed="rId2"/>
          <a:stretch/>
        </p:blipFill>
        <p:spPr>
          <a:xfrm>
            <a:off x="4786200" y="4667400"/>
            <a:ext cx="419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D3EB-73BB-4028-9EEB-0685A6993B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provides anti bid-rigging presentations to all levels of government, including Public Works and Government Services Canada (PWGSC), the principal procurement agency of the Canadian Federal governmen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se outreach presentations provide procurement authorities with knowledge of how to detect, deter and report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We are in the process of completing a Memorandum of Understanding with PWGSC that will formalize our strong relationship with the agency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4" descr="C:\Users\pinheyk\Pictures\imagesCABQOC2C.jpg"/>
          <p:cNvPicPr/>
          <p:nvPr/>
        </p:nvPicPr>
        <p:blipFill>
          <a:blip r:embed="rId1"/>
          <a:stretch/>
        </p:blipFill>
        <p:spPr>
          <a:xfrm>
            <a:off x="2484360" y="5445000"/>
            <a:ext cx="4448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317-3B8D-494D-B71D-967D42CCA8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Times New Roman"/>
              </a:rPr>
              <a:t>Outreach in the Business and Legal Communities</a:t>
            </a:r>
            <a:r>
              <a:rPr b="0" lang="en-CA" sz="2000" spc="-1" strike="noStrike">
                <a:solidFill>
                  <a:srgbClr val="000000"/>
                </a:solidFill>
                <a:latin typeface="Humanst521 B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regularly conducts outreach sessions with the business communit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ing these presentations, the Bureau uses a post-outreach presentation survey to evaluate the effectiveness of the presentation and participants’ increased awaren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publishes for consumers and businesses on its websit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PIOTROWSKI Dominik (COMP)</cp:lastModifiedBy>
  <dcterms:modified xsi:type="dcterms:W3CDTF">2014-10-10T11:16:24Z</dcterms:modified>
  <cp:revision>162</cp:revision>
  <dc:subject/>
  <dc:title>PowerPoint Presentation</dc:title>
</cp:coreProperties>
</file>