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BD0BB42-023D-4A4D-AC32-BCFEB5848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2A8B19A-1894-4F70-8D83-27F6A8E81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4DB1A4D-97E9-4E36-B3C8-EA3209236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32F5E33-3B86-495A-9FAD-7AF53D4C9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0F10D37-9649-4882-8DDC-F76C5A6D8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CE8CE87-9DCC-4C3F-8658-C45C7F484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9372462-738F-49B8-BE15-4532AE48D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36AB415-EA2A-4C2C-B000-540302BA5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BDC5C10-FCF5-468B-A2F8-4E86352B2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D4A-613E-4AC2-9C0C-DC4A5409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603-2328-46B7-8D22-F16C9B98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1C7-84B1-4CA1-B6D7-7D64B0D1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5B0-57F2-4BD8-AF3F-65344B96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C666-705D-49A2-8FEC-241DAA94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AE41-7DE2-4675-889F-8E8CDF83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8841-2BAD-4B04-A253-0E5AE5A7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9396-853B-48EA-B0C7-82AF2224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2F99-C248-4008-BF7F-8327F97F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1AA5-592A-4F0B-806C-AC4B7F4C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EE43-015D-4C26-A4C1-C230FAAB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A7D-57EC-44AE-9FEE-E98A6EBC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04E5-8BED-4AAD-8401-B30FBA16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B69F-1DCC-4E9A-AE85-ADAFBFA3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174B-6FEF-47BD-BE35-599AAD2E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A9D1-6FE7-47AF-AC05-CE5ACD94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AF37-F870-4640-90CC-6FA7CDD9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152-233C-48AE-A22C-F4B0666D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289-6734-4776-96F5-2603915F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C51-D15C-4819-96B0-DFD0C6C3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B37-F506-423F-BFDD-911D5A11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CCF-CC4C-43FB-A06D-AC9F3482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488-9664-4839-83BA-6630DC8A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3B9-7967-47EA-9D0F-B8ED2B7D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7e0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7e0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ddddd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dddddd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dddddd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The views expressed in this presentation are not purported to represent those of the U.S. Department of Just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957C-F98A-4763-BF3F-72B50B1578A0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7e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ddddd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dddddd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dddddd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The views expressed in this presentation are not purported to represent those of the U.S. Department of Just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7C6E-AE45-46A5-A438-5530F4B04CE2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3"/>
          <p:cNvGraphicFramePr/>
          <p:nvPr/>
        </p:nvGraphicFramePr>
        <p:xfrm>
          <a:off x="4083120" y="6410160"/>
          <a:ext cx="387360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3120" y="6410160"/>
                    <a:ext cx="387360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Picture 5" descr="dojseal"/>
          <p:cNvPicPr/>
          <p:nvPr/>
        </p:nvPicPr>
        <p:blipFill>
          <a:blip r:embed="rId3"/>
          <a:stretch/>
        </p:blipFill>
        <p:spPr>
          <a:xfrm>
            <a:off x="457200" y="4800600"/>
            <a:ext cx="2895480" cy="20574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1"/>
          <p:cNvSpPr/>
          <p:nvPr/>
        </p:nvSpPr>
        <p:spPr>
          <a:xfrm>
            <a:off x="1295280" y="533520"/>
            <a:ext cx="8104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Interplay Between Priva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Enforcement and Leniency Poli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Slide Number Placeholder 7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F021-70DD-4BFD-89C4-53408B5D0543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5638680" y="3809880"/>
            <a:ext cx="33530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. Kate Pat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336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istant Ch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336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n Francisco Off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919760" y="6019920"/>
            <a:ext cx="36147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iews expressed are not purported to reflect those of the U.S. Department of Just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Return/Destruction of Leniency Docume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fter the investigation or prosecution has concluded the Antitrust Division will return the documents to the witness (or company) that produced them or will destroy the documen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ncludes, but is not limited to, the documents produced by the leniency applica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B351-E922-4CFD-9083-31CB9742168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pic 2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ability of cartel offenders towards private litigants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eniency Applicant’s Liabilit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in Private Action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PERA/Joint and Several 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A082-6DD4-4C7C-9084-04D01B71E0C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Restitu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titu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urt authority to order restitution at criminal sentenc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titution in Antitrust Cases is normally resolved through civil actions with private plaintiff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ensation occurs later as part of the civil proc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niency Progr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titution is a condition of lenienc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re is a “strong presumption in favor of requiring restitution in leniency situations” [DOJ FAQ20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ke “all reasonable efforts, to the satisfaction of the Antitrust Division, to pay restitution” [Model Conditional Leniency Letter ¶ 2(g)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4218-A5FE-45D4-AD1D-8EE6772B7AA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CPER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titrust Criminal Penalty Enhancement and Reform Act of 2004 known as “ACPER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der ACPERA, a leniency applicant may avoid the treble damages and joint and several liability typically available in civil antitrust suits if it provides “satisfactory cooperation” to civil plaintiff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F5A6-C11F-4BC1-80F7-DED2C161D60F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Extent of Coope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he leniency applicant must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a full account to the claimant of all facts known to the leniency applicant that are potentially relevant to the civil action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rnish all documents or other items potentially relevant to the civil action that are in the possession, custody, or control of the leniency applicant wherever they are located;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its best efforts to secure and facilitate interviews, depositions, or testimony in connection with the civil litigation from cooperating employe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BDD3-BA92-4361-9D6E-1CDD002FACB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imeliness of Coope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f the Antitrust Division obtains a stay or protective order in a civil action based on conduct covered by an antitrust leniency agreement, once the stay or protective order, or a portion thereof, expires or is terminated, the antitrust leniency applicant and cooperating individuals shall provide the required cooperation without unreasonable delay to obtain the benefits under the statut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AF76-2A7F-4562-9070-C0184D15218C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A627-4583-4BA7-8153-03A9FBA6E54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pic 2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feguarding the attractiveness of leniency programs: Access to evidence included in the competition authorities' files and protection of leniency material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rotection During the Investig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titrust Division's Confidentiality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tection of Grand Jury Materi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7141-9143-4471-9CCB-96A8FE32E96E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nfidentiality Polic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 Antitrust Division does not publicly disclose the identity of a leniency applicant or information provided by the applicant, absent prior disclosure by, or agreement with, the applicant, unless required to do so by court order in connection with litigation. [DOJ FAQ32]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DFF5-3830-477E-805D-74EC75652FB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rand Jury Secrecy Ru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law imposes a strict obligation of secrecy on the Antitrust Division under the Federal Rules of Criminal Proced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0D97-92CF-4D7D-8A80-DD6BC2F1CC7F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tection of Leniency Applicant’s Docu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s may be protected from disclosure to civil litigants under Fed. Rule of Criminal Procedure 6(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ever, there is a lack of unanimity on the question of whether documents obtained by the grand jury process are considered “matters occurring before the grand jur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E1A0-2F4E-48EB-8D6E-40440DC9C58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tection In Front of the Cou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covery St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5F83-5B23-4258-BDC9-DFE6C7BA0A7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ivil Discovery Sta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Antitrust Division will sometimes intervene in civil actions for the purpose of seeking limitations on civil discovery when there is a parallel criminal proceeding involving a common question of law or fact.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civil discovery stay may be to stay civil document production or to stay civil deposition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0251-FD4A-4C2E-A994-88C2B6AA9D1F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tection After the Investi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6212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titrust Division’s Document Retention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CE7E-E239-4D9B-A6B3-6FA9B1DD63C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7:53:53Z</dcterms:created>
  <dc:creator>Antitrust Division</dc:creator>
  <dc:description/>
  <dc:language>en-US</dc:language>
  <cp:lastModifiedBy>LENK Karin (COMP)</cp:lastModifiedBy>
  <dcterms:modified xsi:type="dcterms:W3CDTF">2015-11-10T10:31:25Z</dcterms:modified>
  <cp:revision>324</cp:revision>
  <dc:subject/>
  <dc:title>ANTITRUST DIVISION</dc:title>
</cp:coreProperties>
</file>