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b">
            <a:noAutofit/>
          </a:bodyPr>
          <a:lstStyle>
            <a:lvl1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29F6C36-015A-42A7-87A1-F9DE6D5376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4060476-BC45-4F1C-8450-651ED3BA15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F342538-DBC0-4D64-895D-6C1A51FBD5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FC87CBC-C33D-4CF7-92E1-F9BC64C7A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F7A5B8A-202D-4E7B-9A9C-75B18EF42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C6EE2AB-5EF2-4B41-818A-BDC8446C7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12C3F79-C98C-4A8B-A2DE-5C85FC66EA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64CF6F1-CAAE-4AEC-9C40-971B6F5E4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b">
            <a:noAutofit/>
          </a:bodyPr>
          <a:p>
            <a:pPr algn="r">
              <a:lnSpc>
                <a:spcPct val="100000"/>
              </a:lnSpc>
              <a:spcBef>
                <a:spcPts val="326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6B77E59-00A4-44AB-AC68-8BE30ABED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F87-8F52-4C53-AAC5-0BC1538A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880-C059-4C75-B489-93AA1EB3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C05-99AE-4299-A583-5A37DF12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916-C299-404E-9028-A2C59691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9E11-0314-4B09-AD88-0346C024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9ABB-A137-4F64-92AE-EB087077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47C8-8BB5-4BC9-A48D-BD50C22D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EEB5-5D98-48C9-83B9-C6DAD747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C929-E189-427A-A6B4-55DF4327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2654-B961-433E-97E3-70B2E283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FBF3-0117-4A92-B8DB-E8E8884E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575-24E5-4AF9-ACE4-61DCEA24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6C0B-C1C8-4FE0-B7EB-D9DABDA5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197B-6311-4E24-AE32-12CD398C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864E-220C-421D-AE29-A027F266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A3A6-964E-4A97-A954-10588E11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E6B2-4D20-4A82-9A3B-AAF0CC0F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8DB-5BB0-4A16-9306-F079ACAC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998-F965-489F-95A0-3AE868BF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AC05-DF4E-4BD9-95BC-9E14D084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057-0010-4688-8DB5-87BFBD0B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DC4-0D7E-465D-B976-0DE7A607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3F2-B3DF-4503-B8D4-7B1BA28E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22E-5235-4103-A8D7-54AC2134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7e0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7e0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ddddd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dddddd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dddddd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The views expressed in this presentation are not purported to represent those of the U.S. Department of Just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DD0A-8A07-4C65-BA1F-F3DB182A0A74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7e0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ddddd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dddddd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dddddd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The views expressed in this presentation are not purported to represent those of the U.S. Department of Just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D3FC-AD28-44C6-9C2C-5059054024CA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Object 3"/>
          <p:cNvGraphicFramePr/>
          <p:nvPr/>
        </p:nvGraphicFramePr>
        <p:xfrm>
          <a:off x="4083120" y="6410160"/>
          <a:ext cx="3873600" cy="38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3120" y="6410160"/>
                    <a:ext cx="387360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9" name="Picture 5" descr="dojseal"/>
          <p:cNvPicPr/>
          <p:nvPr/>
        </p:nvPicPr>
        <p:blipFill>
          <a:blip r:embed="rId3"/>
          <a:stretch/>
        </p:blipFill>
        <p:spPr>
          <a:xfrm>
            <a:off x="457200" y="4800600"/>
            <a:ext cx="2895480" cy="20574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1"/>
          <p:cNvSpPr/>
          <p:nvPr/>
        </p:nvSpPr>
        <p:spPr>
          <a:xfrm>
            <a:off x="1295280" y="533520"/>
            <a:ext cx="81043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e Interplay Between Priva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Enforcement and Leniency Poli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Slide Number Placeholder 7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6DE5-BF79-4022-B276-4F0966CFB4FA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5638680" y="3809880"/>
            <a:ext cx="335304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. Kate Patc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336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istant Ch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336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n Francisco Off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4919760" y="6019920"/>
            <a:ext cx="36147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views expressed are not purported to reflect those of the U.S. Department of Just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Return/Destruction of Leniency Docume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fter the investigation or prosecution has concluded the Antitrust Division will return the documents to the witness (or company) that produced them or will destroy the document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s includes, but is not limited to, the documents produced by the leniency applica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047E-54E0-4824-8290-389DB9F8BB2B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pic 2.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ability of cartel offenders towards private litigants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Leniency Applicant’s Liabilit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in Private Action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stit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PERA/Joint and Several L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00F2-0E30-4270-BA12-DA8285FE2949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Restitu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stitu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urt authority to order restitution at criminal sentenc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stitution in Antitrust Cases is normally resolved through civil actions with private plaintiff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mpensation occurs later as part of the civil proc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niency Progra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stitution is a condition of lenienc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re is a “strong presumption in favor of requiring restitution in leniency situations” [DOJ FAQ20]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45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ke “all reasonable efforts, to the satisfaction of the Antitrust Division, to pay restitution” [Model Conditional Leniency Letter ¶ 2(g)]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682D-6D1A-437A-B342-9445AC4CCE2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CPER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titrust Criminal Penalty Enhancement and Reform Act of 2004 known as “ACPER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der ACPERA, a leniency applicant may avoid the treble damages and joint and several liability typically available in civil antitrust suits if it provides “satisfactory cooperation” to civil plaintiff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5C59-0370-4A7C-9C29-9DC0DC8A72A6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Extent of Coope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The leniency applicant must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vide a full account to the claimant of all facts known to the leniency applicant that are potentially relevant to the civil action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rnish all documents or other items potentially relevant to the civil action that are in the possession, custody, or control of the leniency applicant wherever they are located;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360" indent="-24624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55000"/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its best efforts to secure and facilitate interviews, depositions, or testimony in connection with the civil litigation from cooperating employe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49E4-2E30-4E6D-86B6-648290468EB2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imeliness of Coope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f the Antitrust Division obtains a stay or protective order in a civil action based on conduct covered by an antitrust leniency agreement, once the stay or protective order, or a portion thereof, expires or is terminated, the antitrust leniency applicant and cooperating individuals shall provide the required cooperation without unreasonable delay to obtain the benefits under the statut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B4C4-1019-46C9-B717-1256D611C569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9EB1-75FF-4F46-ADF3-91E7CD4C1903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pic 2.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feguarding the attractiveness of leniency programs: Access to evidence included in the competition authorities' files and protection of leniency material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Protection During the Investig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titrust Division's Confidentiality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tection of Grand Jury Materi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A3DA-97D0-437C-AED2-C77E18EA4F2B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onfidentiality Polic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 Antitrust Division does not publicly disclose the identity of a leniency applicant or information provided by the applicant, absent prior disclosure by, or agreement with, the applicant, unless required to do so by court order in connection with litigation. [DOJ FAQ32]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E341-8786-4F1E-BE86-2F196491C490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Grand Jury Secrecy Ru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law imposes a strict obligation of secrecy on the Antitrust Division under the Federal Rules of Criminal Proced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0150-1E58-42C8-AECA-87F5A8B8312C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rotection of Leniency Applicant’s Docu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s may be protected from disclosure to civil litigants under Fed. Rule of Criminal Procedure 6(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ever, there is a lack of unanimity on the question of whether documents obtained by the grand jury process are considered “matters occurring before the grand jury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F567-F8F1-4F0E-9B70-818C793F69BE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rotection In Front of the Cou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covery St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E382-B3FD-4FFC-8FF4-DCD154BC64A8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Civil Discovery Stay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2860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 Antitrust Division will sometimes intervene in civil actions for the purpose of seeking limitations on civil discovery when there is a parallel criminal proceeding involving a common question of law or fact.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 civil discovery stay may be to stay civil document production or to stay civil deposition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61080" indent="-252720">
              <a:lnSpc>
                <a:spcPct val="80000"/>
              </a:lnSpc>
              <a:spcBef>
                <a:spcPts val="751"/>
              </a:spcBef>
              <a:buClr>
                <a:srgbClr val="aaadb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5D09-835C-4285-8495-E74BBAF8E2F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rotection After the Investig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62120" y="2133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titrust Division’s Document Retention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E4C1-59DD-49C0-8B07-C9C943908AD7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7:53:53Z</dcterms:created>
  <dc:creator>Antitrust Division</dc:creator>
  <dc:description/>
  <dc:language>en-US</dc:language>
  <cp:lastModifiedBy>LENK Karin (COMP)</cp:lastModifiedBy>
  <dcterms:modified xsi:type="dcterms:W3CDTF">2015-11-10T10:31:25Z</dcterms:modified>
  <cp:revision>324</cp:revision>
  <dc:subject/>
  <dc:title>ANTITRUST DIVISION</dc:title>
</cp:coreProperties>
</file>