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lstStyle>
            <a:lvl1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8C6B671-495B-4DCA-BE99-B5356C1F4B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14B0658-3E94-46D1-B343-A2F553282B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7C62B5B-0090-47C7-8293-11A685501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412A1DE-DB0D-4EDF-A4D7-33B6364D2A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3612365-C928-4648-88F6-39397B8AD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B6DDF51-83D4-4B86-B831-A650C4DDA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BF50E29-2333-47B1-847F-DF5AD3D8E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225631B-C91C-487E-9987-D12E82B1A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0EEF34C-536D-4554-A6DF-5F7DE4209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C61-D23C-475D-B1B7-2049AA59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6C1-CEE0-41BC-BE31-C66F09F4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215-F104-4890-8C15-3AD73A06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81F-CBC5-4CA5-8B54-4F5F17F7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C6FB-E7A8-4718-AD85-BA61C615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C299-6FD5-4CEA-8D44-40D5E542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9CD4-8509-443C-A971-A4A777A9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DFF7-B25A-47FE-A3BC-EF890CE2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AE1D-EEDF-4FB2-A678-89B90DEF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C864-46AE-494A-BBB5-357A59B9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BCCA-D303-419D-A830-419B1419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0E9-5EC5-477F-A657-CCD5D693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B038-D560-42D2-BFA6-B6216925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0788-19C1-4A54-8FA8-D363C8DB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B957-DFA8-4F75-B2DA-9BEB9078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1119-AA4C-495C-A4EF-D74B6F94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DB5B-22CF-4A6C-8A25-79E2E769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29D-AFB4-4A58-8A25-33BC16AC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7A5-F346-455F-9DC2-71052E38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D2E-2031-43AB-ABAF-C0D76989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B7F7-8D53-4065-9691-08A7A915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D9E-AF0E-4D0D-B40F-BA8319B1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2B2-B5AF-4E02-8DF0-76E30790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CCC-EB12-4C10-8E3D-8F1DDDCB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7e0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7e0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ddddd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dddddd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dddddd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The views expressed in this presentation are not purported to represent those of the U.S. Department of Just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55C9-50D8-4883-94FC-9D38BF6318F4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7e0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ddddd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dddddd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dddddd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The views expressed in this presentation are not purported to represent those of the U.S. Department of Just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8071-B188-4E8B-8746-C7B8963DD65D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Object 3"/>
          <p:cNvGraphicFramePr/>
          <p:nvPr/>
        </p:nvGraphicFramePr>
        <p:xfrm>
          <a:off x="4083120" y="6410160"/>
          <a:ext cx="3873600" cy="38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3120" y="6410160"/>
                    <a:ext cx="387360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Picture 5" descr="dojseal"/>
          <p:cNvPicPr/>
          <p:nvPr/>
        </p:nvPicPr>
        <p:blipFill>
          <a:blip r:embed="rId3"/>
          <a:stretch/>
        </p:blipFill>
        <p:spPr>
          <a:xfrm>
            <a:off x="457200" y="4800600"/>
            <a:ext cx="2895480" cy="20574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1"/>
          <p:cNvSpPr/>
          <p:nvPr/>
        </p:nvSpPr>
        <p:spPr>
          <a:xfrm>
            <a:off x="1295280" y="533520"/>
            <a:ext cx="81043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e Interplay Between Priva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Enforcement and Leniency Poli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Slide Number Placeholder 7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2F96-649E-471D-8263-F628A0173546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5638680" y="3809880"/>
            <a:ext cx="335304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. Kate Patc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336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istant Ch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336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n Francisco Off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4919760" y="6019920"/>
            <a:ext cx="36147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iews expressed are not purported to reflect those of the U.S. Department of Just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Return/Destruction of Leniency Docume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fter the investigation or prosecution has concluded the Antitrust Division will return the documents to the witness (or company) that produced them or will destroy the document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s includes, but is not limited to, the documents produced by the leniency applica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49C9-823C-40A9-8543-217C6035D61E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pic 2.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ability of cartel offenders towards private litigants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Leniency Applicant’s Liabilit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in Private Action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stit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PERA/Joint and Several L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8457-7352-4E42-B276-405B77C07263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Restitu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stitu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urt authority to order restitution at criminal sentenc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stitution in Antitrust Cases is normally resolved through civil actions with private plaintiff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mpensation occurs later as part of the civil proc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niency Progra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stitution is a condition of lenienc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re is a “strong presumption in favor of requiring restitution in leniency situations” [DOJ FAQ20]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ke “all reasonable efforts, to the satisfaction of the Antitrust Division, to pay restitution” [Model Conditional Leniency Letter ¶ 2(g)]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A0B9-8427-4FCC-94B6-B49867A3421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CPER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titrust Criminal Penalty Enhancement and Reform Act of 2004 known as “ACPER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der ACPERA, a leniency applicant may avoid the treble damages and joint and several liability typically available in civil antitrust suits if it provides “satisfactory cooperation” to civil plaintiff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C0B6-41B3-49C1-A494-B3556947C05C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Extent of Coope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he leniency applicant must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 a full account to the claimant of all facts known to the leniency applicant that are potentially relevant to the civil action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rnish all documents or other items potentially relevant to the civil action that are in the possession, custody, or control of the leniency applicant wherever they are located;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its best efforts to secure and facilitate interviews, depositions, or testimony in connection with the civil litigation from cooperating employe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4B0F-5838-47DB-8896-3B413D695541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imeliness of Coope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f the Antitrust Division obtains a stay or protective order in a civil action based on conduct covered by an antitrust leniency agreement, once the stay or protective order, or a portion thereof, expires or is terminated, the antitrust leniency applicant and cooperating individuals shall provide the required cooperation without unreasonable delay to obtain the benefits under the statut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59F2-0BB8-4BA6-9882-C7F05E28B2A9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DCE2-9EBF-4941-B212-D58D29603AE4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pic 2.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feguarding the attractiveness of leniency programs: Access to evidence included in the competition authorities' files and protection of leniency material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rotection During the Investig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titrust Division's Confidentiality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tection of Grand Jury Materi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F731-549E-4ED4-8BAA-664C094FEC98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onfidentiality Polic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 Antitrust Division does not publicly disclose the identity of a leniency applicant or information provided by the applicant, absent prior disclosure by, or agreement with, the applicant, unless required to do so by court order in connection with litigation. [DOJ FAQ32]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2BEC-4D4A-4704-8EEC-084ECDE15907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Grand Jury Secrecy Ru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law imposes a strict obligation of secrecy on the Antitrust Division under the Federal Rules of Criminal Proced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DD40-F494-40EA-8080-72C2FBA0BE02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rotection of Leniency Applicant’s Docu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s may be protected from disclosure to civil litigants under Fed. Rule of Criminal Procedure 6(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ever, there is a lack of unanimity on the question of whether documents obtained by the grand jury process are considered “matters occurring before the grand jur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D3C5-AA8D-4ED3-889F-6FFA37C0C3F4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rotection In Front of the Cou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covery St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C226-2C1B-4D2B-8651-3B6E8302F450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ivil Discovery Stay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2860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 Antitrust Division will sometimes intervene in civil actions for the purpose of seeking limitations on civil discovery when there is a parallel criminal proceeding involving a common question of law or fact.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 civil discovery stay may be to stay civil document production or to stay civil deposition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3C1E-65CB-4BED-A656-2489601EBD1C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rotection After the Investig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62120" y="2133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titrust Division’s Document Retention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60EF-4461-490F-B03F-85AE4883415C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7:53:53Z</dcterms:created>
  <dc:creator>Antitrust Division</dc:creator>
  <dc:description/>
  <dc:language>en-US</dc:language>
  <cp:lastModifiedBy>LENK Karin (COMP)</cp:lastModifiedBy>
  <dcterms:modified xsi:type="dcterms:W3CDTF">2015-11-10T10:31:25Z</dcterms:modified>
  <cp:revision>324</cp:revision>
  <dc:subject/>
  <dc:title>ANTITRUST DIVISION</dc:title>
</cp:coreProperties>
</file>