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7DE-A33D-450D-A35D-070DBBB1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99C-6A2E-43A0-94C3-CB5AA013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F7C-2A95-4D0B-A9E8-50807619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87C-E733-462F-B141-6FED47F2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1B2E-31DD-4111-AF62-898C1EE3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764B-B16E-4E24-964E-DDF4E9E1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C67F-2732-4CB4-9D52-56009FE9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920C-F16A-4427-9F5A-5E8D6D51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5D37-70A1-4AF2-A067-6C90AB29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29C7-9E18-4F03-B41A-FEAD0D2F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2F7A-9212-4BEF-BA11-8E1B129F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1BE-B3D5-4B93-B2DD-E01818C2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FF9B-A7B9-4A5D-A09A-D539834F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074C-250A-424F-9DE8-8CFDE37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3689-B301-4E52-877C-64B12C88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6739-D02F-4529-A09D-6A57AFF9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8913-A4B1-4833-AEC0-138654F4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69A-5274-478B-BAE0-1740D443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959-EC89-41A6-B655-CA188CDC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233-83EF-4281-88C3-918F2903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4279-5279-410C-9EC4-D53EA717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253-65AF-4BAC-BA8D-FA9FC0E4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E5D-0A37-4B07-B976-6A70CAC3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36D-8039-4763-A605-B87D99B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52C5-4A02-4453-A646-35D65CC365C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89E8-9F96-4288-A876-DD6A1AAFC66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236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3581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ichael N. Loterstei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Trial Attorne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hicago Offic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U.S. Dept. of Justice, Antitrust Division**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**The views expressed are not purported to reflect those of the U.S. Department of Justice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3716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equiremen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t the time the individual comes forward to report the illegal activity, the Division has not received information about the illegal activity being reported from any other source;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dividual reports the wrongdoing with candor and completeness and provides full, continuing and complete cooperation to the Division throughout the investigation; an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dividual did not coerce another party to participate in the illegal activity and clearly was not the leader in, or originator of, the activi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Individual Leniency if the corporation has already attempted to qualify for Corporate Lenien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n if individual does not qualify for Individual Leniency, could still receive other forms of i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dividual Leniency applicant has certain cooperation obligations, including producing documents and materials, participating in interviews, providing testimon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conspiracy particip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cti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lain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ooperating witness is not the same things as a “confidential informant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uring covert investigative stag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ording conversations, sending emails, providing documents,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going ove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i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siderations and Challe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operator Issu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ackground of the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tivation of the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luctant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orking with the Cooperat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o interacts with Cooperator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at information do you share?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orking with unrepresented Cooperato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16:35:32Z</dcterms:created>
  <dc:creator>Loterstein, Michael</dc:creator>
  <dc:description/>
  <dc:language>en-US</dc:language>
  <cp:lastModifiedBy>LENK Karin (COMP)</cp:lastModifiedBy>
  <dcterms:modified xsi:type="dcterms:W3CDTF">2016-11-11T13:58:48Z</dcterms:modified>
  <cp:revision>9</cp:revision>
  <dc:subject/>
  <dc:title>Cartel Leads/Informants: Experiences, Challenges and Difficulties</dc:title>
</cp:coreProperties>
</file>