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6BD-5B43-460B-9FA6-99AC4B5D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271-5ECF-4631-BD8C-405EF87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988-3F8C-40B7-B25D-369A69A2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7BA-E5C3-4F98-B691-775751DB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34EF-0CC4-4C44-8C93-CBB695E0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7DF6-A8E3-4FF5-B682-5F9C1A73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F0DA-2A64-405B-87D6-BA656737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52D9-8CBD-4E45-AEEE-42E3654C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0FF9-67A7-4E92-BA67-1C01913B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22F7-5BB3-4291-892A-31C88F07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8D8F-8DED-4CAF-8839-633C5E7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568-508D-4C7A-BDFE-43067EF8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9FDF-452E-4F44-87A8-D5457C7C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C05E-C403-431D-A853-97C37FB4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9FB-396A-41CC-A640-B549064C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45ED-8C2C-456D-AF26-D6639F27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D4DD-0F38-4894-9EF3-3B9C7FD4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CE2-49D6-427F-A3A2-727C9CEA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FC6-A558-48EE-B528-A8BB4AB3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79C-9A0F-4684-BBC6-29B0D7DB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AC3-08F6-4AD0-A549-040F867A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B44-9745-447C-A062-6BA1841D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016-DBA6-40AF-A4A7-24729A47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F03-607F-4231-AC47-272207B8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436D-DF7C-42C0-B40A-4C80BE42B24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C502-67A0-4F58-9D7D-2C9E27AB295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236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3581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ichael N. Loterstei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Trial Attorne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hicago Offic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U.S. Dept. of Justice, Antitrust Division**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**The views expressed are not purported to reflect those of the U.S. Department of Justice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3716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equiremen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t the time the individual comes forward to report the illegal activity, the Division has not received information about the illegal activity being reported from any other source;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reports the wrongdoing with candor and completeness and provides full, continuing and complete cooperation to the Division throughout the investigation; an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did not coerce another party to participate in the illegal activity and clearly was not the leader in, or originator of, the activ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Individual Leniency if the corporation has already attempted to qualify for Corporate Leni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 if individual does not qualify for Individual Leniency, could still receive other forms of i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dividual Leniency applicant has certain cooperation obligations, including producing documents and materials, participating in interviews, providing testimon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conspiracy particip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cti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lain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ooperating witness is not the same things as a “confidential informant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ring covert investigative stag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ording conversations, sending emails, providing documents,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going ove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siderations and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operator Iss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ackground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tivation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luctant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orking with the Cooperat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o interacts with Cooperato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information do you share?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king with unrepresented Cooperato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6:35:32Z</dcterms:created>
  <dc:creator>Loterstein, Michael</dc:creator>
  <dc:description/>
  <dc:language>en-US</dc:language>
  <cp:lastModifiedBy>LENK Karin (COMP)</cp:lastModifiedBy>
  <dcterms:modified xsi:type="dcterms:W3CDTF">2016-11-11T13:58:48Z</dcterms:modified>
  <cp:revision>9</cp:revision>
  <dc:subject/>
  <dc:title>Cartel Leads/Informants: Experiences, Challenges and Difficulties</dc:title>
</cp:coreProperties>
</file>