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CM powerpoint 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kstvak 7"/>
          <p:cNvSpPr/>
          <p:nvPr/>
        </p:nvSpPr>
        <p:spPr>
          <a:xfrm>
            <a:off x="8374680" y="6332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2C095-BF8B-4231-BAE1-267FBD161190}" type="slidenum">
              <a:rPr b="0" lang="nl-NL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C:\Users\breuvers_a\Pictures\PPT_EN.png"/>
          <p:cNvPicPr/>
          <p:nvPr/>
        </p:nvPicPr>
        <p:blipFill>
          <a:blip r:embed="rId3"/>
          <a:stretch/>
        </p:blipFill>
        <p:spPr>
          <a:xfrm>
            <a:off x="-30240" y="-22320"/>
            <a:ext cx="9205920" cy="6904080"/>
          </a:xfrm>
          <a:prstGeom prst="rect">
            <a:avLst/>
          </a:prstGeom>
          <a:ln w="0">
            <a:noFill/>
          </a:ln>
        </p:spPr>
      </p:pic>
      <p:sp>
        <p:nvSpPr>
          <p:cNvPr id="41" name="Tekstvak 8"/>
          <p:cNvSpPr/>
          <p:nvPr/>
        </p:nvSpPr>
        <p:spPr>
          <a:xfrm>
            <a:off x="152280" y="2705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1181160" y="6334200"/>
            <a:ext cx="6400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1160" y="2628720"/>
            <a:ext cx="622944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5f1f7a"/>
                </a:solidFill>
                <a:latin typeface="Arial"/>
                <a:ea typeface="Arial"/>
              </a:rPr>
              <a:t>Webinar Intelligence</a:t>
            </a:r>
            <a:endParaRPr b="1" lang="en-US" sz="44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80800" y="3448080"/>
            <a:ext cx="559116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5f1f7a"/>
                </a:solidFill>
                <a:latin typeface="Arial"/>
                <a:ea typeface="Arial"/>
              </a:rPr>
              <a:t>in a multi-task autho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81160" y="6333840"/>
            <a:ext cx="62769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5f1f7a"/>
                </a:solidFill>
                <a:latin typeface="Arial"/>
              </a:rPr>
              <a:t>Stijn van den Broek, Head of Detection Unit, Competition Depart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ckground an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e of the intelligenc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 an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-sharing (intern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ss/mod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Background and context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tection Unit encomp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n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active detection (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spired by Criminal Intelligence Unit (polic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troduction by Dutch Competition Authority (NM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Currently broader scope due to development of ACM as a multi-task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M Policy Rule on Informa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Intelligence unit (IU) – rol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uthorised to obtain information about infringements from anonymous inform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 shared with other units within ACM cannot be traced to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 is an ‘intelligence report’, which does not serve as evidence (but as a pointer for further investi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Core value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81000" y="1590840"/>
            <a:ext cx="7724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as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nonimity of 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 contact with intelligence officers is strictly volunt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haring as much information as possible with other units within A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reports are never used as direct evidence in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officers are appointed by ACM-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ecurity of intelligence offi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Structure and proces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process, anonymity of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ants and all communication with other un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enriching information, providing analysis and names and profiles of potential informa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the (legal) content and act as liaison with other un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, primarily det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Access to information 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 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Complete acces to all information 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sharing information with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 receive information only by an intelligence re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Process/mode of operation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th reactive and proa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teria for inform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ealing identity is risky for infor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nowledge of the infringement, howev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y not be a potential offen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operation with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se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conomists (screening for high risk s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agencies, such as police and public prosec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Competition Authorities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8:50:23Z</dcterms:created>
  <dc:creator/>
  <dc:description/>
  <dc:language>en-US</dc:language>
  <cp:lastModifiedBy/>
  <dcterms:modified xsi:type="dcterms:W3CDTF">2016-11-11T14:00:06Z</dcterms:modified>
  <cp:revision>1</cp:revision>
  <dc:subject/>
  <dc:title/>
</cp:coreProperties>
</file>