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8BAA-7E12-4BD2-AFE3-0A608B72B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C7CF-3B60-4795-A118-7326ADF85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5917-2856-43FA-B1BD-42BBEA014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696F-410E-4D09-96F3-3AA7483A9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30476-9CC0-4277-960F-D6EE1D1B7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1F7EF-2C37-4B67-A831-F8AC79BA6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A6AEC-1469-4132-94E2-DA9830D56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C453E-E1CB-4F94-AD4A-7CE3DF346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12A05-293F-43D2-95A3-7FA47BE66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AFBA8-BF8C-449B-BAB6-30149E7A6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2445D-489F-4837-8D94-DF7FD3C0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1532-0A3E-40A8-9C60-7565BBA57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4C95B-7699-4D9D-B5B2-BA07D3FE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CB710-BE3C-4D79-A7CF-8D32C09D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15B62-C1BE-437A-A14C-D0CF7F326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B647E-3904-469A-9AC4-E45A8EDE4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2E1F7-F763-4CE9-80E2-D27E0CC74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2488-FA34-4F9D-8B5B-FB31303D0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07BB-34AD-41F6-A7E9-3105C17E9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77A7-6B1C-43E2-88DF-EECE4A348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CB22-04F1-461B-BFF6-FC08CFEA7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8475-F01F-43F7-9FA1-A4C9EAF2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A208-B3AC-4B7D-A910-FF48D76A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965B-82CA-4F2F-82C2-A720096D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61E3A-9FFD-4180-9471-83074BD6031F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AD1A0-CE55-4D3B-B3CA-67C6837DE779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420840" y="1371600"/>
            <a:ext cx="8229600" cy="2236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4038480"/>
            <a:ext cx="35812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Michael N. Loterstein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Trial Attorney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Chicago Office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U.S. Dept. of Justice, Antitrust Division**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**The views expressed are not purported to reflect those of the U.S. Department of Justice 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37160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Requirement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At the time the individual comes forward to report the illegal activity, the Division has not received information about the illegal activity being reported from any other source;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The individual reports the wrongdoing with candor and completeness and provides full, continuing and complete cooperation to the Division throughout the investigation; and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The individual did not coerce another party to participate in the illegal activity and clearly was not the leader in, or originator of, the activity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o Individual Leniency if the corporation has already attempted to qualify for Corporate Lenienc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ven if individual does not qualify for Individual Leniency, could still receive other forms of immunit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dividual Leniency applicant has certain cooperation obligations, including producing documents and materials, participating in interviews, providing testimon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161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o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ctive conspiracy participan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Victim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omplainan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cooperating witness is not the same things as a “confidential informant”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en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uring covert investigative stage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Recording conversations, sending emails, providing documents, etc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fter going over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ria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161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nsiderations and Challeng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5932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59320" indent="-27972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ooperator Issu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22120" indent="-22608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Background of the Cooperator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22120" indent="-22608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Motivation of the Cooperator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22120" indent="-22608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Reluctant Cooperator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59320" indent="-27972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59320" indent="-27972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orking with the Cooperato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22120" indent="-22608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Who interacts with Cooperator?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22120" indent="-22608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What information do you share? 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22120" indent="-22608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Working with unrepresented Cooperators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22120" indent="-22608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59320" indent="-27972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59320" indent="-27972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59320" indent="-27972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31T16:35:32Z</dcterms:created>
  <dc:creator>Loterstein, Michael</dc:creator>
  <dc:description/>
  <dc:language>en-US</dc:language>
  <cp:lastModifiedBy>LENK Karin (COMP)</cp:lastModifiedBy>
  <dcterms:modified xsi:type="dcterms:W3CDTF">2016-11-11T13:58:48Z</dcterms:modified>
  <cp:revision>9</cp:revision>
  <dc:subject/>
  <dc:title>Cartel Leads/Informants: Experiences, Challenges and Difficulties</dc:title>
</cp:coreProperties>
</file>