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ACM powerpoint 8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kstvak 7"/>
          <p:cNvSpPr/>
          <p:nvPr/>
        </p:nvSpPr>
        <p:spPr>
          <a:xfrm>
            <a:off x="8374680" y="63324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1B2A9-768F-4C7C-A14A-DB91F08D4357}" type="slidenum">
              <a:rPr b="0" lang="nl-NL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C:\Users\breuvers_a\Pictures\PPT_EN.png"/>
          <p:cNvPicPr/>
          <p:nvPr/>
        </p:nvPicPr>
        <p:blipFill>
          <a:blip r:embed="rId3"/>
          <a:stretch/>
        </p:blipFill>
        <p:spPr>
          <a:xfrm>
            <a:off x="-30240" y="-22320"/>
            <a:ext cx="9205920" cy="6904080"/>
          </a:xfrm>
          <a:prstGeom prst="rect">
            <a:avLst/>
          </a:prstGeom>
          <a:ln w="0">
            <a:noFill/>
          </a:ln>
        </p:spPr>
      </p:pic>
      <p:sp>
        <p:nvSpPr>
          <p:cNvPr id="41" name="Tekstvak 8"/>
          <p:cNvSpPr/>
          <p:nvPr/>
        </p:nvSpPr>
        <p:spPr>
          <a:xfrm>
            <a:off x="152280" y="27050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1181160" y="6334200"/>
            <a:ext cx="6400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1160" y="2628720"/>
            <a:ext cx="6229440" cy="8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400" spc="-1" strike="noStrike">
                <a:solidFill>
                  <a:srgbClr val="5f1f7a"/>
                </a:solidFill>
                <a:latin typeface="Arial"/>
                <a:ea typeface="Arial"/>
              </a:rPr>
              <a:t>Webinar Intelligence</a:t>
            </a:r>
            <a:endParaRPr b="1" lang="en-US" sz="44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180800" y="3448080"/>
            <a:ext cx="559116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5f1f7a"/>
                </a:solidFill>
                <a:latin typeface="Arial"/>
                <a:ea typeface="Arial"/>
              </a:rPr>
              <a:t>in a multi-task author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181160" y="6333840"/>
            <a:ext cx="627696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500" spc="-1" strike="noStrike">
                <a:solidFill>
                  <a:srgbClr val="5f1f7a"/>
                </a:solidFill>
                <a:latin typeface="Arial"/>
              </a:rPr>
              <a:t>Stijn van den Broek, Head of Detection Unit, Competition Depart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ckground and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e of the intelligence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r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re an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on-sharing (intern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cess/mode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Background and context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tection Unit encompa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n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active detection (scree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lligenc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Inspired by Criminal Intelligence Unit (polic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Introduction by Dutch Competition Authority (NM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Currently broader scope due to development of ACM as a multi-task author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giti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M Policy Rule on Informan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a5c8"/>
                </a:solidFill>
                <a:latin typeface="Arial"/>
              </a:rPr>
              <a:t>Intelligence unit (IU) – role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uthorised to obtain information about infringements from anonymous inform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on shared with other units within ACM cannot be traced to infor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duct is an ‘intelligence report’, which does not serve as evidence (but as a pointer for further investi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a5c8"/>
                </a:solidFill>
                <a:latin typeface="Arial"/>
              </a:rPr>
              <a:t>Core values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81000" y="1590840"/>
            <a:ext cx="77248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ast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anonimity of inform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ll contact with intelligence officers is strictly volunt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haring as much information as possible with other units within A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telligence reports are never used as direct evidence in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telligence officers are appointed by ACM-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ecurity of intelligence offi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Structure and process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ner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ircle: intelligence offic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Responsible for process, anonymity of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formants and all communication with other uni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st cir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telligence analyst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responsible for enriching information, providing analysis and names and profiles of potential informa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telligence advisor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responsible for the (legal) content and act as liaison with other un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nd cir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Other units within ACM, primarily det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6867360" y="133200"/>
            <a:ext cx="2162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Access to information 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ner circle: intelligence offic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Complete acces to all information an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responsible for sharing information with ot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st circ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telligence analyst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mplete acces to appointed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hare information only within 1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telligence advis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mplete access to appointed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hare information only within 1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nd cir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Other units within ACM receive information only by an intelligence re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67360" y="133200"/>
            <a:ext cx="2162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Process/mode of operation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oth reactive and proa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riteria for inform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vealing identity is risky for inform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nowledge of the infringement, howev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y not be a potential offen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ooperation with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ase hand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conomists (screening for high risk se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ther agencies, such as police and public prosecu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ther Competition Authorities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8:50:23Z</dcterms:created>
  <dc:creator/>
  <dc:description/>
  <dc:language>en-US</dc:language>
  <cp:lastModifiedBy/>
  <dcterms:modified xsi:type="dcterms:W3CDTF">2016-11-11T14:00:06Z</dcterms:modified>
  <cp:revision>1</cp:revision>
  <dc:subject/>
  <dc:title/>
</cp:coreProperties>
</file>