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E21A-BA2F-437C-B795-8FB370D3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48E-05E4-4AF3-AFB1-F1ACC5F3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7AE5-7C1F-4B82-8AE6-1B4AB31D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262E-970B-46B5-92A7-6A63FD0F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4739-16D2-45D5-AC39-6AE6E19A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6137-31C6-479F-A9A3-8D403F24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3A0E-C370-4722-8FAC-ED6B917E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474F-D1FE-4C6B-BEA9-278A4B5F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1A08-9762-4345-8148-94764342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8168-CA9B-4E2A-8F32-6C11141C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18E1-05A9-4339-9E26-F58DC837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D78E-B11E-4A33-AE01-5ECC8A15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4E27-929E-4D02-B104-B5F38480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34AA-0236-46FA-A3CC-7BA7F88C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7698-4E93-43F8-B05A-85BBB132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DF22-432F-4686-950C-D2B3D9A2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C0DD-D2D5-4725-A179-B11FC4FF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DE55-3572-4D80-B861-C8BB46C0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189-ADF6-4CD4-A71B-8353B3D0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63D-D033-4934-B1BA-7D8933A6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F61-A5E6-4326-81E9-101A7EE1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5A3-E97D-4110-A56E-937620F5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E0D-F1F5-4571-AD8A-44FA25D6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4340-58F5-4C75-BBAE-5034B018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E3B1-99B8-4857-9983-F73B9E151F6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43B6-BC99-4251-8875-2676A1F31F4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236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35812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Michael N. Loterstein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Trial Attorne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hicago Offic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U.S. Dept. of Justice, Antitrust Division**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**The views expressed are not purported to reflect those of the U.S. Department of Justice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3716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equirement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t the time the individual comes forward to report the illegal activity, the Division has not received information about the illegal activity being reported from any other source;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individual reports the wrongdoing with candor and completeness and provides full, continuing and complete cooperation to the Division throughout the investigation; an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individual did not coerce another party to participate in the illegal activity and clearly was not the leader in, or originator of, the activit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Individual Leniency if the corporation has already attempted to qualify for Corporate Lenienc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en if individual does not qualify for Individual Leniency, could still receive other forms of immun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dividual Leniency applicant has certain cooperation obligations, including producing documents and materials, participating in interviews, providing testimon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16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o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ctive conspiracy participa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icti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mplaina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cooperating witness is not the same things as a “confidential informant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uring covert investigative stag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cording conversations, sending emails, providing documents, etc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fter going over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i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siderations and Challeng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operator Issu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ackground of the Cooperator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otivation of the Cooperator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luctant Cooperator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orking with the Cooperato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o interacts with Cooperator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at information do you share?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orking with unrepresented Cooperator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1T16:35:32Z</dcterms:created>
  <dc:creator>Loterstein, Michael</dc:creator>
  <dc:description/>
  <dc:language>en-US</dc:language>
  <cp:lastModifiedBy>LENK Karin (COMP)</cp:lastModifiedBy>
  <dcterms:modified xsi:type="dcterms:W3CDTF">2016-11-11T13:58:48Z</dcterms:modified>
  <cp:revision>9</cp:revision>
  <dc:subject/>
  <dc:title>Cartel Leads/Informants: Experiences, Challenges and Difficulties</dc:title>
</cp:coreProperties>
</file>