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7F8-2EBF-429D-AC4E-98593E0D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65F-BC0B-48E5-B241-ECB6A08A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FC4-1D7B-473A-A290-122FD1A1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A63-402A-4584-AE43-129D2014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3610-B933-40CA-ADBE-66B2ECB8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13F9-C4F5-47D6-835E-8F94AC41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D1CA-799C-46E3-91A0-98D375B0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EA05-B117-451D-A6F6-8BD65227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3412-D77C-4F16-9CF5-9889DD9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AD6A-BCCE-44F2-958D-618C33AB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8165-2BC4-4953-BAE3-8876F229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D8E-C3E6-4FC8-ACCB-6FFF81B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7678-417F-4614-A42A-E72ABC9D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2728-5CAD-48BD-BC62-08D6C8FC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0E97-054D-46BD-890E-49D39ED0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46AC-8924-4510-AFD2-775F4344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16CF-EF52-49A7-9094-CE824827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35D-76CA-468E-A564-1E4149BC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73B-61CA-4A46-829C-8CF58489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94F-E532-4817-85BA-0F68E5E4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27C-1F24-40BD-B494-7383830A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2C8-0214-469B-979A-3213F2E7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821-50C4-402E-9B81-89CC9A75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3A2-9401-44C5-93B7-B5F0FC4E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05AB-F117-464E-90B7-049A90AF977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B9A0-77B4-4FA7-A62C-AF96114A0A9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236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3581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Michael N. Loterstein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Trial Attorne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hicago Office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U.S. Dept. of Justice, Antitrust Division**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**The views expressed are not purported to reflect those of the U.S. Department of Justice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equirem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t the time the individual comes forward to report the illegal activity, the Division has not received information about the illegal activity being reported from any other source;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reports the wrongdoing with candor and completeness and provides full, continuing and complete cooperation to the Division throughout the investigation; an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dividual did not coerce another party to participate in the illegal activity and clearly was not the leader in, or originator of, the activity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Individual Leniency if the corporation has already attempted to qualify for Corporate Lenien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n if individual does not qualify for Individual Leniency, could still receive other forms of i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dividual Leniency applicant has certain cooperation obligations, including producing documents and materials, participating in interviews, providing testimon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ve conspiracy particip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cti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laina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cooperating witness is not the same things as a “confidential informant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covert investigative stage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ording conversations, sending emails, providing documents, etc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ter going ove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siderations and Challe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operator Issu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ckground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tivation of the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luctant Cooperat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orking with the Cooperat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o interacts with Cooperator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hat information do you share?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orking with unrepresented Cooperato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22120" indent="-22608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6:35:32Z</dcterms:created>
  <dc:creator>Loterstein, Michael</dc:creator>
  <dc:description/>
  <dc:language>en-US</dc:language>
  <cp:lastModifiedBy>LENK Karin (COMP)</cp:lastModifiedBy>
  <dcterms:modified xsi:type="dcterms:W3CDTF">2016-11-11T13:58:48Z</dcterms:modified>
  <cp:revision>9</cp:revision>
  <dc:subject/>
  <dc:title>Cartel Leads/Informants: Experiences, Challenges and Difficulties</dc:title>
</cp:coreProperties>
</file>