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8" name="PlaceHolder 2"/>
          <p:cNvSpPr>
            <a:spLocks noGrp="1"/>
          </p:cNvSpPr>
          <p:nvPr>
            <p:ph type="dt" idx="2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move the slide</a:t>
            </a:r>
            <a:endParaRPr b="0" lang="en-US" sz="4400" spc="-1" strike="noStrike">
              <a:solidFill>
                <a:srgbClr val="00b0f0"/>
              </a:solidFill>
              <a:latin typeface="Arial"/>
            </a:endParaRPr>
          </a:p>
        </p:txBody>
      </p:sp>
      <p:sp>
        <p:nvSpPr>
          <p:cNvPr id="50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1" name="PlaceHolder 5"/>
          <p:cNvSpPr>
            <a:spLocks noGrp="1"/>
          </p:cNvSpPr>
          <p:nvPr>
            <p:ph type="ftr" idx="2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2" name="PlaceHolder 6"/>
          <p:cNvSpPr>
            <a:spLocks noGrp="1"/>
          </p:cNvSpPr>
          <p:nvPr>
            <p:ph type="sldNum" idx="2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57DC-25F9-499A-A592-4375968A275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5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BE5D-1B65-45ED-85BF-D0FD490C0214}"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nes to the parent companies capped on 10% of turnover in preceding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ndrion</a:t>
            </a:r>
            <a:r>
              <a:rPr b="0" lang="en-US" sz="1200" spc="-1" strike="noStrike">
                <a:solidFill>
                  <a:srgbClr val="000000"/>
                </a:solidFill>
                <a:latin typeface="Calibri"/>
              </a:rPr>
              <a:t> (C-50/12), r.o. 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sent case, as the General Court observed in paragraph 87 of the judgment under appeal, the amount which the Commission considered appropriate in order to penalise Fardem Packaging’s participation in the cartel for a period exceeding 20 years was not the EUR 2.20 million referred to in the operative part of the contested decision, but EUR 60 million, that is an amount higher than the EUR 34 million established for Kendrion for the period in which Kendrion and Fardem Packaging constituted a single undertaking for the purpose of Article 81 EC. As the General Court observed in paragraph 89 of the judgment under appeal, the reason why the Commission, in the contested decision, imposed a fine of EUR 34 million on the appellant and a fine of EUR 2.20 million on Fardem Packaging was because of the application to Fardem Packaging of the 10% ceiling laid down by Article 23(2) of Regulation No 1/2003. In that context, the General Court was fully entitled to hold, in paragraphs 92 and 93 of the judgment under appeal, that, </a:t>
            </a:r>
            <a:r>
              <a:rPr b="0" lang="en-US" sz="1200" spc="-1" strike="noStrike" u="sng">
                <a:solidFill>
                  <a:srgbClr val="000000"/>
                </a:solidFill>
                <a:uFillTx/>
                <a:latin typeface="Calibri"/>
              </a:rPr>
              <a:t>where two separate legal persons, such as a parent company and its subsidiary, no longer constitute an undertaking within the meaning of Article 81 EC on the date on which a decision imposing a fine on them for breach of the competition rules is adopted, each of them is entitled to have the 10% ceiling applied individually to itself and that, in those circumstances, Kendrion could not claim to benefit from the ceiling applicable to its former subsidi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kai Carbon </a:t>
            </a:r>
            <a:r>
              <a:rPr b="0" lang="en-US" sz="1200" spc="-1" strike="noStrike">
                <a:solidFill>
                  <a:srgbClr val="000000"/>
                </a:solidFill>
                <a:latin typeface="Calibri"/>
              </a:rPr>
              <a:t>(T-71/03), r.o. 3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follows that the objective sought by the introduction of the 10% ceiling can be realised only if that ceiling is applied initially to each separate addressee of the decision imposing the fine. It is only if it subsequently transpires that several addressees constitute the ‘undertaking’, that is the economic entity responsible for the infringement penalised, again at the date when the decision is adopted, that the ceiling can be calculated on the basis of the overall turnover of that undertaking, that is to say of all its constituent parts taken together. </a:t>
            </a:r>
            <a:r>
              <a:rPr b="0" lang="en-US" sz="1200" spc="-1" strike="noStrike" u="sng">
                <a:solidFill>
                  <a:srgbClr val="000000"/>
                </a:solidFill>
                <a:uFillTx/>
                <a:latin typeface="Calibri"/>
              </a:rPr>
              <a:t>By contrast, if that economic unit has subsequently broken up, each addressee of the decision is entitled to have the ceiling in question applied individually to it.</a:t>
            </a:r>
            <a:endParaRPr b="0" lang="en-US" sz="1200" spc="-1" strike="noStrike">
              <a:solidFill>
                <a:srgbClr val="000000"/>
              </a:solidFill>
              <a:latin typeface="Calibri"/>
            </a:endParaRPr>
          </a:p>
        </p:txBody>
      </p:sp>
      <p:sp>
        <p:nvSpPr>
          <p:cNvPr id="55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26C4-EACD-4510-BD7E-20867051D975}"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 understand the discussions I pointed out in my first slide we first need to zoom in on the organisation of undertaking X. But second also understand the procedure that in this case led to two decisions adressing different entities within undertaking X. Without understanding some of the procedures it is difficult to understand the topic [XXX] on equal treatment. I will try to explain both with the help of two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ly the organisational chart of undertaking X. Which looks as follows. To start of with } company A is an investment firm. C1 and C2 are investment funds which togetherheld roughly 84 % of shares in a portfollio company made up out of companies E, F and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s said in the introduction, this cartel case is peculiar because the ACM took two seperate decisions concerning differnet parts of udnertaking X. In the first decision te ACM concluded that one the cartellists was company G. This was 20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 and E were held jointly and severally liable for the infringement of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 was held liable on the basis of the AKZO-presumption that applied to the relationships EF and F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w during the proceedings concerning Decision 1 some of the other cartellists complaint that ACM had not treated all cartellists equally in setting the liabilities. Their argument was that ACM did not go all the way to the top of companies making up undertaking X. To be able to that obviously those different companies have to make up one economic unit, thus one undertaking. According to the complainants that was the case. By now holding A liable the ACM did not use the same attribution as in the case of the other cartellist. The complainants were in fact not investment firms, however ordinary parent compa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 the basis of these complaints ACM decided to start a seperate investigation into the liability of A, the investment firm. This led to Decision 2 in which ACM held A liable for the infringements of G. Basically because the companies, from a competition law perspectve, belonged to the same undertaking. Company A, the investment firm, did not agree and does still not agr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legal proceedings concerning Decision 1, however went ahead during the investigation and decision-making concerning Decision 2. These proceedings led to the final confirmation in highest instance that ACMs conclusions in Decision 1 were right - there was a cartel and G and E can be held jointly and severally l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cision 2, in which ACM in addition also attributed liability to the investment firm (company A), is still subject of legal proceedings. We are at the last stage now. In first instance the court decided that ACM rightly attributed liability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3020-8F27-4016-AEAA-11B6370DFCCD}"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60"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CF63-6C62-4317-A837-543955D0FB6B}"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F8AE0F-FCFE-4C4F-ABC6-13F77363FA0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268990-DCA0-4F5D-88CF-219171430D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C5FBAB-16B7-4094-9BA8-29A6F5238B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02CE9C-CED2-4AE8-A042-C6AE62FF4F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640AB0-2555-48D2-AFC0-2861C4FC20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C76D68-F512-48DC-AD96-3E78DDADD8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227197-927A-4D05-B080-FFBD501EFB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95EF01-F016-4727-B5D2-9C1D4ACE5DC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D5B6F7-70F3-4315-B75C-9B0EE851E0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6AF8CCF8-1D5D-4E2C-96C1-A00E7614F2E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1411113-AE22-418C-870E-C02312CC474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B68C254-06A0-4227-8255-384007A4D1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A45F861-5A9E-405B-9C51-0FF538A92A6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377DBD2-F21B-4F65-8C2C-BE36ED6F63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925DA5D-8702-4DB5-A838-58832F412E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E28EFBA-463B-4026-A719-2EBC874BF1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0C253CD-B5E5-4314-9D74-FA40D92228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C480D2C-F536-4292-8AEF-6E5DE130A4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124A9D7-7C0D-44B5-BDAB-08F39593D5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09A918F8-6607-49FF-96E4-5455BC0CA99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F50E655-17B9-4ADE-B64D-8A9B92ACAE5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7E1CE5BB-2272-4AD8-8A4B-C6D4B42F55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F1ADC7C-71C1-41D9-B3FB-53CF92EB5C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2BD4352F-AD22-4C14-BA40-3B8EB4F2B5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652AE32-5956-4F66-9553-D617D3E9D7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3181C04-8742-41F4-BECB-ED23C57C29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D0A1FF63-4CCD-41E1-ADC9-E3BBF3985C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EC67D98-008E-4C91-B81A-AC64B9311F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BBD9D32-CE37-46F0-8465-848F342863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A74B89A-F880-4F50-9BCC-ABDDA50D67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FEDE6D-AA46-464D-BB84-D4159CD4FF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5BDE634-235F-4DFB-8F40-7209D6A410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A0E7D7B6-8070-4CCD-9FA4-FDF38A83411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16A85703-757A-4A35-AF86-2F1AFEF4E19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F6CF2D-2E04-4233-9477-6372C2D79CB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920A79-0A29-456B-8CF6-9B7F6BE475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BC2A001-18F5-4B47-AB23-03A12F68AE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3"/>
          </p:nvPr>
        </p:nvSpPr>
        <p:spPr/>
        <p:txBody>
          <a:bodyPr/>
          <a:p>
            <a:fld id="{03D7409E-9C18-44F3-A582-E08EF05B55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1D6B055-ED87-4299-BCFC-93D0CA10B7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54AFD7D-D9F9-4402-ACB9-EE18F1685B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3B279C0-A132-4151-9EC7-C339169271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DECF300-6007-43BA-88E9-30C5EE81BB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6E3FB4A-657D-4838-9B66-7C0235F579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FF929FF-8BAE-4310-8FA1-4A189719D5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50B1D5D-56D3-4D69-97F2-205B8A4466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C8602C-1412-4B85-BFC8-99B4A0A9ED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2BE66-B706-48B1-8C36-30496E3480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0E6B4-6C26-41E8-96CB-6A83F61976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CEA88-808D-44CB-A0CA-E910F1BBC8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4"/>
          </p:nvPr>
        </p:nvSpPr>
        <p:spPr/>
        <p:txBody>
          <a:bodyPr/>
          <a:p>
            <a:fld id="{948AE27F-1CE2-4387-9E7F-50B419AA32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8D86E47-1C82-4E7B-A73A-15A491A635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F8CE7-660B-4E63-924C-494C8242AB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E68AF-4731-47A9-85E5-245EF8546F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F189D-BF2D-47D2-8186-05F8D58831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45FBB2-2D0D-42F2-AA41-08731C5FB0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13305-AB82-4F5B-A202-D5E6996B48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B8D4D6-75FA-4937-ADF9-EAA84354B9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325236-886F-4280-AADD-EDFCB71835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F77C538-08A0-49EE-A275-2E99DD6AF79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5BB513D-02FA-4912-9500-C8BD170E6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A06B684-92C7-45FE-98DC-A123B2DFDE1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5"/>
          </p:nvPr>
        </p:nvSpPr>
        <p:spPr/>
        <p:txBody>
          <a:bodyPr/>
          <a:p>
            <a:fld id="{86EFBB16-50FC-4EC1-9C9A-443FECBACF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1E1886F-FEF4-417A-B82C-E6F461FDA8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9D1F6E3-2230-4BAE-8449-1F67CA4978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1645D20-4100-4443-9727-540CE90BD5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92E2752-8229-4F82-B729-868CF1BE218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0A24EFC-BC03-4E9E-AC9C-54E53F1C06B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0DE175B9-AF98-438A-9AA6-816645F093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83922B7-605D-4BE9-800E-8F1D5D2DC66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8B8ED9-F9BD-479C-9631-8ACCD087E2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3A73385-6BB5-4086-B735-0DE47D16D80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E8B812E-FC96-4252-9C0E-0D9BD28DEFA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04C351C-A1DA-47A7-A712-22C2E90C8B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6"/>
          </p:nvPr>
        </p:nvSpPr>
        <p:spPr/>
        <p:txBody>
          <a:bodyPr/>
          <a:p>
            <a:fld id="{B6B3018F-0076-4550-AFED-D6E5271EB3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3D7A7BE-A748-4CAE-8BF7-8799C4F556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C81A93E-BBC4-43C6-8EAB-10682DD6634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F8DF521-29E8-4599-A1F6-CB29FEA61E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A3A3864-EDAD-4131-BA3F-79F3F6925E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FEACC22-D9C3-40C4-871D-7290C02DD7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7996CC1-FA53-42FA-8B7F-2CCDFF15F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20EDEDB-808A-4B40-AF91-CD00D84F96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534E95-ED9E-4428-9343-89D286CC6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98AD9B-0D18-43F9-BCA7-1D7E94457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E98510-7C26-4B43-AA9E-5C078B2B7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A23F11-3B08-44C0-A8E0-A36EA5CD7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E29BC0-3E13-4987-ADA5-533E39253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AD50C8-69B3-4161-97CE-42C3CAF47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A98F5E-0ADB-4E9A-A06B-85B6A6ABA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0A46EE-A697-4D0F-A153-C901757E6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D16278-2DE8-4A6D-A1E6-75FA7602F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1BCC43-6E96-4788-B6D4-A32F9E3A0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09AC1B1-525F-42C3-B932-21658B267A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966CF1-7F3A-45F6-83ED-140AB51844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8D3520-E7C2-4776-A377-6129EA509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50E1F7-6FDF-45D6-B709-59FDD191F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9A400D-63B4-41F4-8B26-3CBD3478A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CB27B6-9E4E-482B-80CF-B87D3657A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92DDB2-E691-4EFD-AE9A-7C08A1DB3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1FDC7D-8759-45C3-97E6-827BF16A3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6E8733-A486-4FB2-B918-924A199D1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B46231-ABBB-4E07-B3C8-4EB280FCD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7C8D2F-EC28-4704-AEA4-8BBE29E1F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8301A1-BA96-48A2-81F9-BB3270C7F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F83D08-1874-443F-B417-4660CA3361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B3B40E-E6E6-4770-9CBB-7257DB8630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7C0F46-14A9-43F7-940A-13C54C679BB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FF8D70F-B701-4384-82B5-C3E782880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888139E-0749-43C5-84A5-F377BBC55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BB45589-929B-4FE4-8284-2F48DE9BF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14"/>
          </p:nvPr>
        </p:nvSpPr>
        <p:spPr/>
        <p:txBody>
          <a:bodyPr/>
          <a:p>
            <a:fld id="{5B040A8B-E34D-4F7C-B080-77E491EB47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99F9E97-190C-43F9-8872-5DFF2D900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44BAEEB-FC5F-4031-85AB-AEF6E60E7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59C24BC-8CC0-458E-A9A4-4F9521A51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5D5C092-A036-4D92-A484-048F6932A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1263FB1-B559-4A9A-A716-303EABEA4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4C93AF8-230F-44B8-95DC-61FA77D08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2C48AEE-0115-4AEF-A8BA-22A40246ABE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5C281C5-C667-41CC-B6B3-7B1F01803A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496045-6593-47FC-A12D-6A5EF23A885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B52B11-F084-4BC1-9D35-D3AA2A6FE8A9}"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 name="Picture 2" descr=""/>
          <p:cNvPicPr/>
          <p:nvPr/>
        </p:nvPicPr>
        <p:blipFill>
          <a:blip r:embed="rId2"/>
          <a:stretch/>
        </p:blipFill>
        <p:spPr>
          <a:xfrm>
            <a:off x="0" y="3213000"/>
            <a:ext cx="450720" cy="478080"/>
          </a:xfrm>
          <a:prstGeom prst="rect">
            <a:avLst/>
          </a:prstGeom>
          <a:ln w="0">
            <a:noFill/>
          </a:ln>
        </p:spPr>
      </p:pic>
      <p:sp>
        <p:nvSpPr>
          <p:cNvPr id="4" name="PlaceHolder 4"/>
          <p:cNvSpPr>
            <a:spLocks noGrp="1"/>
          </p:cNvSpPr>
          <p:nvPr>
            <p:ph type="ftr" idx="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3213000"/>
            <a:ext cx="450720" cy="47808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8"/>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035E-AFE3-4B34-9816-FE9692C20324}"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77" name="PlaceHolder 5"/>
          <p:cNvSpPr>
            <a:spLocks noGrp="1"/>
          </p:cNvSpPr>
          <p:nvPr>
            <p:ph type="ftr" idx="20"/>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
          <p:cNvPicPr/>
          <p:nvPr/>
        </p:nvPicPr>
        <p:blipFill>
          <a:blip r:embed="rId2"/>
          <a:stretch/>
        </p:blipFill>
        <p:spPr>
          <a:xfrm>
            <a:off x="0" y="3213000"/>
            <a:ext cx="450720" cy="47808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1834-4207-4324-9281-C24E8DA16B68}"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5"/>
          <p:cNvSpPr>
            <a:spLocks noGrp="1"/>
          </p:cNvSpPr>
          <p:nvPr>
            <p:ph type="ftr" idx="23"/>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0" y="3213000"/>
            <a:ext cx="450720" cy="478080"/>
          </a:xfrm>
          <a:prstGeom prst="rect">
            <a:avLst/>
          </a:prstGeom>
          <a:ln w="0">
            <a:noFill/>
          </a:ln>
        </p:spPr>
      </p:pic>
      <p:pic>
        <p:nvPicPr>
          <p:cNvPr id="457" name="Picture 5" descr="Screen shot 2012-05-30 at 2.47.38 PM.png"/>
          <p:cNvPicPr/>
          <p:nvPr/>
        </p:nvPicPr>
        <p:blipFill>
          <a:blip r:embed="rId3"/>
          <a:stretch/>
        </p:blipFill>
        <p:spPr>
          <a:xfrm>
            <a:off x="0" y="0"/>
            <a:ext cx="9144000" cy="685800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13000"/>
            <a:ext cx="450720" cy="478080"/>
          </a:xfrm>
          <a:prstGeom prst="rect">
            <a:avLst/>
          </a:prstGeom>
          <a:ln w="0">
            <a:noFill/>
          </a:ln>
        </p:spPr>
      </p:pic>
      <p:pic>
        <p:nvPicPr>
          <p:cNvPr id="42" name="Picture 10" descr="ACM powerpoint-8.jpg"/>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1987-DB69-46BF-A90E-E3CCCECA9834}"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0" y="3213000"/>
            <a:ext cx="450720" cy="478080"/>
          </a:xfrm>
          <a:prstGeom prst="rect">
            <a:avLst/>
          </a:prstGeom>
          <a:ln w="0">
            <a:noFill/>
          </a:ln>
        </p:spPr>
      </p:pic>
      <p:pic>
        <p:nvPicPr>
          <p:cNvPr id="83" name="Picture 7" descr="ACM powerpoint-6.jpg"/>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D264-5336-46B2-BAB8-96BE6041479B}"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0" y="3213000"/>
            <a:ext cx="450720" cy="478080"/>
          </a:xfrm>
          <a:prstGeom prst="rect">
            <a:avLst/>
          </a:prstGeom>
          <a:ln w="0">
            <a:noFill/>
          </a:ln>
        </p:spPr>
      </p:pic>
      <p:pic>
        <p:nvPicPr>
          <p:cNvPr id="124" name="Picture 7" descr="ACM powerpoint-6.jp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27A0-ADD4-4DE4-9B16-75A8390FBA4B}"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2"/>
          <a:stretch/>
        </p:blipFill>
        <p:spPr>
          <a:xfrm>
            <a:off x="0" y="3213000"/>
            <a:ext cx="450720" cy="478080"/>
          </a:xfrm>
          <a:prstGeom prst="rect">
            <a:avLst/>
          </a:prstGeom>
          <a:ln w="0">
            <a:noFill/>
          </a:ln>
        </p:spPr>
      </p:pic>
      <p:pic>
        <p:nvPicPr>
          <p:cNvPr id="165" name="Picture 7" descr="ACM powerpoint-6.jpg"/>
          <p:cNvPicPr/>
          <p:nvPr/>
        </p:nvPicPr>
        <p:blipFill>
          <a:blip r:embed="rId3"/>
          <a:stretch/>
        </p:blipFill>
        <p:spPr>
          <a:xfrm>
            <a:off x="0" y="0"/>
            <a:ext cx="9144000" cy="685800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244E-E63B-4202-AD6A-28B855255B73}"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0" y="3213000"/>
            <a:ext cx="450720" cy="47808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7"/>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084C-F838-4E45-BCAA-B765BCA72DB9}"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10" name="PlaceHolder 5"/>
          <p:cNvSpPr>
            <a:spLocks noGrp="1"/>
          </p:cNvSpPr>
          <p:nvPr>
            <p:ph type="ftr" idx="9"/>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2"/>
          <a:stretch/>
        </p:blipFill>
        <p:spPr>
          <a:xfrm>
            <a:off x="0" y="3213000"/>
            <a:ext cx="450720" cy="478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0"/>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5452-775A-4F31-BEB6-8BC2C14ADCDE}"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52" name="PlaceHolder 5"/>
          <p:cNvSpPr>
            <a:spLocks noGrp="1"/>
          </p:cNvSpPr>
          <p:nvPr>
            <p:ph type="ftr" idx="1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3213000"/>
            <a:ext cx="450720" cy="47808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86B0-42DC-4B10-85A8-BEE625110706}"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
          <p:cNvPicPr/>
          <p:nvPr/>
        </p:nvPicPr>
        <p:blipFill>
          <a:blip r:embed="rId2"/>
          <a:stretch/>
        </p:blipFill>
        <p:spPr>
          <a:xfrm>
            <a:off x="0" y="3213000"/>
            <a:ext cx="450720" cy="47808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5"/>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4"/>
          <p:cNvSpPr>
            <a:spLocks noGrp="1"/>
          </p:cNvSpPr>
          <p:nvPr>
            <p:ph type="ftr" idx="16"/>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7F46-FD20-444E-BA15-3119459E9C44}"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3.png"/><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332000" y="5084640"/>
            <a:ext cx="6400800" cy="139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b0f0"/>
                </a:solidFill>
                <a:latin typeface="Arial"/>
              </a:rPr>
              <a:t>A Dutch perspective</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Jolanda Strijker-Reintj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Fabian Kro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2"/>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b0f0"/>
                </a:solidFill>
                <a:latin typeface="Arial"/>
              </a:rPr>
              <a:t>Parental liability &amp; investment firms</a:t>
            </a:r>
            <a:endParaRPr b="0" lang="en-US" sz="3600" spc="-1" strike="noStrike">
              <a:solidFill>
                <a:srgbClr val="00b0f0"/>
              </a:solidFill>
              <a:latin typeface="Arial"/>
            </a:endParaRPr>
          </a:p>
        </p:txBody>
      </p:sp>
      <p:pic>
        <p:nvPicPr>
          <p:cNvPr id="505" name="Afbeelding 2" descr=""/>
          <p:cNvPicPr/>
          <p:nvPr/>
        </p:nvPicPr>
        <p:blipFill>
          <a:blip r:embed="rId1"/>
          <a:stretch/>
        </p:blipFill>
        <p:spPr>
          <a:xfrm>
            <a:off x="3203640" y="2133720"/>
            <a:ext cx="224316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1)</a:t>
            </a:r>
            <a:endParaRPr b="0" lang="en-US" sz="4400" spc="-1" strike="noStrike">
              <a:solidFill>
                <a:srgbClr val="00b0f0"/>
              </a:solidFill>
              <a:latin typeface="Arial"/>
            </a:endParaRPr>
          </a:p>
        </p:txBody>
      </p:sp>
      <p:sp>
        <p:nvSpPr>
          <p:cNvPr id="507" name=""/>
          <p:cNvSpPr txBox="1"/>
          <p:nvPr/>
        </p:nvSpPr>
        <p:spPr>
          <a:xfrm>
            <a:off x="934560" y="1699920"/>
            <a:ext cx="7417080" cy="567828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rst time to fine an investment company in N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the usual suspect, not 100%, no AKZ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tribution of liability in 2 phases (2 separate decisions)</a:t>
            </a:r>
            <a:endParaRPr b="0" lang="en-US" sz="2400" spc="-1" strike="noStrike">
              <a:solidFill>
                <a:srgbClr val="000000"/>
              </a:solidFill>
              <a:latin typeface="Arial"/>
            </a:endParaRPr>
          </a:p>
        </p:txBody>
      </p:sp>
      <p:pic>
        <p:nvPicPr>
          <p:cNvPr id="508" name="Afbeelding 6" descr=""/>
          <p:cNvPicPr/>
          <p:nvPr/>
        </p:nvPicPr>
        <p:blipFill>
          <a:blip r:embed="rId1"/>
          <a:stretch/>
        </p:blipFill>
        <p:spPr>
          <a:xfrm>
            <a:off x="4211640" y="4757760"/>
            <a:ext cx="1655640" cy="1690560"/>
          </a:xfrm>
          <a:prstGeom prst="rect">
            <a:avLst/>
          </a:prstGeom>
          <a:ln w="0">
            <a:noFill/>
          </a:ln>
        </p:spPr>
      </p:pic>
      <p:pic>
        <p:nvPicPr>
          <p:cNvPr id="509"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15" descr=""/>
          <p:cNvPicPr/>
          <p:nvPr/>
        </p:nvPicPr>
        <p:blipFill>
          <a:blip r:embed="rId1"/>
          <a:stretch/>
        </p:blipFill>
        <p:spPr>
          <a:xfrm>
            <a:off x="0" y="3025800"/>
            <a:ext cx="811080" cy="1057320"/>
          </a:xfrm>
          <a:prstGeom prst="rect">
            <a:avLst/>
          </a:prstGeom>
          <a:ln w="0">
            <a:noFill/>
          </a:ln>
        </p:spPr>
      </p:pic>
      <p:sp>
        <p:nvSpPr>
          <p:cNvPr id="511" name="Rechte verbindingslijn 6"/>
          <p:cNvSpPr/>
          <p:nvPr/>
        </p:nvSpPr>
        <p:spPr>
          <a:xfrm>
            <a:off x="2346480" y="3646440"/>
            <a:ext cx="0" cy="9414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Rechte verbindingslijn 3"/>
          <p:cNvSpPr/>
          <p:nvPr/>
        </p:nvSpPr>
        <p:spPr>
          <a:xfrm>
            <a:off x="679320" y="3670200"/>
            <a:ext cx="0" cy="917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Titel 1"/>
          <p:cNvSpPr/>
          <p:nvPr/>
        </p:nvSpPr>
        <p:spPr>
          <a:xfrm>
            <a:off x="468360" y="152280"/>
            <a:ext cx="8229600" cy="973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ea typeface="Arial"/>
              </a:rPr>
              <a:t>Flour cartel (1)</a:t>
            </a:r>
            <a:endParaRPr b="0" lang="en-US" sz="4400" spc="-1" strike="noStrike">
              <a:solidFill>
                <a:srgbClr val="000000"/>
              </a:solidFill>
              <a:latin typeface="Calibri"/>
            </a:endParaRPr>
          </a:p>
        </p:txBody>
      </p:sp>
      <p:pic>
        <p:nvPicPr>
          <p:cNvPr id="514" name="Diagram 7" descr=""/>
          <p:cNvPicPr/>
          <p:nvPr/>
        </p:nvPicPr>
        <p:blipFill>
          <a:blip r:embed="rId2"/>
          <a:stretch/>
        </p:blipFill>
        <p:spPr>
          <a:xfrm>
            <a:off x="109440" y="2170080"/>
            <a:ext cx="8925120" cy="3487680"/>
          </a:xfrm>
          <a:prstGeom prst="rect">
            <a:avLst/>
          </a:prstGeom>
          <a:ln w="0">
            <a:noFill/>
          </a:ln>
        </p:spPr>
      </p:pic>
      <p:cxnSp>
        <p:nvCxnSpPr>
          <p:cNvPr id="515" name="Rechte verbindingslijn met pijl 22"/>
          <p:cNvCxnSpPr>
            <a:stCxn id="516" idx="3"/>
          </p:cNvCxnSpPr>
          <p:nvPr/>
        </p:nvCxnSpPr>
        <p:spPr>
          <a:xfrm>
            <a:off x="1179000" y="4987440"/>
            <a:ext cx="667800" cy="1080"/>
          </a:xfrm>
          <a:prstGeom prst="straightConnector1">
            <a:avLst/>
          </a:prstGeom>
          <a:ln w="19080">
            <a:solidFill>
              <a:srgbClr val="4a7ebb"/>
            </a:solidFill>
            <a:prstDash val="dash"/>
            <a:miter/>
            <a:tailEnd len="med" type="arrow" w="med"/>
          </a:ln>
        </p:spPr>
      </p:cxnSp>
      <p:sp>
        <p:nvSpPr>
          <p:cNvPr id="517" name="Rechthoek 47"/>
          <p:cNvSpPr/>
          <p:nvPr/>
        </p:nvSpPr>
        <p:spPr>
          <a:xfrm>
            <a:off x="179280" y="2868480"/>
            <a:ext cx="1000080" cy="801720"/>
          </a:xfrm>
          <a:prstGeom prst="rect">
            <a:avLst/>
          </a:prstGeom>
          <a:solidFill>
            <a:srgbClr val="ffffff"/>
          </a:solidFill>
          <a:ln w="22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X</a:t>
            </a:r>
            <a:endParaRPr b="0" lang="en-US" sz="1000" spc="-1" strike="noStrike">
              <a:solidFill>
                <a:srgbClr val="000000"/>
              </a:solidFill>
              <a:latin typeface="Calibri"/>
            </a:endParaRPr>
          </a:p>
        </p:txBody>
      </p:sp>
      <p:pic>
        <p:nvPicPr>
          <p:cNvPr id="518" name="Picture 6" descr=""/>
          <p:cNvPicPr/>
          <p:nvPr/>
        </p:nvPicPr>
        <p:blipFill>
          <a:blip r:embed="rId3"/>
          <a:stretch/>
        </p:blipFill>
        <p:spPr>
          <a:xfrm>
            <a:off x="250920" y="333360"/>
            <a:ext cx="668160" cy="663480"/>
          </a:xfrm>
          <a:prstGeom prst="rect">
            <a:avLst/>
          </a:prstGeom>
          <a:ln w="0">
            <a:noFill/>
          </a:ln>
        </p:spPr>
      </p:pic>
      <p:pic>
        <p:nvPicPr>
          <p:cNvPr id="519" name="Afbeelding 13" descr=""/>
          <p:cNvPicPr/>
          <p:nvPr/>
        </p:nvPicPr>
        <p:blipFill>
          <a:blip r:embed="rId4"/>
          <a:stretch/>
        </p:blipFill>
        <p:spPr>
          <a:xfrm>
            <a:off x="1042920" y="352440"/>
            <a:ext cx="649440" cy="644400"/>
          </a:xfrm>
          <a:prstGeom prst="rect">
            <a:avLst/>
          </a:prstGeom>
          <a:ln w="0">
            <a:noFill/>
          </a:ln>
        </p:spPr>
      </p:pic>
      <p:sp>
        <p:nvSpPr>
          <p:cNvPr id="520" name="Tekstvak 37909"/>
          <p:cNvSpPr/>
          <p:nvPr/>
        </p:nvSpPr>
        <p:spPr>
          <a:xfrm>
            <a:off x="2627280" y="3943800"/>
            <a:ext cx="12081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sp>
        <p:nvSpPr>
          <p:cNvPr id="516" name="Rechthoek 14"/>
          <p:cNvSpPr/>
          <p:nvPr/>
        </p:nvSpPr>
        <p:spPr>
          <a:xfrm>
            <a:off x="179280" y="4587840"/>
            <a:ext cx="1000080" cy="800280"/>
          </a:xfrm>
          <a:prstGeom prst="rect">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1" name="Rechthoek 15"/>
          <p:cNvSpPr/>
          <p:nvPr/>
        </p:nvSpPr>
        <p:spPr>
          <a:xfrm>
            <a:off x="1846440" y="2844720"/>
            <a:ext cx="1000080" cy="80172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Y</a:t>
            </a:r>
            <a:endParaRPr b="0" lang="en-US" sz="1000" spc="-1" strike="noStrike">
              <a:solidFill>
                <a:srgbClr val="000000"/>
              </a:solidFill>
              <a:latin typeface="Calibri"/>
            </a:endParaRPr>
          </a:p>
        </p:txBody>
      </p:sp>
      <p:sp>
        <p:nvSpPr>
          <p:cNvPr id="522" name="Rechthoek 16"/>
          <p:cNvSpPr/>
          <p:nvPr/>
        </p:nvSpPr>
        <p:spPr>
          <a:xfrm>
            <a:off x="1846440" y="4587840"/>
            <a:ext cx="1000080" cy="800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3" name="Ingekeepte PIJL-RECHTS 19"/>
          <p:cNvSpPr/>
          <p:nvPr/>
        </p:nvSpPr>
        <p:spPr>
          <a:xfrm>
            <a:off x="4500720" y="3833640"/>
            <a:ext cx="4319280" cy="463680"/>
          </a:xfrm>
          <a:custGeom>
            <a:avLst/>
            <a:gdLst>
              <a:gd name="textAreaLeft" fmla="*/ 115560 w 4319280"/>
              <a:gd name="textAreaRight" fmla="*/ 4203720 w 4319280"/>
              <a:gd name="textAreaTop" fmla="*/ 115920 h 463680"/>
              <a:gd name="textAreaBottom" fmla="*/ 347760 h 463680"/>
            </a:gdLst>
            <a:ahLst/>
            <a:rect l="textAreaLeft" t="textAreaTop" r="textAreaRight" b="textAreaBottom"/>
            <a:pathLst>
              <a:path w="21600" h="21600">
                <a:moveTo>
                  <a:pt x="0" y="5400"/>
                </a:moveTo>
                <a:lnTo>
                  <a:pt x="20441" y="5400"/>
                </a:lnTo>
                <a:lnTo>
                  <a:pt x="20441" y="0"/>
                </a:lnTo>
                <a:lnTo>
                  <a:pt x="21600" y="10800"/>
                </a:lnTo>
                <a:lnTo>
                  <a:pt x="20441" y="21600"/>
                </a:lnTo>
                <a:lnTo>
                  <a:pt x="20441" y="16200"/>
                </a:lnTo>
                <a:lnTo>
                  <a:pt x="0" y="16200"/>
                </a:lnTo>
                <a:lnTo>
                  <a:pt x="580" y="10800"/>
                </a:lnTo>
                <a:lnTo>
                  <a:pt x="0" y="5400"/>
                </a:lnTo>
                <a:close/>
              </a:path>
            </a:pathLst>
          </a:custGeom>
          <a:solidFill>
            <a:srgbClr val="d0d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Ovaal 20"/>
          <p:cNvSpPr/>
          <p:nvPr/>
        </p:nvSpPr>
        <p:spPr>
          <a:xfrm>
            <a:off x="5648400" y="38782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Ovaal 21"/>
          <p:cNvSpPr/>
          <p:nvPr/>
        </p:nvSpPr>
        <p:spPr>
          <a:xfrm>
            <a:off x="7137360" y="38926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echthoek 23"/>
          <p:cNvSpPr/>
          <p:nvPr/>
        </p:nvSpPr>
        <p:spPr>
          <a:xfrm>
            <a:off x="5321160" y="2868480"/>
            <a:ext cx="100188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1</a:t>
            </a:r>
            <a:endParaRPr b="0" lang="en-US" sz="1000" spc="-1" strike="noStrike">
              <a:solidFill>
                <a:srgbClr val="000000"/>
              </a:solidFill>
              <a:latin typeface="Calibri"/>
            </a:endParaRPr>
          </a:p>
        </p:txBody>
      </p:sp>
      <p:sp>
        <p:nvSpPr>
          <p:cNvPr id="527" name="Rechthoek 24"/>
          <p:cNvSpPr/>
          <p:nvPr/>
        </p:nvSpPr>
        <p:spPr>
          <a:xfrm>
            <a:off x="6810480" y="2868480"/>
            <a:ext cx="100152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2</a:t>
            </a:r>
            <a:endParaRPr b="0" lang="en-US" sz="1000" spc="-1" strike="noStrike">
              <a:solidFill>
                <a:srgbClr val="000000"/>
              </a:solidFill>
              <a:latin typeface="Calibri"/>
            </a:endParaRPr>
          </a:p>
        </p:txBody>
      </p:sp>
      <p:sp>
        <p:nvSpPr>
          <p:cNvPr id="528" name="Tekstvak 37909"/>
          <p:cNvSpPr/>
          <p:nvPr/>
        </p:nvSpPr>
        <p:spPr>
          <a:xfrm>
            <a:off x="919080" y="3952080"/>
            <a:ext cx="11318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grpSp>
        <p:nvGrpSpPr>
          <p:cNvPr id="529" name="Groep 26"/>
          <p:cNvGrpSpPr/>
          <p:nvPr/>
        </p:nvGrpSpPr>
        <p:grpSpPr>
          <a:xfrm>
            <a:off x="4675320" y="4297320"/>
            <a:ext cx="1920600" cy="355680"/>
            <a:chOff x="4675320" y="4297320"/>
            <a:chExt cx="1920600" cy="355680"/>
          </a:xfrm>
        </p:grpSpPr>
        <p:sp>
          <p:nvSpPr>
            <p:cNvPr id="530" name="Rechthoek 27"/>
            <p:cNvSpPr/>
            <p:nvPr/>
          </p:nvSpPr>
          <p:spPr>
            <a:xfrm>
              <a:off x="4675320" y="4297320"/>
              <a:ext cx="15476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Rechthoek 28"/>
            <p:cNvSpPr/>
            <p:nvPr/>
          </p:nvSpPr>
          <p:spPr>
            <a:xfrm>
              <a:off x="5048280" y="4300200"/>
              <a:ext cx="154764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0</a:t>
              </a:r>
              <a:endParaRPr b="0" lang="en-US" sz="1600" spc="-1" strike="noStrike">
                <a:solidFill>
                  <a:srgbClr val="000000"/>
                </a:solidFill>
                <a:latin typeface="Calibri"/>
              </a:endParaRPr>
            </a:p>
          </p:txBody>
        </p:sp>
      </p:grpSp>
      <p:sp>
        <p:nvSpPr>
          <p:cNvPr id="532" name="Rechthoek 29"/>
          <p:cNvSpPr/>
          <p:nvPr/>
        </p:nvSpPr>
        <p:spPr>
          <a:xfrm>
            <a:off x="6537240" y="4305240"/>
            <a:ext cx="154800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4</a:t>
            </a:r>
            <a:endParaRPr b="0" lang="en-US" sz="1600" spc="-1" strike="noStrike">
              <a:solidFill>
                <a:srgbClr val="000000"/>
              </a:solidFill>
              <a:latin typeface="Calibri"/>
            </a:endParaRPr>
          </a:p>
        </p:txBody>
      </p:sp>
      <p:cxnSp>
        <p:nvCxnSpPr>
          <p:cNvPr id="533" name="Gekromde verbindingslijn 9"/>
          <p:cNvCxnSpPr/>
          <p:nvPr/>
        </p:nvCxnSpPr>
        <p:spPr>
          <a:xfrm flipH="1" rot="16200000">
            <a:off x="5901120" y="4401720"/>
            <a:ext cx="1305720" cy="600840"/>
          </a:xfrm>
          <a:prstGeom prst="curvedConnector5">
            <a:avLst>
              <a:gd name="adj1" fmla="val 145863"/>
              <a:gd name="adj2" fmla="val 50000"/>
              <a:gd name="adj3" fmla="val 145863"/>
            </a:avLst>
          </a:prstGeom>
          <a:ln w="9360">
            <a:solidFill>
              <a:srgbClr val="4a7ebb"/>
            </a:solidFill>
            <a:miter/>
            <a:tailEnd len="med" type="arrow" w="med"/>
          </a:ln>
        </p:spPr>
      </p:cxnSp>
      <p:sp>
        <p:nvSpPr>
          <p:cNvPr id="534" name="Tekstvak 26"/>
          <p:cNvSpPr/>
          <p:nvPr/>
        </p:nvSpPr>
        <p:spPr>
          <a:xfrm>
            <a:off x="6386400" y="498816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rPr>
              <a:t>Appeal 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a:solidFill>
                  <a:srgbClr val="db4383"/>
                </a:solidFill>
                <a:latin typeface="Arial"/>
              </a:rPr>
              <a:t>‘</a:t>
            </a:r>
            <a:r>
              <a:rPr b="0" i="1" lang="nl-NL" sz="800" spc="-1" strike="noStrike">
                <a:solidFill>
                  <a:srgbClr val="db4383"/>
                </a:solidFill>
                <a:latin typeface="Arial"/>
              </a:rPr>
              <a:t>equal treatment’</a:t>
            </a:r>
            <a:endParaRPr b="0" lang="en-US" sz="800" spc="-1" strike="noStrike">
              <a:solidFill>
                <a:srgbClr val="000000"/>
              </a:solidFill>
              <a:latin typeface="Calibri"/>
            </a:endParaRPr>
          </a:p>
        </p:txBody>
      </p:sp>
      <p:cxnSp>
        <p:nvCxnSpPr>
          <p:cNvPr id="535" name="Gekromde verbindingslijn 31"/>
          <p:cNvCxnSpPr>
            <a:stCxn id="526" idx="0"/>
          </p:cNvCxnSpPr>
          <p:nvPr/>
        </p:nvCxnSpPr>
        <p:spPr>
          <a:xfrm flipV="1" rot="16200000">
            <a:off x="5261760" y="2306880"/>
            <a:ext cx="519840" cy="603720"/>
          </a:xfrm>
          <a:prstGeom prst="curvedConnector2">
            <a:avLst/>
          </a:prstGeom>
          <a:ln w="9360">
            <a:solidFill>
              <a:srgbClr val="4a7ebb"/>
            </a:solidFill>
            <a:miter/>
            <a:tailEnd len="med" type="arrow" w="med"/>
          </a:ln>
        </p:spPr>
      </p:cxnSp>
      <p:sp>
        <p:nvSpPr>
          <p:cNvPr id="536" name="Tekstvak 33"/>
          <p:cNvSpPr/>
          <p:nvPr/>
        </p:nvSpPr>
        <p:spPr>
          <a:xfrm>
            <a:off x="4244040" y="2070360"/>
            <a:ext cx="861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Only parental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within portfoli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company </a:t>
            </a:r>
            <a:endParaRPr b="0" lang="en-US" sz="800" spc="-1" strike="noStrike">
              <a:solidFill>
                <a:srgbClr val="000000"/>
              </a:solidFill>
              <a:latin typeface="Calibri"/>
            </a:endParaRPr>
          </a:p>
        </p:txBody>
      </p:sp>
      <p:cxnSp>
        <p:nvCxnSpPr>
          <p:cNvPr id="537" name="Gekromde verbindingslijn 35"/>
          <p:cNvCxnSpPr>
            <a:stCxn id="527" idx="0"/>
          </p:cNvCxnSpPr>
          <p:nvPr/>
        </p:nvCxnSpPr>
        <p:spPr>
          <a:xfrm flipH="1" flipV="1" rot="5400000">
            <a:off x="7338600" y="2322000"/>
            <a:ext cx="519840" cy="573840"/>
          </a:xfrm>
          <a:prstGeom prst="curvedConnector2">
            <a:avLst/>
          </a:prstGeom>
          <a:ln w="9360">
            <a:solidFill>
              <a:srgbClr val="4a7ebb"/>
            </a:solidFill>
            <a:miter/>
            <a:tailEnd len="med" type="arrow" w="med"/>
          </a:ln>
        </p:spPr>
      </p:cxnSp>
      <p:sp>
        <p:nvSpPr>
          <p:cNvPr id="538" name="Tekstvak 45"/>
          <p:cNvSpPr/>
          <p:nvPr/>
        </p:nvSpPr>
        <p:spPr>
          <a:xfrm>
            <a:off x="8043840" y="2119320"/>
            <a:ext cx="635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attribute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to X en 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1"/>
          <p:cNvSpPr>
            <a:spLocks noGrp="1"/>
          </p:cNvSpPr>
          <p:nvPr>
            <p:ph type="title"/>
          </p:nvPr>
        </p:nvSpPr>
        <p:spPr>
          <a:xfrm>
            <a:off x="468360" y="151920"/>
            <a:ext cx="82296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2)</a:t>
            </a:r>
            <a:endParaRPr b="0" lang="en-US" sz="4400" spc="-1" strike="noStrike">
              <a:solidFill>
                <a:srgbClr val="00b0f0"/>
              </a:solidFill>
              <a:latin typeface="Arial"/>
            </a:endParaRPr>
          </a:p>
        </p:txBody>
      </p:sp>
      <p:pic>
        <p:nvPicPr>
          <p:cNvPr id="541" name="Picture 8" descr=""/>
          <p:cNvPicPr/>
          <p:nvPr/>
        </p:nvPicPr>
        <p:blipFill>
          <a:blip r:embed="rId1"/>
          <a:stretch/>
        </p:blipFill>
        <p:spPr>
          <a:xfrm>
            <a:off x="1258920" y="1295280"/>
            <a:ext cx="8388360" cy="5562720"/>
          </a:xfrm>
          <a:prstGeom prst="rect">
            <a:avLst/>
          </a:prstGeom>
          <a:ln w="0">
            <a:noFill/>
          </a:ln>
        </p:spPr>
      </p:pic>
      <p:pic>
        <p:nvPicPr>
          <p:cNvPr id="542" name="Picture 6" descr=""/>
          <p:cNvPicPr/>
          <p:nvPr/>
        </p:nvPicPr>
        <p:blipFill>
          <a:blip r:embed="rId2"/>
          <a:stretch/>
        </p:blipFill>
        <p:spPr>
          <a:xfrm>
            <a:off x="250920" y="333360"/>
            <a:ext cx="668160" cy="663480"/>
          </a:xfrm>
          <a:prstGeom prst="rect">
            <a:avLst/>
          </a:prstGeom>
          <a:ln w="0">
            <a:noFill/>
          </a:ln>
        </p:spPr>
      </p:pic>
      <p:pic>
        <p:nvPicPr>
          <p:cNvPr id="543" name="Afbeelding 13" descr=""/>
          <p:cNvPicPr/>
          <p:nvPr/>
        </p:nvPicPr>
        <p:blipFill>
          <a:blip r:embed="rId3"/>
          <a:stretch/>
        </p:blipFill>
        <p:spPr>
          <a:xfrm>
            <a:off x="1042920" y="352440"/>
            <a:ext cx="649440" cy="644400"/>
          </a:xfrm>
          <a:prstGeom prst="rect">
            <a:avLst/>
          </a:prstGeom>
          <a:ln w="0">
            <a:noFill/>
          </a:ln>
        </p:spPr>
      </p:pic>
      <p:pic>
        <p:nvPicPr>
          <p:cNvPr id="544" name="Picture 7" descr=""/>
          <p:cNvPicPr/>
          <p:nvPr/>
        </p:nvPicPr>
        <p:blipFill>
          <a:blip r:embed="rId4"/>
          <a:stretch/>
        </p:blipFill>
        <p:spPr>
          <a:xfrm>
            <a:off x="56340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Why address investment firms?</a:t>
            </a:r>
            <a:endParaRPr b="0" lang="en-US" sz="4400" spc="-1" strike="noStrike">
              <a:solidFill>
                <a:srgbClr val="00b0f0"/>
              </a:solidFill>
              <a:latin typeface="Arial"/>
            </a:endParaRPr>
          </a:p>
        </p:txBody>
      </p:sp>
      <p:sp>
        <p:nvSpPr>
          <p:cNvPr id="546" name=""/>
          <p:cNvSpPr txBox="1"/>
          <p:nvPr/>
        </p:nvSpPr>
        <p:spPr>
          <a:xfrm>
            <a:off x="934560" y="1699920"/>
            <a:ext cx="7417080" cy="567828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l legal reason to exempt investment firms from parental liability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rinciple of </a:t>
            </a:r>
            <a:r>
              <a:rPr b="0" i="1" lang="nl-NL" sz="2000" spc="-1" strike="noStrike">
                <a:solidFill>
                  <a:srgbClr val="000000"/>
                </a:solidFill>
                <a:latin typeface="Arial"/>
              </a:rPr>
              <a:t>equal treatment </a:t>
            </a:r>
            <a:r>
              <a:rPr b="0" lang="nl-NL" sz="2000" spc="-1" strike="noStrike">
                <a:solidFill>
                  <a:srgbClr val="000000"/>
                </a:solidFill>
                <a:latin typeface="Arial"/>
              </a:rPr>
              <a:t>= another reason to </a:t>
            </a:r>
            <a:r>
              <a:rPr b="0" lang="nl-NL" sz="2000" spc="-1" strike="noStrike" u="sng">
                <a:solidFill>
                  <a:srgbClr val="000000"/>
                </a:solidFill>
                <a:uFillTx/>
                <a:latin typeface="Arial"/>
              </a:rPr>
              <a:t>not</a:t>
            </a:r>
            <a:r>
              <a:rPr b="0" lang="nl-NL" sz="2000" spc="-1" strike="noStrike">
                <a:solidFill>
                  <a:srgbClr val="000000"/>
                </a:solidFill>
                <a:latin typeface="Arial"/>
              </a:rPr>
              <a:t> exempt investment firm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ve influence on the business comes with responsibility</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vestment firm ≠ pure financial investor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7" name="Afbeelding 6" descr=""/>
          <p:cNvPicPr/>
          <p:nvPr/>
        </p:nvPicPr>
        <p:blipFill>
          <a:blip r:embed="rId1"/>
          <a:stretch/>
        </p:blipFill>
        <p:spPr>
          <a:xfrm>
            <a:off x="4211640" y="4757760"/>
            <a:ext cx="1655640" cy="1690560"/>
          </a:xfrm>
          <a:prstGeom prst="rect">
            <a:avLst/>
          </a:prstGeom>
          <a:ln w="0">
            <a:noFill/>
          </a:ln>
        </p:spPr>
      </p:pic>
      <p:pic>
        <p:nvPicPr>
          <p:cNvPr id="548"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10:51:07Z</dcterms:created>
  <dc:creator>Rooij, Raymond de</dc:creator>
  <dc:description/>
  <dc:language>en-US</dc:language>
  <cp:lastModifiedBy>SCWP Schindhelm</cp:lastModifiedBy>
  <cp:lastPrinted>2017-11-08T10:13:56Z</cp:lastPrinted>
  <dcterms:modified xsi:type="dcterms:W3CDTF">2017-11-13T15:57:49Z</dcterms:modified>
  <cp:revision>86</cp:revision>
  <dc:subject/>
  <dc:title>PowerPoint-presentatie</dc:title>
</cp:coreProperties>
</file>