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560" rIns="88560" tIns="44280" bIns="4428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2016DE3-24E2-48BC-B2A4-9B03BFA2E2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53EC7DF-5BF3-45E9-9D04-E5D856EA57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AA48A3F-6E10-4258-8D61-2F7BAC87EB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B2D70D0-437A-4F30-B4CE-32A9137EFD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E3E0E3B-5059-4624-A605-F00BB88D9B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E7257D6-C13E-44D4-9D79-C7E38D2DC4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DF867-D58A-43C6-85B8-B08D286FD0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5F375-199D-4ABD-BBF0-70E9D68E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1564B-C5CD-405E-A349-CED5D42D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900B4-2F70-4674-B34A-30E0DA0446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4A0D2-1AF5-4A13-B844-1907414CB7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48CD1-E8DF-4F39-AFF8-2074937E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B37D9-08A9-46DE-82B4-39899827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C2ABA-D3DA-4EC5-87E6-F5E52665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F3D1E-7A85-4331-BE3A-A5A016B7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1E659-30A1-4F02-B7AD-5AB260FE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90FDE-9F66-4F52-8EDB-53F18091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DC568-8F08-4CE7-BE17-4FF899A9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BF746-C5B5-4FAD-B325-FAEF8750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56999-EEC9-4DAD-9A63-7ECA698F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867F3-BBFC-403D-B4F0-D158E11A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2BD83-D44E-4951-908C-2A5444B2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F208C-3E98-4CC3-A38F-BFC5BF8A57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15F30-59BD-4D43-889F-390BB4F8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7C617-E2B8-4749-A0D2-8361EF8F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BE9B1-397B-488A-9B0A-C2E40749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8DCDB-E4AC-4B93-94EA-223AB65F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D5B14-55A4-414D-992E-38DBA153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BE557-9AC2-4407-A1F1-D2CE3541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78C6D-96A8-4A93-9123-66A9A115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6E78-75BD-4752-A1AB-810A04499808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7" descr="logo_for_ppt"/>
          <p:cNvPicPr/>
          <p:nvPr/>
        </p:nvPicPr>
        <p:blipFill>
          <a:blip r:embed="rId2"/>
          <a:stretch/>
        </p:blipFill>
        <p:spPr>
          <a:xfrm>
            <a:off x="0" y="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0" descr="small box COMPETITION"/>
          <p:cNvPicPr/>
          <p:nvPr/>
        </p:nvPicPr>
        <p:blipFill>
          <a:blip r:embed="rId3"/>
          <a:stretch/>
        </p:blipFill>
        <p:spPr>
          <a:xfrm>
            <a:off x="4284720" y="6524640"/>
            <a:ext cx="625320" cy="34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logo_for_ppt"/>
          <p:cNvPicPr/>
          <p:nvPr/>
        </p:nvPicPr>
        <p:blipFill>
          <a:blip r:embed="rId2"/>
          <a:srcRect l="11310" t="0" r="11053" b="0"/>
          <a:stretch/>
        </p:blipFill>
        <p:spPr>
          <a:xfrm>
            <a:off x="0" y="0"/>
            <a:ext cx="9144000" cy="1743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4" descr="small box COMPETITION"/>
          <p:cNvPicPr/>
          <p:nvPr/>
        </p:nvPicPr>
        <p:blipFill>
          <a:blip r:embed="rId3"/>
          <a:stretch/>
        </p:blipFill>
        <p:spPr>
          <a:xfrm>
            <a:off x="4140360" y="6446880"/>
            <a:ext cx="852480" cy="438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Letterhead_A4_EN3"/>
          <p:cNvPicPr/>
          <p:nvPr/>
        </p:nvPicPr>
        <p:blipFill>
          <a:blip r:embed="rId4"/>
          <a:srcRect l="0" t="0" r="0" b="4977"/>
          <a:stretch/>
        </p:blipFill>
        <p:spPr>
          <a:xfrm>
            <a:off x="0" y="1341360"/>
            <a:ext cx="3851280" cy="5516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0484-084A-424A-AA1B-FA5DC3A86C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211280" y="4941360"/>
            <a:ext cx="421164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Verdana"/>
              </a:rPr>
              <a:t>Dominik Piotrowsk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Verdana"/>
              </a:rPr>
              <a:t>Case-handl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Verdana"/>
              </a:rPr>
              <a:t>European Commission/DG Competi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*The views expressed are personal and do not bind the Commis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European Commission's fining policy</a:t>
            </a:r>
            <a:br>
              <a:rPr sz="36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10 February 201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Verdana"/>
              </a:rPr>
              <a:t>Fines imposed by the Commis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611280" y="2063880"/>
            <a:ext cx="792144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Recent record fi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387520"/>
            <a:ext cx="8229600" cy="3633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82771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1197000"/>
            <a:ext cx="83026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ining – general consider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2060280"/>
            <a:ext cx="8229600" cy="37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urpose of f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 ante deterrence (specific / gener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 post punish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egal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91600" indent="-291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rticle 23(2)(a) of Regulation 1/200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31440" indent="-291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dministrative fines on undertak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31440" indent="-291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es to reflect gravity and d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31440" indent="-291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es capped at 10% of worldwide turno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91600" indent="-291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006 Fining Guidelines – transparency and impartiality of the fining meth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91600" indent="-291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neral principles of law (legitimate expectation, non-discrimination, proportionality and equal treatme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ining – 2006 Fining Guidelines (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05000"/>
            <a:ext cx="8362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asic amo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xy to determine the impact on the mar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alue of sales of the cartelised product within E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Last full business year of the infrin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ossibility to determine proxy sales if there are no actual sales within EE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avity percentage (0-30%) – for cartels at least 1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ation multipli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ry fee – deter from even entering into car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ining – 2006 Fining Guideline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8752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djustments to the basic amo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itigating fac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gligence, substantially limited involvement, cooperation outside leniency (beyond legal obligation), conduct authorised or encouraged by legis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Aggravating fac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cidivism, refusal to cooperate or obstructing conduct, the role of an instigator or coerc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pecific increase for deterr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arge turnover beyond cartelised sa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iscretion to impose a symbolic fine or to depart from the Fining Guidelines (exceptiona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ining – 2006 Fining Guidelines (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gal maximum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- 10% of the undertaking's worldwide turnover in the preceding business year. Its purpose is to avoid excessive and disproportionate fin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eniency discou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99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mmunity – 10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99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enienc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99920" indent="-1598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leniency applicant – 30-5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99920" indent="-1598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leniency applicant – 20-3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99920" indent="-1598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GB" sz="16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and subsequent – up to 2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ettlement discount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– 10% off the fine if the undertaking accepts liability for cartel condu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nability to pa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99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xceptionally granted when a fine would irretrievably jeopardise the economic viability of the undertaking concern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99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isk that fine causes insolvency does not as such render the fine disproportion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998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ining – concluding remar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23493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es should be sufficiently high to deter and punish cartel condu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es bolster leniency and compli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006 Fining Guidelines contain discretionary el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006 Fining Guidelines have been approved by the EU Court of Justice and have been found to comply with human rights provision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Schindler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cretion needs to be exercised with respect for general principles of law (legitimate expectation, non-discrimination, equal treatment, proportional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U Court of Justice enjoys unlimited jurisdiction and is not bound by the 2006 Fining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1417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Thank you for your attention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KRENZ Petra (COMP)</dc:creator>
  <dc:description/>
  <dc:language>en-US</dc:language>
  <cp:lastModifiedBy>PIOTROWSKI Dominik (COMP)</cp:lastModifiedBy>
  <cp:lastPrinted>2015-02-03T16:38:23Z</cp:lastPrinted>
  <dcterms:modified xsi:type="dcterms:W3CDTF">2015-02-05T17:04:32Z</dcterms:modified>
  <cp:revision>230</cp:revision>
  <dc:subject/>
  <dc:title>The new visual identity</dc:title>
</cp:coreProperties>
</file>