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C3392E-D9E4-4B6F-905D-21D512CC22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5A68C2-58A4-4620-BF65-281C69E19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6276921-DD2A-415A-8C3A-328E9703E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E0FCED-D49F-4963-834B-85FA27350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1D15C98-1C42-4BA1-8E39-947FACE18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155D277-25DA-4897-A723-D6DA30E9D1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C7E7-BD9F-4135-959F-F2AEAE6051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7D90-0EAD-4CF7-A2FE-54CEEE7C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BFB6-0C5C-4D60-B923-0C3EC60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A5E7-DF74-48BC-BD46-9387E87CDF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E660D-651D-4F7C-A7C7-0E4DFE8EC7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C22AB-CF8D-436D-8238-8D4A8D06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45781-3BE1-412C-964F-3B640A0E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34087-E532-41D0-8478-E5F2375C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D8267-C248-4C3A-800B-1774EFC8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76A75-EFFF-4089-B52D-65F612C7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113DA-7900-4B75-AC99-527A36A8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6B28-9FFB-4CAD-B538-17C9215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15C1D-7121-408E-BDE2-5F2DF02D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2FFC9-A283-4A5F-A903-1C896660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55389-167C-41CE-8536-0981B4B8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FE651-9B75-4322-95DA-51CEE93C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27431-D5B2-4AFA-9A1E-836FFDBE14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883E-C34D-4C57-B01C-94A1EDD9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CAED-ECC6-4904-A20F-4D33013B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7DAA-A967-45D2-A338-61BE97FF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9CFB-9C63-46AF-9994-E1BBB6FB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D983-6FA6-4758-BABF-976314E3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7CF5-1194-4FFA-A0F4-121A7877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B64C-0EE1-48A5-BEE0-A127883D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A3A0-52FD-4108-9559-0466CD54BFA8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logo_for_ppt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small box COMPETITION"/>
          <p:cNvPicPr/>
          <p:nvPr/>
        </p:nvPicPr>
        <p:blipFill>
          <a:blip r:embed="rId3"/>
          <a:stretch/>
        </p:blipFill>
        <p:spPr>
          <a:xfrm>
            <a:off x="4284720" y="6524640"/>
            <a:ext cx="62532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0B30-56BC-4188-AE46-DFCBBB44A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211280" y="4941360"/>
            <a:ext cx="4211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Verdana"/>
              </a:rPr>
              <a:t>Dominik Piotrowsk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Verdana"/>
              </a:rPr>
              <a:t>Case-hand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Verdana"/>
              </a:rPr>
              <a:t>European Commission/DG Compet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*The views expressed are personal and do not bind the Com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European Commission's fining policy</a:t>
            </a:r>
            <a:br>
              <a:rPr sz="36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10 February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Fines imposed by the Commi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11280" y="2063880"/>
            <a:ext cx="79214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Recent record f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387520"/>
            <a:ext cx="8229600" cy="363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277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3026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general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06028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urpose of f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 ante deterrence (specific / gene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 post punish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egal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icle 23(2)(a) of Regulation 1/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ministrative fines on undertak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to reflect gravity and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capped at 10% of worldwide 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– transparency and impartiality of the fining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l principles of law (legitimate expectation, non-discrimination, proportionality and equal treat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05000"/>
            <a:ext cx="8362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asic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to determine the impact on the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ue of sales of the cartelised product within E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ast full business year of the infrin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ossibility to determine proxy sales if there are no actual sales within E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avity percentage (0-30%) – for cartels at least 1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ation multipli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ry fee – deter from even entering into ca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875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justments to the basic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itigat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gligence, substantially limited involvement, cooperation outside leniency (beyond legal obligation), conduct authorised or encouraged by legis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ggravat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idivism, refusal to cooperate or obstructing conduct, the role of an instigator or coerc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pecific increase for deter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rge turnover beyond cartelised s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iscretion to impose a symbolic fine or to depart from the Fining Guidelines (exceptio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gal maximum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- 10% of the undertaking's worldwide turnover in the preceding business year. Its purpose is to avoid excessive and disproportionate f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niency discou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mmunity – 10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ni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leniency applicant – 30-5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leniency applicant – 20-3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and subsequent – up to 2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ttlement discoun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10% off the fine if the undertaking accepts liability for cartel con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ability to p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ceptionally granted when a fine would irretrievably jeopardise the economic viability of the undertaking concer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isk that fine causes insolvency does not as such render the fine disproportion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concluding rema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2349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should be sufficiently high to deter and punish cartel con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bolster leniency and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contain discretionary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have been approved by the EU Court of Justice and have been found to comply with human rights provision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chindle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cretion needs to be exercised with respect for general principles of law (legitimate expectation, non-discrimination, equal treatment, proportional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 Court of Justice enjoys unlimited jurisdiction and is not bound by the 2006 Fining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1417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KRENZ Petra (COMP)</dc:creator>
  <dc:description/>
  <dc:language>en-US</dc:language>
  <cp:lastModifiedBy>PIOTROWSKI Dominik (COMP)</cp:lastModifiedBy>
  <cp:lastPrinted>2015-02-03T16:38:23Z</cp:lastPrinted>
  <dcterms:modified xsi:type="dcterms:W3CDTF">2015-02-05T17:04:32Z</dcterms:modified>
  <cp:revision>230</cp:revision>
  <dc:subject/>
  <dc:title>The new visual identity</dc:title>
</cp:coreProperties>
</file>