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999BDC4-707E-4BC4-A412-E2842904B8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0992F08-C87A-4BD8-B159-B48FB3F91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D1E801-B933-4E0B-BE8A-85C954BBB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53F8C5-F75C-42F8-A1D2-5A54E7F90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EDD0069-2083-42F3-B9B5-AD0317B0BA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88EB1DF-4EE7-407D-A326-0EE70B454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C74F-CE9D-49F5-999C-8C5EE904F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B280-ACFC-4458-90A7-FA0BF1DF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D42C-C8D7-45BB-8744-829B818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2E60-6AE1-4844-9E07-FDA2C882F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64EE4-B4B7-4663-9E5F-DBE679EDE8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F9697-BE38-4186-9924-D56061D2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74105-4410-4782-963A-CF7541BE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1B9AC-7791-4FB5-9B6F-5F6B286D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EB306-8DA2-4EAD-9155-CCC4F5B0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77ED6-FE78-4D2C-9593-333E9474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E709B-8C30-4D23-BED2-2D456332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1788-9AA8-41D9-A993-989018C0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29058-28A2-4192-BB2E-7E4DB033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1D24F-032D-41D6-BF62-025D1A10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5B4AE-C14B-4A0B-A280-84436156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9316F-93BC-40A2-8586-6A9A223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03ACA-96E6-4F27-8F7C-C33D1B44D7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5716-11A3-4EE0-9FE7-7D246417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C17F-C344-4678-BB79-F6D4EE3B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7968-0EC5-4DED-9E45-11577A52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52F9-B411-4435-8DF8-F9DFB4E9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C115-B14C-462B-841E-F47AEA46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F125-6F5E-439E-AFE9-4EAD1C06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95A7-C5A4-4CD8-AB1A-E9C4C32A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EBD1-B713-4103-A9A9-821F1FCFA00E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logo_for_ppt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small box COMPETITION"/>
          <p:cNvPicPr/>
          <p:nvPr/>
        </p:nvPicPr>
        <p:blipFill>
          <a:blip r:embed="rId3"/>
          <a:stretch/>
        </p:blipFill>
        <p:spPr>
          <a:xfrm>
            <a:off x="4284720" y="6524640"/>
            <a:ext cx="62532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274C-4B41-48D0-BF14-9D0877FB60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211280" y="4941360"/>
            <a:ext cx="4211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Verdana"/>
              </a:rPr>
              <a:t>Dominik Piotrowsk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Verdana"/>
              </a:rPr>
              <a:t>Case-hand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Verdana"/>
              </a:rPr>
              <a:t>European Commission/DG Compet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*The views expressed are personal and do not bind the Com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European Commission's fining policy</a:t>
            </a:r>
            <a:br>
              <a:rPr sz="36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10 February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Fines imposed by the Commi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11280" y="2063880"/>
            <a:ext cx="79214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Recent record f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387520"/>
            <a:ext cx="8229600" cy="363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277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3026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general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06028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urpose of f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 ante deterrence (specific / gene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 post punish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egal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icle 23(2)(a) of Regulation 1/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ministrative fines on undertak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to reflect gravity and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capped at 10% of worldwide 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– transparency and impartiality of the fining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l principles of law (legitimate expectation, non-discrimination, proportionality and equal treat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05000"/>
            <a:ext cx="8362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asic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to determine the impact on the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ue of sales of the cartelised product within E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ast full business year of the infrin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ossibility to determine proxy sales if there are no actual sales within E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avity percentage (0-30%) – for cartels at least 1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ation multipli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ry fee – deter from even entering into ca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875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justments to the basic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itigat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gligence, substantially limited involvement, cooperation outside leniency (beyond legal obligation), conduct authorised or encouraged by legis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ggravat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idivism, refusal to cooperate or obstructing conduct, the role of an instigator or coerc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pecific increase for deter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rge turnover beyond cartelised s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iscretion to impose a symbolic fine or to depart from the Fining Guidelines (exceptio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gal maximum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- 10% of the undertaking's worldwide turnover in the preceding business year. Its purpose is to avoid excessive and disproportionate f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niency discou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mmunity – 10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ni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leniency applicant – 30-5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leniency applicant – 20-3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and subsequent – up to 2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ttlement discoun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10% off the fine if the undertaking accepts liability for cartel con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ability to p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ceptionally granted when a fine would irretrievably jeopardise the economic viability of the undertaking concer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isk that fine causes insolvency does not as such render the fine disproportion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concluding rema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2349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should be sufficiently high to deter and punish cartel con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bolster leniency and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contain discretionary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have been approved by the EU Court of Justice and have been found to comply with human rights provision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chindle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cretion needs to be exercised with respect for general principles of law (legitimate expectation, non-discrimination, equal treatment, proportional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 Court of Justice enjoys unlimited jurisdiction and is not bound by the 2006 Fining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1417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KRENZ Petra (COMP)</dc:creator>
  <dc:description/>
  <dc:language>en-US</dc:language>
  <cp:lastModifiedBy>PIOTROWSKI Dominik (COMP)</cp:lastModifiedBy>
  <cp:lastPrinted>2015-02-03T16:38:23Z</cp:lastPrinted>
  <dcterms:modified xsi:type="dcterms:W3CDTF">2015-02-05T17:04:32Z</dcterms:modified>
  <cp:revision>230</cp:revision>
  <dc:subject/>
  <dc:title>The new visual identity</dc:title>
</cp:coreProperties>
</file>