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46A658-C194-4E9D-9D11-414B6FA64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4C408D-D0EB-4D0B-95D0-EA5961ED5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8D02F1-9E04-48A3-AA3A-26A4CA39A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BBE4B0-BF21-4059-AE06-32EC923AD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A4FA2E-8F67-4374-BD51-EC519EC13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344D36-0484-40A0-85BB-F03852457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2F7B-CA0B-428B-9DC3-534DFB5AB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AA4D-8A34-452A-80B4-BEB44A4A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5939-AE89-4861-ACC6-54F3967A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F4A1-2155-40E3-A469-3F6D1906D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A5EEC-9C08-462A-9E3B-60CA02697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772E-3189-47F6-A816-5C365DB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756B1-B968-4EF0-A9E7-01EBD0BD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AB461-6906-45F1-B648-C29A6EA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FB5C-FB9D-463C-97D3-529F5BCA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BBE81-4F8E-4194-9661-24D7EEC6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E53D2-917A-439C-AF59-2BB0182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C6F8-B564-424B-A6EC-63439E49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9D5BF-0293-46AA-919C-DA171821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83EB-AB60-47BA-8F3C-ABDA7F4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CCC45-1467-4FEB-85C5-E60FE57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8BFCB-B0B6-41E0-BCBD-4E75893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92F3-1BBD-4C7E-8F4A-D19288743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16D6-090D-4D29-BE6F-4E4D305D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89AD-83B6-48ED-B5B9-D65F04B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D224-ED04-40C7-9661-44CBD604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0EED-8F18-4FF3-BF7F-4D941B2A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0279-630A-4AA8-8587-CB67292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65A1-71EB-43CC-A81A-A4BF3B6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298D-282D-4C08-9A0E-E341634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48B-F62C-4788-8692-35BB4FB6DAE1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68D1-5946-46CB-A831-F720BAD42E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211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Verdana"/>
              </a:rPr>
              <a:t>Dominik Piotrows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Case-hand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European Commission/DG Compet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*The views expressed are personal and do not bind the Com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uropean Commission's fining policy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10 February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Fines imposed by the Com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11280" y="2063880"/>
            <a:ext cx="79214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ent record f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87520"/>
            <a:ext cx="8229600" cy="363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277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general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06028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rpose of f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ante deterrence (specific / gene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post punis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gal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icle 23(2)(a) of Regulation 1/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rative fines on underta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to reflect gravity and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capped at 10% of worldwide 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– transparency and impartiality of the fin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 principles of law (legitimate expectation, non-discrimination, proportionality and equal treat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05000"/>
            <a:ext cx="8362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to determine the impact on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ue of sales of the cartelised product within E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ast full business year of the infrin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ssibility to determine proxy sales if there are no actual sales within E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avity percentage (0-30%) – for cartels at least 1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ation multipli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ry fee – deter from even entering into ca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justments to the 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itig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ligence, substantially limited involvement, cooperation outside leniency (beyond legal obligation), conduct authorised or encouraged by legi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grav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idivism, refusal to cooperate or obstructing conduct, the role of an instigator or coerc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pecific increase for deter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rge turnover beyond cartelised s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iscretion to impose a symbolic fine or to depart from the Fining Guidelines (exce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gal maximu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- 10% of the undertaking's worldwide turnover in the preceding business year. Its purpose is to avoid excessive and disproportionate f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iency discou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munity – 10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ni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30-5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20-3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subsequent – up to 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tlement discou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10% off the fine if the undertaking accepts liability for cartel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ability to p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ceptionally granted when a fine would irretrievably jeopardise the economic viability of the undertaking concer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isk that fine causes insolvency does not as such render the fine disproportion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concluding rema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2349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should be sufficiently high to deter and punish cartel con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bolster leniency and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contain discretionary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have been approved by the EU Court of Justice and have been found to comply with human rights provision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chindl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retion needs to be exercised with respect for general principles of law (legitimate expectation, non-discrimination, equal treatment, proportion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Court of Justice enjoys unlimited jurisdiction and is not bound by the 2006 Fining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PIOTROWSKI Dominik (COMP)</cp:lastModifiedBy>
  <cp:lastPrinted>2015-02-03T16:38:23Z</cp:lastPrinted>
  <dcterms:modified xsi:type="dcterms:W3CDTF">2015-02-05T17:04:32Z</dcterms:modified>
  <cp:revision>230</cp:revision>
  <dc:subject/>
  <dc:title>The new visual identity</dc:title>
</cp:coreProperties>
</file>